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BCBE-B41A-4265-8D4D-92A4CFBD9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DB5E-AC38-422E-B084-9DD50B51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E83A-F163-4551-A5E0-DCA682BD2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316F-BA1C-4DE6-8D17-B0822223C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BFAD-C801-4320-989D-F4DC8B40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40D1-FF5C-4952-947A-53DF1DF0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0CF4-69D8-42B7-9AD2-DFD6617D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E8A1-307E-4F2B-822A-5BD4E106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5373-F868-49FC-8210-6DCFFBD8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CA96-B70F-493F-A62B-11887981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2102-C062-4671-B48D-89D9ABE0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B6AC-5422-45B4-B0FE-D8041CF7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B8D5-9710-4A49-80FB-E7FE352DF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94812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7848720" y="76320"/>
          <a:ext cx="1247760" cy="110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76320"/>
                    <a:ext cx="124776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 Seletiv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ltiusu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600" y="57913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aculdades Batista de Adminisatração e Informátic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5o Semestre – Sistemas de Inform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aio /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a de Classes (Componente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37260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as de Sequ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73120" y="1216080"/>
            <a:ext cx="811368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as de Sequ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847880" y="914400"/>
            <a:ext cx="6153120" cy="65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as de Sequ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812960" y="990720"/>
            <a:ext cx="6111720" cy="66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as de Sequ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33720" y="914400"/>
            <a:ext cx="55767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logico" descr=""/>
          <p:cNvPicPr/>
          <p:nvPr/>
        </p:nvPicPr>
        <p:blipFill>
          <a:blip r:embed="rId1"/>
          <a:stretch/>
        </p:blipFill>
        <p:spPr>
          <a:xfrm>
            <a:off x="2133720" y="1244520"/>
            <a:ext cx="4565520" cy="56134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a E – R (lógic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co de dados (físic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fisico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4503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as e Navegação do Sistem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nfiguração e control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33520" y="1301760"/>
            <a:ext cx="80769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as e Navegação do Sistem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nfiguração e controle::Secretari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33640" y="-6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911320" y="1219320"/>
          <a:ext cx="3184560" cy="562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1320" y="1219320"/>
                    <a:ext cx="318456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as e Navegação do Sistem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nfiguração e controle::Coordenado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76560" y="7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438280" y="1219320"/>
          <a:ext cx="415152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219320"/>
                    <a:ext cx="415152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esentação Geral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6688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57200" y="2438280"/>
            <a:ext cx="838080" cy="1066680"/>
            <a:chOff x="457200" y="2438280"/>
            <a:chExt cx="838080" cy="106668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457200" y="2438280"/>
              <a:ext cx="838080" cy="5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76720" y="3224520"/>
              <a:ext cx="538560" cy="28044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876240" y="2999880"/>
              <a:ext cx="0" cy="22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1523880" y="2438280"/>
            <a:ext cx="838440" cy="1066680"/>
            <a:chOff x="1523880" y="2438280"/>
            <a:chExt cx="838440" cy="10666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1523880" y="2438280"/>
              <a:ext cx="838440" cy="5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643400" y="3224520"/>
              <a:ext cx="538920" cy="28044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1943280" y="2999880"/>
              <a:ext cx="0" cy="22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590920" y="2438280"/>
            <a:ext cx="838080" cy="1066680"/>
            <a:chOff x="2590920" y="2438280"/>
            <a:chExt cx="838080" cy="106668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2590920" y="2438280"/>
              <a:ext cx="838080" cy="5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2710440" y="3224520"/>
              <a:ext cx="538560" cy="28044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009960" y="2999880"/>
              <a:ext cx="0" cy="22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57200" y="3809880"/>
            <a:ext cx="838080" cy="1066680"/>
            <a:chOff x="457200" y="3809880"/>
            <a:chExt cx="838080" cy="1066680"/>
          </a:xfrm>
        </p:grpSpPr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457200" y="3809880"/>
              <a:ext cx="838080" cy="5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76720" y="4596120"/>
              <a:ext cx="538560" cy="28044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876240" y="4371480"/>
              <a:ext cx="0" cy="22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523880" y="3809880"/>
            <a:ext cx="838440" cy="1066680"/>
            <a:chOff x="1523880" y="3809880"/>
            <a:chExt cx="838440" cy="106668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1523880" y="3809880"/>
              <a:ext cx="838440" cy="5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1643400" y="4596120"/>
              <a:ext cx="538920" cy="28044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1943280" y="4371480"/>
              <a:ext cx="0" cy="22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2590920" y="3809880"/>
            <a:ext cx="838080" cy="1066680"/>
            <a:chOff x="2590920" y="3809880"/>
            <a:chExt cx="838080" cy="1066680"/>
          </a:xfrm>
        </p:grpSpPr>
        <p:pic>
          <p:nvPicPr>
            <p:cNvPr id="70" name="" descr=""/>
            <p:cNvPicPr/>
            <p:nvPr/>
          </p:nvPicPr>
          <p:blipFill>
            <a:blip r:embed="rId6"/>
            <a:stretch/>
          </p:blipFill>
          <p:spPr>
            <a:xfrm>
              <a:off x="2590920" y="3809880"/>
              <a:ext cx="838080" cy="5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2710440" y="4596120"/>
              <a:ext cx="538560" cy="28044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3009960" y="4371480"/>
              <a:ext cx="0" cy="22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57200" y="5181480"/>
            <a:ext cx="838080" cy="1066680"/>
            <a:chOff x="457200" y="5181480"/>
            <a:chExt cx="838080" cy="1066680"/>
          </a:xfrm>
        </p:grpSpPr>
        <p:pic>
          <p:nvPicPr>
            <p:cNvPr id="74" name="" descr=""/>
            <p:cNvPicPr/>
            <p:nvPr/>
          </p:nvPicPr>
          <p:blipFill>
            <a:blip r:embed="rId7"/>
            <a:stretch/>
          </p:blipFill>
          <p:spPr>
            <a:xfrm>
              <a:off x="457200" y="5181480"/>
              <a:ext cx="838080" cy="5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576720" y="5967720"/>
              <a:ext cx="538560" cy="28044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876240" y="5743080"/>
              <a:ext cx="0" cy="22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1523880" y="5181480"/>
            <a:ext cx="838440" cy="1066680"/>
            <a:chOff x="1523880" y="5181480"/>
            <a:chExt cx="838440" cy="1066680"/>
          </a:xfrm>
        </p:grpSpPr>
        <p:pic>
          <p:nvPicPr>
            <p:cNvPr id="78" name="" descr=""/>
            <p:cNvPicPr/>
            <p:nvPr/>
          </p:nvPicPr>
          <p:blipFill>
            <a:blip r:embed="rId8"/>
            <a:stretch/>
          </p:blipFill>
          <p:spPr>
            <a:xfrm>
              <a:off x="1523880" y="5181480"/>
              <a:ext cx="838440" cy="5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1643400" y="5967720"/>
              <a:ext cx="538920" cy="28044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1943280" y="5743080"/>
              <a:ext cx="0" cy="22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590920" y="5181480"/>
            <a:ext cx="838080" cy="1066680"/>
            <a:chOff x="2590920" y="5181480"/>
            <a:chExt cx="838080" cy="1066680"/>
          </a:xfrm>
        </p:grpSpPr>
        <p:pic>
          <p:nvPicPr>
            <p:cNvPr id="82" name="" descr=""/>
            <p:cNvPicPr/>
            <p:nvPr/>
          </p:nvPicPr>
          <p:blipFill>
            <a:blip r:embed="rId9"/>
            <a:stretch/>
          </p:blipFill>
          <p:spPr>
            <a:xfrm>
              <a:off x="2590920" y="5181480"/>
              <a:ext cx="838080" cy="5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2710440" y="5967720"/>
              <a:ext cx="538560" cy="28044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3009960" y="5743080"/>
              <a:ext cx="0" cy="22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4267080" y="2438280"/>
            <a:ext cx="0" cy="4038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648320" y="2514600"/>
            <a:ext cx="4038480" cy="3695760"/>
            <a:chOff x="4648320" y="2514600"/>
            <a:chExt cx="4038480" cy="3695760"/>
          </a:xfrm>
        </p:grpSpPr>
        <p:pic>
          <p:nvPicPr>
            <p:cNvPr id="87" name="" descr=""/>
            <p:cNvPicPr/>
            <p:nvPr/>
          </p:nvPicPr>
          <p:blipFill>
            <a:blip r:embed="rId10"/>
            <a:stretch/>
          </p:blipFill>
          <p:spPr>
            <a:xfrm>
              <a:off x="6400800" y="2514600"/>
              <a:ext cx="76212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11"/>
            <a:stretch/>
          </p:blipFill>
          <p:spPr>
            <a:xfrm>
              <a:off x="5181480" y="2743200"/>
              <a:ext cx="76212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12"/>
            <a:stretch/>
          </p:blipFill>
          <p:spPr>
            <a:xfrm>
              <a:off x="7467480" y="2666880"/>
              <a:ext cx="76212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13"/>
            <a:stretch/>
          </p:blipFill>
          <p:spPr>
            <a:xfrm>
              <a:off x="4648320" y="3581280"/>
              <a:ext cx="7617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14"/>
            <a:stretch/>
          </p:blipFill>
          <p:spPr>
            <a:xfrm>
              <a:off x="7010280" y="5638680"/>
              <a:ext cx="762120" cy="57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2" name=""/>
            <p:cNvGrpSpPr/>
            <p:nvPr/>
          </p:nvGrpSpPr>
          <p:grpSpPr>
            <a:xfrm>
              <a:off x="6095880" y="3733920"/>
              <a:ext cx="1219320" cy="1066680"/>
              <a:chOff x="6095880" y="3733920"/>
              <a:chExt cx="1219320" cy="1066680"/>
            </a:xfrm>
          </p:grpSpPr>
          <p:sp>
            <p:nvSpPr>
              <p:cNvPr id="93" name=""/>
              <p:cNvSpPr/>
              <p:nvPr/>
            </p:nvSpPr>
            <p:spPr>
              <a:xfrm>
                <a:off x="6095880" y="3733920"/>
                <a:ext cx="121932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ervid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372720" y="4172760"/>
                <a:ext cx="664920" cy="502200"/>
              </a:xfrm>
              <a:prstGeom prst="flowChartMagneticDisk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5" name="" descr=""/>
            <p:cNvPicPr/>
            <p:nvPr/>
          </p:nvPicPr>
          <p:blipFill>
            <a:blip r:embed="rId15"/>
            <a:stretch/>
          </p:blipFill>
          <p:spPr>
            <a:xfrm>
              <a:off x="7848720" y="4800600"/>
              <a:ext cx="7617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16"/>
            <a:stretch/>
          </p:blipFill>
          <p:spPr>
            <a:xfrm>
              <a:off x="4724280" y="4572000"/>
              <a:ext cx="76212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17"/>
            <a:stretch/>
          </p:blipFill>
          <p:spPr>
            <a:xfrm>
              <a:off x="5562720" y="5562720"/>
              <a:ext cx="76176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18"/>
            <a:stretch/>
          </p:blipFill>
          <p:spPr>
            <a:xfrm>
              <a:off x="7924680" y="3809880"/>
              <a:ext cx="76212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flipV="1">
              <a:off x="5486400" y="4571640"/>
              <a:ext cx="533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10080" y="3886200"/>
              <a:ext cx="6858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5943240" y="3200400"/>
              <a:ext cx="304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6705720" y="30477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7238880" y="327672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7315200" y="4114440"/>
              <a:ext cx="609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15200" y="4724280"/>
              <a:ext cx="533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0280" y="4876920"/>
              <a:ext cx="228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5943600" y="4800240"/>
              <a:ext cx="457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1297080" y="160020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9960" y="1600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as e Navegação do Sistem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nfiguração e controle::Administrad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86120" y="35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397240" y="1152360"/>
          <a:ext cx="4308480" cy="570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240" y="1152360"/>
                    <a:ext cx="4308480" cy="57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as e Navegação do Sistem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nfiguração e controle::Profess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66920" y="35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755800" y="1219320"/>
          <a:ext cx="371952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55800" y="1219320"/>
                    <a:ext cx="371952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as e Navegação do Sistem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terface de Execução da Prov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43200" y="5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978280" y="1219320"/>
          <a:ext cx="327024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8280" y="1219320"/>
                    <a:ext cx="327024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ão e Próximos Pas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odelagem e a arquitetura proposta para o sistema atendem plenamente aos requisitos estabelecid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análise do projeto original foi tomada como guia para o desenvolvimento da arquitetura e construção do projeto atu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arquitetura proposta foi desenvolvida com o intúito de prover mecanismos de facil evolução para outras tecnologias e ambientes (flexível e escaláve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 próximos passos ser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isão das tarefas de desenvolvimento, dos 3 componentes do sistema, entre os integrantes do grupo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abelecer procedimentos de atividades de testes para o sistem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antação do sistema e execução de testes integr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ntes do Gru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56440" y="29718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óv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36360" y="35812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2840" y="19051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íc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50400" y="41148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80280" y="51814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45880" y="56386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ge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2280" y="24382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41120" y="46483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tivos do Projeto (origi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7680" y="2286000"/>
            <a:ext cx="809280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 projeto tem como objetivo principal a apresentação de uma primeira versão (“stand-alone”) de um processo seletivo informatiz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 software, a ser criado, deverá ser desenvolvido de forma que possibilite ao CANDIDATO a uma das vagas oferecidas pelas FACULDADES BATISTA DE ADMINISTRAÇÃO E INFORMÁTICA, a realização de uma prova on-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s dados deverão ser analisados e processados pelo sistema, segundo os critérios e normas estabelecidos pela faculdade para a seleção de candidatos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0400" y="1411200"/>
            <a:ext cx="47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o: Concepção e Arquite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tivos do Projeto (atu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7680" y="2286000"/>
            <a:ext cx="8092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 projeto tem como objetiv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er um mecanismo eletronico para  o controle e a execução de avaliações (processos seletivos)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ravés da utilização de recursos de red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om banco de dados centralizado e arquitetura THREE-TI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 software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m desenvolvimento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ossib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litará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ao CANDIDAT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r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aliza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 a prova individualmente de acordo com datas pré-estabelecidas e escolhidas pelo próprio candida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nova arquitetura é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talmente baseada em componente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e estará apta a ser integrada com outras iniciativas internas da faculdade ou através do uso da intern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9680" y="1411200"/>
            <a:ext cx="47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o: Arquitetura e Constr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sitos do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Configuração da prova (regras de montagem das prova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Criação das provas (mecanismo de geração da prov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Controle da realização da prova (A execução da prova está associada com o numero de inscrição vs. Data/hora. Caso o candidato tente efetuar o login fora do horário disponível, será apresentada uma tela com as datas agendada. Caso o candidato não venha, a pontuação para aquela prova será 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Módulo de correção das provas. (será executada quando o candidato clicar no botão de finalização após a execução da prova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istórico de provas (após a finalização de cada prova, todas questões são gravadas em histórico, associando o candidato, as respostas e data e processo).</a:t>
            </a: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Cadastro de candidatos (inscrição, RG, outras informações, opções de curso da mesma área (até 3), datas de prova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Cadastro de áreas de cursos (cursos da mesma área são regidos pelos mesmos critérios de avaliação, podendo ao candidato selecionar até 3 opções na mesma áre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Cadastro de locais de provas (# computadores, horário disponível, descriçã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Cadastro de professo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Cadastro de superviso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Cadastro de disciplinas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Cadastro de cursos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Cadastro de questões (pergunta, respostas, resposta correta e nível dificuldade e tempo de execuçã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Cadastro de senha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Agendamento de provas (conjunto de  data/hora e locais de execução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Cadastro da prova  (tipo de prova, área,  # questões, número por disciplina, particionamento da prova, nível Fácil | Médio | Difícil , disciplinas e peso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e de avaliações (relatórios e aprovações). A nota obtida pelo candidato pode ser validada contra os cursos da área selecionada.</a:t>
            </a: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os de u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162920" cy="60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quitetura e Distribui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04920" y="1620720"/>
            <a:ext cx="853416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a de Classes (Componente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76520" y="1058760"/>
            <a:ext cx="6229080" cy="57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a de Classes (Componente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52480" y="2514600"/>
            <a:ext cx="571824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8T14:33:28Z</dcterms:created>
  <dc:creator>JohnDoe</dc:creator>
  <dc:description/>
  <dc:language>en-US</dc:language>
  <cp:lastModifiedBy>Robson de Sousa Martins</cp:lastModifiedBy>
  <dcterms:modified xsi:type="dcterms:W3CDTF">2002-05-24T14:33:55Z</dcterms:modified>
  <cp:revision>15</cp:revision>
  <dc:subject/>
  <dc:title>Processo Seletivo Multiusuário</dc:title>
</cp:coreProperties>
</file>