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B37-894A-427E-8A93-8E4B2AAB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D65-F952-4050-B49D-989D4E63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015-2CFF-4E9C-85CD-4D310EC2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CAA-2E60-4F0C-B1B3-2D536315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94F-91C6-4A4E-88E3-65060C59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DAA-0A37-4FCA-8EBC-067C5E49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FAD-9BA4-45C0-A02B-8BF5FA17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6F8-D190-40ED-85CC-9B066470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13C-75D2-4B4B-A4FE-01E4028A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6D1-9735-4B9F-A528-A0709B8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BFF-1AA5-4DF1-990A-DB083E53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187-61F7-4F3B-8A5C-425A310C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2CEA-A6CD-4F9D-9106-7BF040A02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533520"/>
            <a:ext cx="7543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2.3: O candidato já realizou todas as provas do ex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2.3.1: O sistema exibe a mensagem: MSG 05 – "Você já efetuou todas as provas do exame!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5.1: Faltam 15 minutos ou menos para o tempo máximo de pro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5.1.1: O sistema exibe o alerta: MSG 06 – "Faltam X minutos para o término da prova!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5.2: O tempo máximo de prova é ating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5.2.1: O sistema finaliza automaticamente a pro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5.2.2: Vai para o Passo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632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458200" cy="584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rama de Seqüência - Execução da PRO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990720"/>
            <a:ext cx="3581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lasse Prova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81080"/>
            <a:ext cx="3581280" cy="144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DPROVA: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DCANDIDATO: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429000"/>
            <a:ext cx="3581280" cy="2037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ARPROVA():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PROVA():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IGIRPROVA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716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1523880"/>
          <a:ext cx="8610480" cy="414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1048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09480" y="228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AGRAMA E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tatísticas do projeto (fases 3 e 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ício: 9 de agosto de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inal: 15 de novembro de 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otal de horas de todos os alunos (aprox.): 200 horas/hom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mando-se as fases de análise (aprox.): 300 horas/hom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ficuldades encontradas nesse semest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lemas com a Infra-estrutura da facul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pudemos utilizar um mecanismo de versionamento on-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ntos que contribuíram com o sucesso do proje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ção e distribuição de tarefas e responsabi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ação consis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anismos de comunicação entre os memb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e de pendê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gunt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rvamos esses últimos minutos para respondermos pergun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brigado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cesso Seletivo Multiusuá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tivos do 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esentação Téc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órico do proje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63264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1o semestre, fases 1 e 2 da R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CEPÇÃO E ARQUITE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odelagem do sistema e preparação para a execu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2o semestre, fases 3 e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TRUÇÃO E IMPLAN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oco no DESENVOLV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s do Sist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Disponibilizar mecanismos para se implementar Processos Seletivos (diversos vestibulares simultâneos) de uma forma totalmente Informatizado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sitos do Sist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over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93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adastro de questões ao professor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93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esolução eletrônica das prova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93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Administração de todo o processo seletivo, desde o cadastro do candidato, a geração aleatória das provas até a publicação do resultado fina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1219320"/>
            <a:ext cx="4724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711760" y="1676520"/>
            <a:ext cx="919800" cy="744840"/>
            <a:chOff x="5711760" y="1676520"/>
            <a:chExt cx="919800" cy="744840"/>
          </a:xfrm>
        </p:grpSpPr>
        <p:sp>
          <p:nvSpPr>
            <p:cNvPr id="52" name=""/>
            <p:cNvSpPr/>
            <p:nvPr/>
          </p:nvSpPr>
          <p:spPr>
            <a:xfrm>
              <a:off x="5723280" y="1676520"/>
              <a:ext cx="566640" cy="29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11760" y="2055960"/>
              <a:ext cx="919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etuar pro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739240" y="1676520"/>
            <a:ext cx="698760" cy="865080"/>
            <a:chOff x="2739240" y="1676520"/>
            <a:chExt cx="698760" cy="865080"/>
          </a:xfrm>
        </p:grpSpPr>
        <p:sp>
          <p:nvSpPr>
            <p:cNvPr id="55" name=""/>
            <p:cNvSpPr/>
            <p:nvPr/>
          </p:nvSpPr>
          <p:spPr>
            <a:xfrm>
              <a:off x="2887200" y="1676520"/>
              <a:ext cx="145080" cy="14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71080" y="1814040"/>
              <a:ext cx="36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65960" y="1854000"/>
              <a:ext cx="2181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25640" y="1942920"/>
              <a:ext cx="299520" cy="14508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lnTo>
                    <a:pt x="18" y="0"/>
                  </a:lnTo>
                  <a:lnTo>
                    <a:pt x="37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39240" y="2176200"/>
              <a:ext cx="698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dida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505320" y="1905120"/>
            <a:ext cx="1980720" cy="75600"/>
            <a:chOff x="3505320" y="1905120"/>
            <a:chExt cx="1980720" cy="75600"/>
          </a:xfrm>
        </p:grpSpPr>
        <p:sp>
          <p:nvSpPr>
            <p:cNvPr id="61" name=""/>
            <p:cNvSpPr/>
            <p:nvPr/>
          </p:nvSpPr>
          <p:spPr>
            <a:xfrm flipH="1" flipV="1">
              <a:off x="5295600" y="1905120"/>
              <a:ext cx="190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505320" y="1930320"/>
              <a:ext cx="1980720" cy="50400"/>
              <a:chOff x="3505320" y="1930320"/>
              <a:chExt cx="1980720" cy="50400"/>
            </a:xfrm>
          </p:grpSpPr>
          <p:sp>
            <p:nvSpPr>
              <p:cNvPr id="63" name=""/>
              <p:cNvSpPr/>
              <p:nvPr/>
            </p:nvSpPr>
            <p:spPr>
              <a:xfrm>
                <a:off x="4488120" y="1930320"/>
                <a:ext cx="997920" cy="37800"/>
              </a:xfrm>
              <a:custGeom>
                <a:avLst/>
                <a:gdLst/>
                <a:ahLst/>
                <a:rect l="l" t="t" r="r" b="b"/>
                <a:pathLst>
                  <a:path w="63" h="6">
                    <a:moveTo>
                      <a:pt x="0" y="4"/>
                    </a:moveTo>
                    <a:lnTo>
                      <a:pt x="63" y="0"/>
                    </a:lnTo>
                    <a:lnTo>
                      <a:pt x="5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3505320" y="1955520"/>
                <a:ext cx="98280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228600" y="228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ção do Caso de Uso "Efetuar Prov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048120"/>
            <a:ext cx="7315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é-condi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a existência deste caso de uso é necessário que o candidato já tenha sido previamente cadastrado e agendado, que haja um número de questões suficientes para o sorteio da prova e que os exames e provas tenham sido previamente configu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46480" y="17938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57200"/>
            <a:ext cx="77724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s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1: O candidato efetua login através de seu número de inscrição e 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2: O sistema verifica a agenda do candidato e exibe a tela de escolha de pro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3: O candidato escolhe a prova que deseja realizar no 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4: O sistema monta a prova escolhida e exibe uma tela de navegação entre as quest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5: O candidato navega por entre as questões e as responde, podendo seguir ou não uma seqüê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6: Quando o tempo mínimo é atingido o sistema exibe uma opção "finalizar prova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7: O candidato finaliza a pro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8: O sistema exibe a mensagem: MSG 01 – "Prova finalizada com sucesso!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80010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so Altern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1.1: O número de inscrição ou RG não são estão cadast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1.1.1: O sistema exibe a mensagem: MSG 02 – "Login incorreto!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2.1: O candidato não está agendado para aquela data ou horá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2.1.1: O sistema exibe a mensagem: MSG 03 – "Você não está agendado para este instante!", e exibe a agenda do candid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2.2: O candidato já realizou uma prova na data at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sso 2.2.1: O sistema exibe a mensagem: MSG 04 – "Você já efetuou uma prova hoje, não é permitido realizar mais de uma prova por dia!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4:58:40Z</dcterms:created>
  <dc:creator>Robson de Sousa Martins</dc:creator>
  <dc:description/>
  <dc:language>en-US</dc:language>
  <cp:lastModifiedBy>aaa</cp:lastModifiedBy>
  <dcterms:modified xsi:type="dcterms:W3CDTF">2002-12-02T00:58:46Z</dcterms:modified>
  <cp:revision>8</cp:revision>
  <dc:subject/>
  <dc:title>Apresentação do PowerPoint</dc:title>
</cp:coreProperties>
</file>