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69F-5819-4E4D-A519-7396BC43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AC9-F574-46ED-AA15-C1735140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77F-01B3-48E4-B6EF-15C716D8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94F-1A44-480A-B065-F6F30C90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0F0-A1E7-4A0F-8A79-4101C02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94C-6ABF-4C90-A173-2E2F6D6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3EC-7A4E-49F9-A96C-60D9BB2B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FAA-D5E1-4591-BDFF-7855103C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A1C-3853-4293-9EAD-5D96D64B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465-6664-4FFC-8545-7047A0C2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2F7-7762-4372-9538-F943B11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D6F-02CC-40B1-B9E9-ECC0C08A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1287-4320-4CF9-8C7A-B4E5CCE1149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 Light"/>
              </a:rPr>
              <a:t>Phpdocx present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ther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4T09:59:10Z</dcterms:created>
  <dc:creator>jorge-w7</dc:creator>
  <dc:description/>
  <dc:language>en-US</dc:language>
  <cp:lastModifiedBy>jorge-w7</cp:lastModifiedBy>
  <dcterms:modified xsi:type="dcterms:W3CDTF">2016-11-24T10:02:39Z</dcterms:modified>
  <cp:revision>1</cp:revision>
  <dc:subject/>
  <dc:title>Phpdocx presentation</dc:title>
</cp:coreProperties>
</file>