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D9C-6F60-42F8-9FA0-5DDC97F0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7AE7-13CC-4798-8FE8-77377AEA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A52-B20E-4FF8-8FAF-EB1E6B80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71A-A535-462F-BEAB-E5C69F31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05C2-B017-429A-A1C8-F4B408C5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8F1D-3F5F-4F27-9246-D72329BF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82AF-A497-425B-B396-420434D2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B9D-F8EA-469A-A33E-DF348B24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E6A-2145-4D03-9DFA-5B70D310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5A1F-BD95-491B-B592-182C09A0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15F-0AAF-40F7-80D6-67023A88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73D-F9F9-46CF-9179-5F38C6F0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BA6F-45E1-4729-867B-852301353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8-03T12:51:51Z</dcterms:created>
  <dc:creator>강현구</dc:creator>
  <dc:description/>
  <dc:language>en-US</dc:language>
  <cp:lastModifiedBy>강현구</cp:lastModifiedBy>
  <dcterms:modified xsi:type="dcterms:W3CDTF">2023-08-03T12:52:39Z</dcterms:modified>
  <cp:revision>1</cp:revision>
  <dc:subject/>
  <dc:title>test</dc:title>
</cp:coreProperties>
</file>