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C27-1627-4CCC-B8F0-AAA8FAC1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5CF-A456-4343-A1C6-6E2B2063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403-88F9-460C-821B-11AE35E7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5D6-1F84-4CBC-A179-2D89A6EF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93A-5FB0-4240-898B-3B4D1FD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4A7-5017-43C7-8B11-BFC7E7C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D39-B8E5-4AFE-B2E0-63B40B3C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8EB-4B26-44EE-91C0-0E89B0FA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D19-9147-4864-8345-789238C0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784-A015-47D9-AD9A-0F59903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6B7-99B3-4D7A-8257-C05DCBE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FA9-157F-49AD-9BCC-33EB7A0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81C7-AC12-43D0-BEC5-E13370FB5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03T12:51:51Z</dcterms:created>
  <dc:creator>강현구</dc:creator>
  <dc:description/>
  <dc:language>en-US</dc:language>
  <cp:lastModifiedBy>강현구</cp:lastModifiedBy>
  <dcterms:modified xsi:type="dcterms:W3CDTF">2023-08-03T12:52:39Z</dcterms:modified>
  <cp:revision>1</cp:revision>
  <dc:subject/>
  <dc:title>test</dc:title>
</cp:coreProperties>
</file>