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gif" ContentType="image/gif"/>
  <Override PartName="/ppt/media/image15.png" ContentType="image/png"/>
  <Override PartName="/ppt/media/image17.gif" ContentType="image/gif"/>
  <Override PartName="/ppt/media/image14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8.png" ContentType="image/png"/>
  <Override PartName="/ppt/media/image9.png" ContentType="image/png"/>
  <Override PartName="/ppt/media/image6.gif" ContentType="image/gi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F211-8264-4C5C-8F83-D39153882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2E60-81B5-4A89-B4CA-6503913971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34A3-84CE-431C-B029-54791BF343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DD68-955E-4A86-B8ED-19F0B1B71E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F8C0-638E-4F3F-8BDA-4B89DEE354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3CFD-722C-4352-8466-D7D9D5C3F1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188B-9AF1-45F5-9EC0-A3EF06848F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1E57-B350-4247-8E9D-84BE75E89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D292-BD5E-4A34-960F-55FE043D95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1523-896F-459E-8FA1-E62549045B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83DF-8DE5-495D-8596-4850B8F266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8AD3-58DA-4A6E-B290-27980FFE02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F009-AD20-46DC-B6FC-9E791CB8A0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2DAF-9267-4C69-A297-5D51C01429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ABC1-F6DA-4AA9-858D-887C419710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D201-5FCF-4B64-9C62-6F78CDA023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4FA1-649E-4EC7-B2A6-783F96388E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6DA8-A05D-4BAC-8159-AAD254D86F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48A2-64BC-4D57-A9D4-3A6C224DE4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1BDF-C152-43B8-8EB2-02012225C5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2540-E860-4512-9736-7FDD635F92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4D8D-48A9-4824-AC29-5DD222DE08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4787-3E88-4A42-BF93-530F4A2A8E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A286-DF99-4628-A12D-991C63BFA9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C52A-4DCC-418D-BE18-EAFBF1B4C0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98A6-7500-40C1-8942-B82DDC71F2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894B-1E21-4738-925E-7B538276FD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E11-EFFC-44D9-9CB9-7CD8C7CFD4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0855-7324-4741-8AEE-1525D7A4BB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B49C-91A6-4DB8-9C40-C310144E6C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86AB-BAA2-4226-BE09-7E8C16078E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4600-DD31-4BA8-B394-2F3A9DB5C8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AFC2-B047-4EBB-8745-8B6AAFA7BC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AF8A-3D07-4F6F-9511-681C85F7AE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B1A3-38CA-4842-939F-D4FBF0E6A9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DF3A-0CD7-4B1A-9456-C4EE8DEDCE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23DE-F55A-4238-8D05-0684949DFC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83E2-336B-48CC-8B8B-B1DA4D8BCD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F6FE-1BBC-4C74-AEC7-0204CDC9C3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90F8-6E65-4C44-9A3A-A3D103E26F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D397-55F2-4A28-8F62-D9F4623F83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0FFB-F9D2-42FE-8BA7-87D3EA23B3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98F-2EAC-40D5-ADC2-15EC41A27E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8AFD-7996-4EE9-A894-015D68765D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C50A-CD05-4C01-BB2D-95C5E670FA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A88E-BFC6-4B5E-AA51-C44563300F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E427-9A48-4989-B810-57F0333C54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0551-14A4-4CD2-A241-ABCACA4F0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537B-51DE-47B9-880C-2E75CB12B6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90A-F805-4694-A92B-9EC84361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5A6-07FC-4C6D-B63C-80E0BAF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7C5-F2BE-480B-A423-A1AC3B07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A74-2D6D-4CB2-80C5-D06A75A2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F5AF-13A9-4BD7-8023-75C15BD8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BD16-1DCF-411F-A09D-2AABDED0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1E74-8961-4648-8AF6-9D6420EF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FA25-E9C8-4117-850A-A5CA94C8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BE24-D68B-4CF8-B1B6-DA7D5214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2440"/>
            <a:ext cx="77724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D45C-DC6E-44C1-87BE-6485738C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8554-B9EA-406D-A73A-2CBCF899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44F-4B59-466E-B13A-032AD149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46D5-FF7C-4CA2-92B2-D9A4CEBA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E398-3CA3-4485-B01A-57B20F2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3839-672F-4D5A-8AF7-A43E5D6B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DB7A-D8BF-4B18-AD66-605E56CF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8F50-405C-4F47-A351-5E1974B8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6DD-4D9B-47E7-92CA-EBB0A534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647-DF48-4E32-A856-DACD1863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13D-C64A-47F1-9047-839CB77F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2440"/>
            <a:ext cx="77724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79D-F94B-40D6-91DA-D8A318EA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B0C-7630-4C7C-9608-D5E4846F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118-DAD8-41DD-ABCF-AB98A4C2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161-F0B4-4D0B-A2F7-9132F41F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CA11-ACCF-4302-8E15-D3DADE8D3F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061" descr="6fbb04c1b2ef0616c7"/>
          <p:cNvPicPr/>
          <p:nvPr/>
        </p:nvPicPr>
        <p:blipFill>
          <a:blip r:embed="rId3"/>
          <a:stretch/>
        </p:blipFill>
        <p:spPr>
          <a:xfrm>
            <a:off x="7834320" y="0"/>
            <a:ext cx="130968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9"/>
          <p:cNvSpPr/>
          <p:nvPr/>
        </p:nvSpPr>
        <p:spPr>
          <a:xfrm>
            <a:off x="0" y="3908520"/>
            <a:ext cx="9144000" cy="2196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9ce157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2" descr="BTZBUL1A"/>
          <p:cNvPicPr/>
          <p:nvPr/>
        </p:nvPicPr>
        <p:blipFill>
          <a:blip r:embed="rId2"/>
          <a:stretch/>
        </p:blipFill>
        <p:spPr>
          <a:xfrm>
            <a:off x="1247760" y="2619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4" descr="6fbb04c1b2ef0616c7"/>
          <p:cNvPicPr/>
          <p:nvPr/>
        </p:nvPicPr>
        <p:blipFill>
          <a:blip r:embed="rId3"/>
          <a:stretch/>
        </p:blipFill>
        <p:spPr>
          <a:xfrm>
            <a:off x="7834320" y="0"/>
            <a:ext cx="1309680" cy="1341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3F16-C7C8-47E1-956F-07EC8AF0F7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1904760"/>
            <a:ext cx="64800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1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：熟悉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Linux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系统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5640" y="4221000"/>
            <a:ext cx="784872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熟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的基本操作和开发环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（续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42472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代码书写要规范，要适当地加入注释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鼓励在实验中加入新的观点或想法，并加以实现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认真进行预习，完成预习报告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实验完成后，要认真总结，完成实验报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预习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初步设计的程序流程图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初步的程序源代码、文档注释及必要的文字说明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预期的程序运行结果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boy_math_md_clr"/>
          <p:cNvPicPr/>
          <p:nvPr/>
        </p:nvPicPr>
        <p:blipFill>
          <a:blip r:embed="rId5"/>
          <a:stretch/>
        </p:blipFill>
        <p:spPr>
          <a:xfrm>
            <a:off x="3809880" y="48769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流程图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的数据结构及其说明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源代码、文档注释及文字说明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运行结果及其说明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使用说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pullcart_library_book_open_md_clr"/>
          <p:cNvPicPr/>
          <p:nvPr/>
        </p:nvPicPr>
        <p:blipFill>
          <a:blip r:embed="rId7"/>
          <a:stretch/>
        </p:blipFill>
        <p:spPr>
          <a:xfrm>
            <a:off x="617220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3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：进程同步和通信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生产者和消费者问题模拟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目的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调试、修改、运行模拟程序，通过形象化的状态显示，使学生理解进程的概念，了解同步和通信的过程，掌握进程通信和同步的机制，特别是利用缓冲区进行同步和通信的过程。通过补充新功能，使学生能灵活运用相关知识，培养创新能力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调试、运行给出的程序，从操作系统原理的角度验证程序的正确性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发现并修改程序中的原理性错误或不完善的地方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鼓励在程序中增加新的功能。完成基本功能的，得基本分；添加新功能的加分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在程序中适当地加入注释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认真进行预习，阅读原程序，发现其中的原理性错误，完成预习报告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实验完成后，要认真总结，完成实验报告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说明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2789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所给程序模拟两个进程，即生产者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produc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进程和消费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Consumer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工作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生产者每次产生一个数据，送入缓冲区中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消费者每次从缓冲区中取走一个数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981160" y="4978440"/>
            <a:ext cx="406440" cy="480960"/>
          </a:xfrm>
          <a:prstGeom prst="rect">
            <a:avLst/>
          </a:prstGeom>
          <a:solidFill>
            <a:srgbClr val="a6a6a6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4"/>
          <a:stretch/>
        </p:blipFill>
        <p:spPr>
          <a:xfrm>
            <a:off x="3384720" y="4978440"/>
            <a:ext cx="271440" cy="24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Picture 6" descr=""/>
          <p:cNvPicPr/>
          <p:nvPr/>
        </p:nvPicPr>
        <p:blipFill>
          <a:blip r:embed="rId5"/>
          <a:srcRect l="0" t="0" r="49067" b="0"/>
          <a:stretch/>
        </p:blipFill>
        <p:spPr>
          <a:xfrm>
            <a:off x="3656160" y="4978440"/>
            <a:ext cx="137880" cy="24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1" name="Picture 7" descr=""/>
          <p:cNvPicPr/>
          <p:nvPr/>
        </p:nvPicPr>
        <p:blipFill>
          <a:blip r:embed="rId6"/>
          <a:stretch/>
        </p:blipFill>
        <p:spPr>
          <a:xfrm>
            <a:off x="3384720" y="5219640"/>
            <a:ext cx="271440" cy="23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2" name="Picture 8" descr=""/>
          <p:cNvPicPr/>
          <p:nvPr/>
        </p:nvPicPr>
        <p:blipFill>
          <a:blip r:embed="rId7"/>
          <a:srcRect l="0" t="0" r="49067" b="0"/>
          <a:stretch/>
        </p:blipFill>
        <p:spPr>
          <a:xfrm>
            <a:off x="3656160" y="5219640"/>
            <a:ext cx="137880" cy="23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3" name="Rectangle 9"/>
          <p:cNvSpPr/>
          <p:nvPr/>
        </p:nvSpPr>
        <p:spPr>
          <a:xfrm>
            <a:off x="3384720" y="4978440"/>
            <a:ext cx="409320" cy="4809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794040" y="4978440"/>
            <a:ext cx="406440" cy="4809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200480" y="4978440"/>
            <a:ext cx="405000" cy="4809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4605480" y="4978440"/>
            <a:ext cx="407880" cy="4809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3" descr=""/>
          <p:cNvPicPr/>
          <p:nvPr/>
        </p:nvPicPr>
        <p:blipFill>
          <a:blip r:embed="rId8"/>
          <a:stretch/>
        </p:blipFill>
        <p:spPr>
          <a:xfrm>
            <a:off x="5010120" y="4978440"/>
            <a:ext cx="271440" cy="241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"/>
          <p:cNvPicPr/>
          <p:nvPr/>
        </p:nvPicPr>
        <p:blipFill>
          <a:blip r:embed="rId9"/>
          <a:srcRect l="0" t="0" r="49173" b="0"/>
          <a:stretch/>
        </p:blipFill>
        <p:spPr>
          <a:xfrm>
            <a:off x="5281560" y="4978440"/>
            <a:ext cx="138240" cy="24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15" descr=""/>
          <p:cNvPicPr/>
          <p:nvPr/>
        </p:nvPicPr>
        <p:blipFill>
          <a:blip r:embed="rId10"/>
          <a:stretch/>
        </p:blipFill>
        <p:spPr>
          <a:xfrm>
            <a:off x="5010120" y="5219640"/>
            <a:ext cx="271440" cy="23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Picture 16" descr=""/>
          <p:cNvPicPr/>
          <p:nvPr/>
        </p:nvPicPr>
        <p:blipFill>
          <a:blip r:embed="rId11"/>
          <a:srcRect l="0" t="0" r="49173" b="0"/>
          <a:stretch/>
        </p:blipFill>
        <p:spPr>
          <a:xfrm>
            <a:off x="5281560" y="5219640"/>
            <a:ext cx="138240" cy="23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1" name="Rectangle 17"/>
          <p:cNvSpPr/>
          <p:nvPr/>
        </p:nvSpPr>
        <p:spPr>
          <a:xfrm>
            <a:off x="5010120" y="4978440"/>
            <a:ext cx="409680" cy="4809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419800" y="4978440"/>
            <a:ext cx="406440" cy="480960"/>
          </a:xfrm>
          <a:prstGeom prst="rect">
            <a:avLst/>
          </a:prstGeom>
          <a:solidFill>
            <a:srgbClr val="a6a6a6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5826240" y="4978440"/>
            <a:ext cx="406440" cy="480960"/>
          </a:xfrm>
          <a:prstGeom prst="rect">
            <a:avLst/>
          </a:prstGeom>
          <a:solidFill>
            <a:srgbClr val="a6a6a6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0"/>
          <p:cNvSpPr/>
          <p:nvPr/>
        </p:nvSpPr>
        <p:spPr>
          <a:xfrm>
            <a:off x="4065480" y="5519880"/>
            <a:ext cx="1692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4269240" y="5646600"/>
            <a:ext cx="91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共享缓冲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22"/>
          <p:cNvSpPr/>
          <p:nvPr/>
        </p:nvSpPr>
        <p:spPr>
          <a:xfrm>
            <a:off x="2300400" y="4653000"/>
            <a:ext cx="1355760" cy="204840"/>
          </a:xfrm>
          <a:prstGeom prst="pie">
            <a:avLst/>
          </a:prstGeom>
          <a:noFill/>
          <a:ln w="176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23"/>
          <p:cNvSpPr/>
          <p:nvPr/>
        </p:nvSpPr>
        <p:spPr>
          <a:xfrm>
            <a:off x="3595680" y="4854600"/>
            <a:ext cx="117360" cy="100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24"/>
          <p:cNvSpPr/>
          <p:nvPr/>
        </p:nvSpPr>
        <p:spPr>
          <a:xfrm>
            <a:off x="5213520" y="4653000"/>
            <a:ext cx="1560240" cy="204840"/>
          </a:xfrm>
          <a:prstGeom prst="pie">
            <a:avLst/>
          </a:prstGeom>
          <a:noFill/>
          <a:ln w="176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25"/>
          <p:cNvSpPr/>
          <p:nvPr/>
        </p:nvSpPr>
        <p:spPr>
          <a:xfrm>
            <a:off x="5154480" y="4854600"/>
            <a:ext cx="115920" cy="100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2303640" y="4232160"/>
            <a:ext cx="142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2786760" y="42022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产指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5283360" y="4232160"/>
            <a:ext cx="142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29"/>
          <p:cNvSpPr/>
          <p:nvPr/>
        </p:nvSpPr>
        <p:spPr>
          <a:xfrm>
            <a:off x="5766480" y="42022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指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1"/>
          <p:cNvSpPr/>
          <p:nvPr/>
        </p:nvSpPr>
        <p:spPr>
          <a:xfrm>
            <a:off x="903240" y="4137120"/>
            <a:ext cx="15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33"/>
          <p:cNvSpPr/>
          <p:nvPr/>
        </p:nvSpPr>
        <p:spPr>
          <a:xfrm>
            <a:off x="7000920" y="413712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Freeform 34"/>
          <p:cNvSpPr/>
          <p:nvPr/>
        </p:nvSpPr>
        <p:spPr>
          <a:xfrm>
            <a:off x="2701800" y="575640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reeform 35"/>
          <p:cNvSpPr/>
          <p:nvPr/>
        </p:nvSpPr>
        <p:spPr>
          <a:xfrm>
            <a:off x="2717640" y="574344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reeform 36"/>
          <p:cNvSpPr/>
          <p:nvPr/>
        </p:nvSpPr>
        <p:spPr>
          <a:xfrm>
            <a:off x="2733840" y="5732640"/>
            <a:ext cx="1260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reeform 37"/>
          <p:cNvSpPr/>
          <p:nvPr/>
        </p:nvSpPr>
        <p:spPr>
          <a:xfrm>
            <a:off x="2752560" y="57196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38"/>
          <p:cNvSpPr/>
          <p:nvPr/>
        </p:nvSpPr>
        <p:spPr>
          <a:xfrm>
            <a:off x="2770200" y="570852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39"/>
          <p:cNvSpPr/>
          <p:nvPr/>
        </p:nvSpPr>
        <p:spPr>
          <a:xfrm>
            <a:off x="2784600" y="5695920"/>
            <a:ext cx="1260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reeform 40"/>
          <p:cNvSpPr/>
          <p:nvPr/>
        </p:nvSpPr>
        <p:spPr>
          <a:xfrm>
            <a:off x="2801880" y="568332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reeform 41"/>
          <p:cNvSpPr/>
          <p:nvPr/>
        </p:nvSpPr>
        <p:spPr>
          <a:xfrm>
            <a:off x="2820960" y="567216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42"/>
          <p:cNvSpPr/>
          <p:nvPr/>
        </p:nvSpPr>
        <p:spPr>
          <a:xfrm>
            <a:off x="2836800" y="565956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43"/>
          <p:cNvSpPr/>
          <p:nvPr/>
        </p:nvSpPr>
        <p:spPr>
          <a:xfrm>
            <a:off x="2852640" y="564660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44"/>
          <p:cNvSpPr/>
          <p:nvPr/>
        </p:nvSpPr>
        <p:spPr>
          <a:xfrm>
            <a:off x="2870280" y="563580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45"/>
          <p:cNvSpPr/>
          <p:nvPr/>
        </p:nvSpPr>
        <p:spPr>
          <a:xfrm>
            <a:off x="2887560" y="562284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46"/>
          <p:cNvSpPr/>
          <p:nvPr/>
        </p:nvSpPr>
        <p:spPr>
          <a:xfrm>
            <a:off x="2905200" y="56116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47"/>
          <p:cNvSpPr/>
          <p:nvPr/>
        </p:nvSpPr>
        <p:spPr>
          <a:xfrm>
            <a:off x="2921040" y="55990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48"/>
          <p:cNvSpPr/>
          <p:nvPr/>
        </p:nvSpPr>
        <p:spPr>
          <a:xfrm>
            <a:off x="2936880" y="5586480"/>
            <a:ext cx="1260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49"/>
          <p:cNvSpPr/>
          <p:nvPr/>
        </p:nvSpPr>
        <p:spPr>
          <a:xfrm>
            <a:off x="2955960" y="557532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50"/>
          <p:cNvSpPr/>
          <p:nvPr/>
        </p:nvSpPr>
        <p:spPr>
          <a:xfrm>
            <a:off x="2924280" y="5519880"/>
            <a:ext cx="125280" cy="1029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1"/>
          <p:cNvSpPr/>
          <p:nvPr/>
        </p:nvSpPr>
        <p:spPr>
          <a:xfrm>
            <a:off x="2236680" y="5567400"/>
            <a:ext cx="541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2448000" y="563580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53"/>
          <p:cNvSpPr/>
          <p:nvPr/>
        </p:nvSpPr>
        <p:spPr>
          <a:xfrm>
            <a:off x="3651120" y="5778360"/>
            <a:ext cx="9720" cy="111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54"/>
          <p:cNvSpPr/>
          <p:nvPr/>
        </p:nvSpPr>
        <p:spPr>
          <a:xfrm>
            <a:off x="3665520" y="5767560"/>
            <a:ext cx="11160" cy="1080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55"/>
          <p:cNvSpPr/>
          <p:nvPr/>
        </p:nvSpPr>
        <p:spPr>
          <a:xfrm>
            <a:off x="3683160" y="5756400"/>
            <a:ext cx="1080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56"/>
          <p:cNvSpPr/>
          <p:nvPr/>
        </p:nvSpPr>
        <p:spPr>
          <a:xfrm>
            <a:off x="3700440" y="5743440"/>
            <a:ext cx="1260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57"/>
          <p:cNvSpPr/>
          <p:nvPr/>
        </p:nvSpPr>
        <p:spPr>
          <a:xfrm>
            <a:off x="3718080" y="5732640"/>
            <a:ext cx="1080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58"/>
          <p:cNvSpPr/>
          <p:nvPr/>
        </p:nvSpPr>
        <p:spPr>
          <a:xfrm>
            <a:off x="3733920" y="57196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59"/>
          <p:cNvSpPr/>
          <p:nvPr/>
        </p:nvSpPr>
        <p:spPr>
          <a:xfrm>
            <a:off x="3751200" y="570852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60"/>
          <p:cNvSpPr/>
          <p:nvPr/>
        </p:nvSpPr>
        <p:spPr>
          <a:xfrm>
            <a:off x="3768840" y="569592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61"/>
          <p:cNvSpPr/>
          <p:nvPr/>
        </p:nvSpPr>
        <p:spPr>
          <a:xfrm>
            <a:off x="3786120" y="5683320"/>
            <a:ext cx="972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62"/>
          <p:cNvSpPr/>
          <p:nvPr/>
        </p:nvSpPr>
        <p:spPr>
          <a:xfrm>
            <a:off x="3801960" y="567216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63"/>
          <p:cNvSpPr/>
          <p:nvPr/>
        </p:nvSpPr>
        <p:spPr>
          <a:xfrm>
            <a:off x="3817800" y="565956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64"/>
          <p:cNvSpPr/>
          <p:nvPr/>
        </p:nvSpPr>
        <p:spPr>
          <a:xfrm>
            <a:off x="3836880" y="564660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5"/>
          <p:cNvSpPr/>
          <p:nvPr/>
        </p:nvSpPr>
        <p:spPr>
          <a:xfrm>
            <a:off x="3854520" y="5635800"/>
            <a:ext cx="93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66"/>
          <p:cNvSpPr/>
          <p:nvPr/>
        </p:nvSpPr>
        <p:spPr>
          <a:xfrm>
            <a:off x="3868560" y="562284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67"/>
          <p:cNvSpPr/>
          <p:nvPr/>
        </p:nvSpPr>
        <p:spPr>
          <a:xfrm>
            <a:off x="3886200" y="56116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68"/>
          <p:cNvSpPr/>
          <p:nvPr/>
        </p:nvSpPr>
        <p:spPr>
          <a:xfrm>
            <a:off x="3905280" y="55990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69"/>
          <p:cNvSpPr/>
          <p:nvPr/>
        </p:nvSpPr>
        <p:spPr>
          <a:xfrm>
            <a:off x="3871800" y="5543640"/>
            <a:ext cx="125640" cy="1029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0"/>
          <p:cNvSpPr/>
          <p:nvPr/>
        </p:nvSpPr>
        <p:spPr>
          <a:xfrm>
            <a:off x="3184560" y="5592600"/>
            <a:ext cx="5428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71"/>
          <p:cNvSpPr/>
          <p:nvPr/>
        </p:nvSpPr>
        <p:spPr>
          <a:xfrm>
            <a:off x="3395880" y="565956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72"/>
          <p:cNvSpPr/>
          <p:nvPr/>
        </p:nvSpPr>
        <p:spPr>
          <a:xfrm>
            <a:off x="5880240" y="5618160"/>
            <a:ext cx="188640" cy="792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73"/>
          <p:cNvSpPr/>
          <p:nvPr/>
        </p:nvSpPr>
        <p:spPr>
          <a:xfrm>
            <a:off x="6064200" y="5557680"/>
            <a:ext cx="225360" cy="200160"/>
          </a:xfrm>
          <a:prstGeom prst="pi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74"/>
          <p:cNvSpPr/>
          <p:nvPr/>
        </p:nvSpPr>
        <p:spPr>
          <a:xfrm>
            <a:off x="6097680" y="5543640"/>
            <a:ext cx="2166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75"/>
          <p:cNvSpPr/>
          <p:nvPr/>
        </p:nvSpPr>
        <p:spPr>
          <a:xfrm>
            <a:off x="6731280" y="5611680"/>
            <a:ext cx="109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针移动方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说明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缓冲区可以容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个数据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因为缓冲区是有限的，因此当其满了时生产者进程应该等待；当消费者取走一个数据后，应唤醒正在等待的生产者进程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当缓冲区空时，消费者进程应该等待；当生产者向缓冲区放入了一个数据时，应唤醒正在等待的消费者进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这就是生产者和消费者之间的同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说明（续）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每次写入和读出数据时，都将读和写指针加一。当指针到达缓冲区尾，重新将指针退回起点；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为简单起见，每次产生的数据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0-9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整数，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开始，顺序递增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两个进程的调度是通过运行者使用键盘来实现的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使用的数据结构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控制块：包括进程名，进程状态和执行次数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缓冲区：一个整数数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缓冲区说明块：包括类型，读指针，写指针，读等待指针和写等待指针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4" descr="CFGANI"/>
          <p:cNvPicPr/>
          <p:nvPr/>
        </p:nvPicPr>
        <p:blipFill>
          <a:blip r:embed="rId4"/>
          <a:stretch/>
        </p:blipFill>
        <p:spPr>
          <a:xfrm>
            <a:off x="2590920" y="5029200"/>
            <a:ext cx="40957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目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185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熟悉和掌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基本命令，熟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编程环境，为以后的实验打下基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启动、退出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显示目录内容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文件或目录的复制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v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文件、目录更名或移动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r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删除文件或目录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kdi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创建目录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rmdi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删除空目录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改变工作目录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语言编辑、编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使用说明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启动程序后，如果使用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键则运行一次生产者进程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键则运行一次消费者进程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键则退出程序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通过屏幕可以观察到两个进程的状态和缓冲区变化的情况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book_page_flip_md_clr"/>
          <p:cNvPicPr/>
          <p:nvPr/>
        </p:nvPicPr>
        <p:blipFill>
          <a:blip r:embed="rId5"/>
          <a:stretch/>
        </p:blipFill>
        <p:spPr>
          <a:xfrm>
            <a:off x="6948360" y="4678200"/>
            <a:ext cx="15066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预习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185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初步理解的程序流程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拟修改、补充的源程序，指出原来程序错误所在，并说明程序中拟加入的功能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新加功能预期运行结果的说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boy_math_md_clr"/>
          <p:cNvPicPr/>
          <p:nvPr/>
        </p:nvPicPr>
        <p:blipFill>
          <a:blip r:embed="rId5"/>
          <a:stretch/>
        </p:blipFill>
        <p:spPr>
          <a:xfrm>
            <a:off x="3809880" y="48769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流程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最终运行的源程序及修改、补充的说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运行结果及其说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pullcart_library_book_open_md_clr"/>
          <p:cNvPicPr/>
          <p:nvPr/>
        </p:nvPicPr>
        <p:blipFill>
          <a:blip r:embed="rId5"/>
          <a:stretch/>
        </p:blipFill>
        <p:spPr>
          <a:xfrm>
            <a:off x="617220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4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：进程的管道通信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295280" y="4343040"/>
            <a:ext cx="68580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编程实现进程的管道通信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目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加深对进程概念的理解，明确进程和程序的区别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进程创建的过程，进一步认识并发执行的实质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析进程争用资源的现象，学习解决进程互斥的方法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解决进程同步的方法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掌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进程间通过管道通信的具体实现方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基本概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的概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与程序的区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并发执行的概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互斥的概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通信的基本原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调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设置系统调用号：设置多条系统调用命令，并赋予每条系统调用命令一个唯一的系统调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调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处理系统调用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中有一张系统调用入口表，表中每个表目对应一条系统调用命令，包含该系统调用自带参数的数目、系统调用命令处理程序的入口地址等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核便是根据所输入的系统调用号在该表中查找到相应的系统调用，进而转入它的入口地址去执行系统调用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的系统调用机制：通过中断机制实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62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相关函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Fork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创建一个新进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格式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nt fork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正确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创建子进程，从子进程返回的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&gt;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从父进程返回的子进程的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错误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=-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创建失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由于父进程和子进程分别独立地进入就绪队列等待调度，所以谁首先得到调度是不确定的，因此，谁首先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fork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、继续执行后面的语句也是不确定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相关函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wait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控制父进程与子进程的同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父进程调用该函数，则父进程被阻塞，进入等待队列，等待子进程结束。子进程结束时，产生一个终止状态字，系统向父进程发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IGCHIL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信号。当接到信号后，父进程提取子进程的终止状态字，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wait(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函数返回继续执行原来的程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格式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#include &lt;sys/type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#include &lt;sys/wait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pid_t) wait (int *statloc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正确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&gt;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子进程的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；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其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错误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=-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调用失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相关函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xit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结束进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正常终止时，该函数返回进程结束状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格式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void exit (int statu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tatu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进程结束状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Kill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删除执行中的进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格式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kill (int PID, int II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要被杀死的进程号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向被杀死的进程发送的中断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8984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熟练掌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基本文件命令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掌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编辑程序、对源代码进行编译、连接、运行及调试的过程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认真做好预习，书写预习报告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实验完成后要认真总结、完成实验报告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相关函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signal()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：允许调用进程控制软中断信号的处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调用格式：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#include &lt;signal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int sig; 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pipe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创建一个管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格式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#include &lt;unistd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pipe (int fp[2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fp[2]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是供进程使用的文件描述符数组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fp[1]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用于写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fp[0]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用于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正确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调用成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错误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调用失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相关函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sleep()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：睡眠等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lockf(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管道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ID,LID,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LID=1</a:t>
            </a: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，实现对管道的加锁操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LID=0</a:t>
            </a: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，解除管道的锁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read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write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sprintf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内容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系统调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ipe(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建立一条管道线，两个子进程分别向管道写一句话（写的内容自己定，但要有该进程的一些信息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父进程从管道中读出来自两个子进程的消息，显示在屏幕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要求：父进程首先接收子进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发来的消息，然后再接收子进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发来的消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参考流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986280" y="85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创建管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671480" y="14637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创建子进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062000" y="1996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锁定管道写入端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fd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1519200" y="2554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向管道写消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833400" y="31305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解除对写入端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fd[1]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锁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833400" y="372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等待父进程从管道读消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862600" y="14493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创建子进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5253120" y="1982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锁定管道写入端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d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710320" y="25401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向管道写消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5024520" y="31161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解除对写入端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d[1]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的锁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5024520" y="3711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等待父进程从管道读消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271680" y="439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从管道读消息并显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757680" y="49118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子进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终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3757680" y="5425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子进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终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3833640" y="5940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父进程终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4638600" y="70632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21"/>
          <p:cNvSpPr/>
          <p:nvPr/>
        </p:nvSpPr>
        <p:spPr>
          <a:xfrm>
            <a:off x="4643280" y="1235160"/>
            <a:ext cx="0" cy="152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22"/>
          <p:cNvSpPr/>
          <p:nvPr/>
        </p:nvSpPr>
        <p:spPr>
          <a:xfrm>
            <a:off x="2614680" y="1397160"/>
            <a:ext cx="4038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2614680" y="1387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24"/>
          <p:cNvSpPr/>
          <p:nvPr/>
        </p:nvSpPr>
        <p:spPr>
          <a:xfrm>
            <a:off x="6638760" y="1387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2624040" y="183024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26"/>
          <p:cNvSpPr/>
          <p:nvPr/>
        </p:nvSpPr>
        <p:spPr>
          <a:xfrm>
            <a:off x="2600280" y="236844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27"/>
          <p:cNvSpPr/>
          <p:nvPr/>
        </p:nvSpPr>
        <p:spPr>
          <a:xfrm>
            <a:off x="2600280" y="291132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28"/>
          <p:cNvSpPr/>
          <p:nvPr/>
        </p:nvSpPr>
        <p:spPr>
          <a:xfrm>
            <a:off x="2600280" y="353520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6653160" y="180180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30"/>
          <p:cNvSpPr/>
          <p:nvPr/>
        </p:nvSpPr>
        <p:spPr>
          <a:xfrm>
            <a:off x="6629400" y="234000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6629400" y="288288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>
            <a:off x="6629400" y="350676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2600280" y="4102200"/>
            <a:ext cx="0" cy="152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>
            <a:off x="6638760" y="4073400"/>
            <a:ext cx="0" cy="152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35"/>
          <p:cNvSpPr/>
          <p:nvPr/>
        </p:nvSpPr>
        <p:spPr>
          <a:xfrm>
            <a:off x="2585880" y="4240080"/>
            <a:ext cx="403884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4667400" y="4707000"/>
            <a:ext cx="0" cy="304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38"/>
          <p:cNvSpPr/>
          <p:nvPr/>
        </p:nvSpPr>
        <p:spPr>
          <a:xfrm>
            <a:off x="4667400" y="529272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39"/>
          <p:cNvSpPr/>
          <p:nvPr/>
        </p:nvSpPr>
        <p:spPr>
          <a:xfrm>
            <a:off x="4672080" y="5807160"/>
            <a:ext cx="0" cy="304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40"/>
          <p:cNvSpPr/>
          <p:nvPr/>
        </p:nvSpPr>
        <p:spPr>
          <a:xfrm>
            <a:off x="4686480" y="629280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Group 44"/>
          <p:cNvGrpSpPr/>
          <p:nvPr/>
        </p:nvGrpSpPr>
        <p:grpSpPr>
          <a:xfrm>
            <a:off x="2971800" y="2687760"/>
            <a:ext cx="3351960" cy="228240"/>
            <a:chOff x="2971800" y="2687760"/>
            <a:chExt cx="3351960" cy="228240"/>
          </a:xfrm>
        </p:grpSpPr>
        <p:sp>
          <p:nvSpPr>
            <p:cNvPr id="301" name="AutoShape 42"/>
            <p:cNvSpPr/>
            <p:nvPr/>
          </p:nvSpPr>
          <p:spPr>
            <a:xfrm>
              <a:off x="2971800" y="2750040"/>
              <a:ext cx="737640" cy="165960"/>
            </a:xfrm>
            <a:prstGeom prst="rightArrow">
              <a:avLst>
                <a:gd name="adj1" fmla="val 50000"/>
                <a:gd name="adj2" fmla="val 11111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AutoShape 43"/>
            <p:cNvSpPr/>
            <p:nvPr/>
          </p:nvSpPr>
          <p:spPr>
            <a:xfrm>
              <a:off x="5480640" y="2687760"/>
              <a:ext cx="843120" cy="165960"/>
            </a:xfrm>
            <a:prstGeom prst="leftArrow">
              <a:avLst>
                <a:gd name="adj1" fmla="val 50000"/>
                <a:gd name="adj2" fmla="val 12700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Group 50"/>
          <p:cNvGrpSpPr/>
          <p:nvPr/>
        </p:nvGrpSpPr>
        <p:grpSpPr>
          <a:xfrm>
            <a:off x="3624120" y="1468440"/>
            <a:ext cx="2014560" cy="2690640"/>
            <a:chOff x="3624120" y="1468440"/>
            <a:chExt cx="2014560" cy="2690640"/>
          </a:xfrm>
        </p:grpSpPr>
        <p:sp>
          <p:nvSpPr>
            <p:cNvPr id="304" name="Line 36"/>
            <p:cNvSpPr/>
            <p:nvPr/>
          </p:nvSpPr>
          <p:spPr>
            <a:xfrm>
              <a:off x="4714920" y="3930480"/>
              <a:ext cx="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46"/>
            <p:cNvSpPr/>
            <p:nvPr/>
          </p:nvSpPr>
          <p:spPr>
            <a:xfrm>
              <a:off x="3624120" y="1468440"/>
              <a:ext cx="1981440" cy="205740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Text Box 47"/>
            <p:cNvSpPr/>
            <p:nvPr/>
          </p:nvSpPr>
          <p:spPr>
            <a:xfrm>
              <a:off x="3762360" y="154476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</a:rPr>
                <a:t>将消息输入变量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outpi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Text Box 48"/>
            <p:cNvSpPr/>
            <p:nvPr/>
          </p:nvSpPr>
          <p:spPr>
            <a:xfrm>
              <a:off x="3657600" y="25830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</a:rPr>
                <a:t>将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outpipe</a:t>
              </a: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</a:rPr>
                <a:t>的内容写入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fd[1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49"/>
            <p:cNvSpPr/>
            <p:nvPr/>
          </p:nvSpPr>
          <p:spPr>
            <a:xfrm>
              <a:off x="4614840" y="2306520"/>
              <a:ext cx="0" cy="381240"/>
            </a:xfrm>
            <a:prstGeom prst="line">
              <a:avLst/>
            </a:prstGeom>
            <a:ln w="1908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Rectangle 51"/>
          <p:cNvSpPr/>
          <p:nvPr/>
        </p:nvSpPr>
        <p:spPr>
          <a:xfrm>
            <a:off x="2133720" y="3678120"/>
            <a:ext cx="4952880" cy="60984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从管道读取端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d[0]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读出消息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i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52"/>
          <p:cNvSpPr/>
          <p:nvPr/>
        </p:nvSpPr>
        <p:spPr>
          <a:xfrm>
            <a:off x="2438280" y="4363920"/>
            <a:ext cx="4343400" cy="60984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ipe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中的消息显示到屏幕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这是一个设计型实验，要求自行、独立编制程序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两个子进程要并发执行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实现管道的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互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。当一个子进程正在对管道进行写操作时，另一个欲写入管道的子进程必须等待。 使用系统调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ockf(fd[1],1,0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实现对管道的加锁操作，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ockf(fd[1],0,0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解除对管道的锁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实现父子进程的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同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，当父进程试图从一空管道中读取数据时，便进入等待状态，直到子进程将数据写入管道返回后，才将其唤醒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预习报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、目的、要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规范的程序流程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编制的源程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拟运行结果及说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宋体"/>
              </a:rPr>
              <a:t>查找相关函数的格式、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boy_math_md_clr"/>
          <p:cNvPicPr/>
          <p:nvPr/>
        </p:nvPicPr>
        <p:blipFill>
          <a:blip r:embed="rId6"/>
          <a:stretch/>
        </p:blipFill>
        <p:spPr>
          <a:xfrm>
            <a:off x="3809880" y="47242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报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、目的、要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修改后的程序流程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调试正确的源程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运行结果及说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回答问题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间的互斥表现在哪里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间的同步表现在哪里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你的程序采用什么方法实现上述关系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pullcart_library_book_open_md_clr"/>
          <p:cNvPicPr/>
          <p:nvPr/>
        </p:nvPicPr>
        <p:blipFill>
          <a:blip r:embed="rId6"/>
          <a:stretch/>
        </p:blipFill>
        <p:spPr>
          <a:xfrm>
            <a:off x="6553080" y="304812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62085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5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：页面置换算法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900000" y="4365720"/>
            <a:ext cx="777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116000" y="4724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编程实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F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RU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算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目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一步理解父子进程之间的关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理解内存页面调度的机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掌握页面置换算法的实现方法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通过实验比较不同调度算法的优劣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培养综合运用所学知识的能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  <a:ea typeface="宋体"/>
              </a:rPr>
              <a:t>页面置换算法是虚拟存储管理实现的关键，通过本次试验理解内存页面调度的机制，在模拟实现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  <a:ea typeface="宋体"/>
              </a:rPr>
              <a:t>FIFO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  <a:ea typeface="宋体"/>
              </a:rPr>
              <a:t>LRU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  <a:ea typeface="宋体"/>
              </a:rPr>
              <a:t>等经典页面置换算法的基础上，比较各种置换算法的效率及优缺点，从而了解虚拟存储实现的过程。将不同的置换算法放在不同的子进程中加以模拟，培养综合运用所学知识的能力。</a:t>
            </a:r>
            <a:r>
              <a:rPr b="1" lang="zh-CN" sz="2800" spc="-1" strike="noStrike">
                <a:solidFill>
                  <a:srgbClr val="ffcc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这是一个综合型实验，要求在掌握父子进程并发执行机制和内存页面置换算法的基础上，能综合运用这两方面的知识，自行编制程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涉及一个父进程和两个子进程。父进程使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rand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函数随机产生若干随机数，经过处理后，存于一数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cess_Series[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中，作为内存页面访问的序列。两个子进程根据这个访问序列，分别采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FIF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R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两种不同的页面置换算法对内存页面进行调度。要求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预习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对所要熟悉和掌握的命令的理解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境下编制、调试源程序的过程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boy_math_md_clr"/>
          <p:cNvPicPr/>
          <p:nvPr/>
        </p:nvPicPr>
        <p:blipFill>
          <a:blip r:embed="rId4"/>
          <a:stretch/>
        </p:blipFill>
        <p:spPr>
          <a:xfrm>
            <a:off x="3809880" y="41497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7724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每个子进程应能反映出页面置换的过程，并统计页面置换算法的命中或缺页情况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设缺页的次数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iseffec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。总的页面访问次数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otal_instructi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缺页率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= disaffect/total_instru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命中率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= 1- disaffect/total_instru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将为进程分配的内存页面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fra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作为程序的参数，通过多次运行程序，说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IF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算法存在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ela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现象。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的系统调用或函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5690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ork()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用于创一个子进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格式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nt fork(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值：在子进程中返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；在父进程中返回所创建的子进程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值；当返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-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，创建失败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wait()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来控制父进程与子进程的同步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在父进程中调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wait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，则父进程被阻塞，进入等待队列，等待子进程结束。当子进程结束时，父进程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wait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继续执行原来的程序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值：大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，为子进程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值；等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-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，调用失败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的系统调用或函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xit()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是进程结束时最常调用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格式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oid exit( int status);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中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tatu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为进程结束状态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leep()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进程睡眠若干时间，之后唤醒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格式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leep(int t);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为睡眠时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and()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一个随机整数。需要包含文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stdlib.h&gt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主要数据结构（仅供参考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存放页面访问序列的数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Acess_Series[total_instruction]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一个结构数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记录为进程分配的内存页面的使用情况。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中还可记载各页面进入内存或被访问的先后顺序（如可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0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总是最先进入或最久未被访问的页面）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truct one_fram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nt page_n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har flag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}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truct one_frame M_Frame[frame_num];  /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4876920" y="4191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me_nu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给一个进程分配的最大的内存页面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流程（仅供参考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父进程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随机产生内存访问页面序列，存于数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cess_Series[total_instruction]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中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数据结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初始化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别创建两个子进程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等待子进程执行结束，退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流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010880"/>
            <a:ext cx="881244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936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子进程：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81080"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读页面访问序列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Acess_Series[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若序列中已无下一个元素，转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）；否则取出序列中的下一个元素作为下次要访问的页面；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81080"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如果待访问的页面在内存中（即在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中找到），则不发生缺页，命中率加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转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)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注意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LRU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算法中要调整该页在数组中的位置；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81080"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否则就要将这页调入内存，通过修改相应的数据结构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反映出来。首先看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中有无空闲页面，如果有，将待访问页面的页号以及被占用的信息写入数组中适当位置，如要统计缺页情况，缺页次数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diseffect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加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返回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）；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81080"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如果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中的所有页面均被占满，则淘汰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0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装入待访问页，重新调整各页面在数组中的位置。如要统计缺页情况，缺页次数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diseffect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加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返回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）；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81080"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所有页面均已访问完成，统计命中率或缺页率；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预习报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初步的程序流程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初步的程序源代码、文档注释及必要的文字说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预期的程序运行结果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4" descr="boy_math_md_clr"/>
          <p:cNvPicPr/>
          <p:nvPr/>
        </p:nvPicPr>
        <p:blipFill>
          <a:blip r:embed="rId5"/>
          <a:stretch/>
        </p:blipFill>
        <p:spPr>
          <a:xfrm>
            <a:off x="6705720" y="43434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报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内容，要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流程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源代码、文档注释及文字说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运行结果及其说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回答以下问题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父进程空间与子进程空间的关系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通过完成实验，根据你的体会，阐述虚拟存储器的原理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写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FIF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算法中出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elad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现象的内存页面访问序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4"/>
          <p:cNvSpPr txBox="1"/>
          <p:nvPr/>
        </p:nvSpPr>
        <p:spPr>
          <a:xfrm>
            <a:off x="1042920" y="1484280"/>
            <a:ext cx="698508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Thank You Very Much!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45" name="Picture 5" descr="tea_steaming_md_clr"/>
          <p:cNvPicPr/>
          <p:nvPr/>
        </p:nvPicPr>
        <p:blipFill>
          <a:blip r:embed="rId3"/>
          <a:stretch/>
        </p:blipFill>
        <p:spPr>
          <a:xfrm>
            <a:off x="3635280" y="3357720"/>
            <a:ext cx="2232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629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通过实验，掌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命令及其含义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境下编制、调试源程序的实际过程（每一步的具体说明 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pullcart_library_book_open_md_clr"/>
          <p:cNvPicPr/>
          <p:nvPr/>
        </p:nvPicPr>
        <p:blipFill>
          <a:blip r:embed="rId4"/>
          <a:stretch/>
        </p:blipFill>
        <p:spPr>
          <a:xfrm>
            <a:off x="617220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24160" y="1904760"/>
            <a:ext cx="49118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2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：进程状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42560" y="4508640"/>
            <a:ext cx="7193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模拟进程状态转换及其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PC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的变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目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自行编制模拟程序，通过形象化的状态显示，使学生理解进程的概念、进程之间的状态转换及其所带来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C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容 、组织的变化，理解进程与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C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间的一一对应关系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pencil_rolling_md_clr"/>
          <p:cNvPicPr/>
          <p:nvPr/>
        </p:nvPicPr>
        <p:blipFill>
          <a:blip r:embed="rId2"/>
          <a:stretch/>
        </p:blipFill>
        <p:spPr>
          <a:xfrm>
            <a:off x="3708360" y="4653000"/>
            <a:ext cx="25923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设计并实现一个模拟进程状态转换及其相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C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组织结构变化的程序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独立设计、编写、调试程序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界面应能反映出在模拟条件下，进程之间状态转换及其对应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C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组织的变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（续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424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的状态模型（三状态、五状态、七状态或其它）可自行选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Group 38"/>
          <p:cNvGrpSpPr/>
          <p:nvPr/>
        </p:nvGrpSpPr>
        <p:grpSpPr>
          <a:xfrm>
            <a:off x="1150920" y="3068640"/>
            <a:ext cx="6676920" cy="3752280"/>
            <a:chOff x="1150920" y="3068640"/>
            <a:chExt cx="6676920" cy="3752280"/>
          </a:xfrm>
        </p:grpSpPr>
        <p:sp>
          <p:nvSpPr>
            <p:cNvPr id="115" name="Rectangle 11"/>
            <p:cNvSpPr/>
            <p:nvPr/>
          </p:nvSpPr>
          <p:spPr>
            <a:xfrm>
              <a:off x="1150920" y="3068640"/>
              <a:ext cx="6676920" cy="32454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fcf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2145240" y="3263040"/>
              <a:ext cx="4954320" cy="2921040"/>
              <a:chOff x="2145240" y="3263040"/>
              <a:chExt cx="4954320" cy="2921040"/>
            </a:xfrm>
          </p:grpSpPr>
          <p:sp>
            <p:nvSpPr>
              <p:cNvPr id="117" name="Oval 13"/>
              <p:cNvSpPr/>
              <p:nvPr/>
            </p:nvSpPr>
            <p:spPr>
              <a:xfrm>
                <a:off x="2145240" y="5405040"/>
                <a:ext cx="1349640" cy="778680"/>
              </a:xfrm>
              <a:prstGeom prst="ellipse">
                <a:avLst/>
              </a:prstGeom>
              <a:solidFill>
                <a:srgbClr val="2663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Oval 14"/>
              <p:cNvSpPr/>
              <p:nvPr/>
            </p:nvSpPr>
            <p:spPr>
              <a:xfrm>
                <a:off x="3849840" y="3263040"/>
                <a:ext cx="1491480" cy="843840"/>
              </a:xfrm>
              <a:prstGeom prst="ellipse">
                <a:avLst/>
              </a:prstGeom>
              <a:solidFill>
                <a:srgbClr val="2663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5625720" y="5275440"/>
                <a:ext cx="1420560" cy="908640"/>
              </a:xfrm>
              <a:prstGeom prst="ellipse">
                <a:avLst/>
              </a:prstGeom>
              <a:solidFill>
                <a:srgbClr val="2663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Text Box 16"/>
              <p:cNvSpPr/>
              <p:nvPr/>
            </p:nvSpPr>
            <p:spPr>
              <a:xfrm>
                <a:off x="3934080" y="3330360"/>
                <a:ext cx="14205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运行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Runnin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Text Box 17"/>
              <p:cNvSpPr/>
              <p:nvPr/>
            </p:nvSpPr>
            <p:spPr>
              <a:xfrm>
                <a:off x="2313720" y="5455080"/>
                <a:ext cx="11361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就绪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Read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Text Box 18"/>
              <p:cNvSpPr/>
              <p:nvPr/>
            </p:nvSpPr>
            <p:spPr>
              <a:xfrm>
                <a:off x="5679000" y="5411880"/>
                <a:ext cx="14205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等待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Blocke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19"/>
            <p:cNvGrpSpPr/>
            <p:nvPr/>
          </p:nvGrpSpPr>
          <p:grpSpPr>
            <a:xfrm>
              <a:off x="2587320" y="3823200"/>
              <a:ext cx="1475280" cy="1491840"/>
              <a:chOff x="2587320" y="3823200"/>
              <a:chExt cx="1475280" cy="1491840"/>
            </a:xfrm>
          </p:grpSpPr>
          <p:sp>
            <p:nvSpPr>
              <p:cNvPr id="124" name="Line 20"/>
              <p:cNvSpPr/>
              <p:nvPr/>
            </p:nvSpPr>
            <p:spPr>
              <a:xfrm flipV="1">
                <a:off x="2784240" y="3952440"/>
                <a:ext cx="1278360" cy="1362600"/>
              </a:xfrm>
              <a:prstGeom prst="line">
                <a:avLst/>
              </a:prstGeom>
              <a:ln w="38160">
                <a:solidFill>
                  <a:srgbClr val="2663a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Text Box 21"/>
              <p:cNvSpPr/>
              <p:nvPr/>
            </p:nvSpPr>
            <p:spPr>
              <a:xfrm>
                <a:off x="3353040" y="3823200"/>
                <a:ext cx="54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Wingdings 2"/>
                    <a:ea typeface="Wingdings 2"/>
                  </a:rPr>
                  <a:t>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 rot="18772200">
                <a:off x="2536920" y="4443480"/>
                <a:ext cx="1152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spatc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23"/>
            <p:cNvGrpSpPr/>
            <p:nvPr/>
          </p:nvGrpSpPr>
          <p:grpSpPr>
            <a:xfrm>
              <a:off x="3201840" y="4033800"/>
              <a:ext cx="1525320" cy="1298160"/>
              <a:chOff x="3201840" y="4033800"/>
              <a:chExt cx="1525320" cy="1298160"/>
            </a:xfrm>
          </p:grpSpPr>
          <p:sp>
            <p:nvSpPr>
              <p:cNvPr id="128" name="Line 24"/>
              <p:cNvSpPr/>
              <p:nvPr/>
            </p:nvSpPr>
            <p:spPr>
              <a:xfrm flipH="1">
                <a:off x="3201840" y="4033800"/>
                <a:ext cx="1136160" cy="1298160"/>
              </a:xfrm>
              <a:prstGeom prst="line">
                <a:avLst/>
              </a:prstGeom>
              <a:ln w="38160">
                <a:solidFill>
                  <a:srgbClr val="2663a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Text Box 25"/>
              <p:cNvSpPr/>
              <p:nvPr/>
            </p:nvSpPr>
            <p:spPr>
              <a:xfrm>
                <a:off x="4186800" y="4033800"/>
                <a:ext cx="54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Wingdings 2"/>
                    <a:ea typeface="Wingdings 2"/>
                  </a:rPr>
                  <a:t>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 rot="18476400">
                <a:off x="3386880" y="4554360"/>
                <a:ext cx="1102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imeou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27"/>
            <p:cNvGrpSpPr/>
            <p:nvPr/>
          </p:nvGrpSpPr>
          <p:grpSpPr>
            <a:xfrm>
              <a:off x="4984200" y="3977280"/>
              <a:ext cx="1366920" cy="1233360"/>
              <a:chOff x="4984200" y="3977280"/>
              <a:chExt cx="1366920" cy="1233360"/>
            </a:xfrm>
          </p:grpSpPr>
          <p:sp>
            <p:nvSpPr>
              <p:cNvPr id="132" name="Line 28"/>
              <p:cNvSpPr/>
              <p:nvPr/>
            </p:nvSpPr>
            <p:spPr>
              <a:xfrm>
                <a:off x="5199480" y="3977280"/>
                <a:ext cx="994320" cy="1233360"/>
              </a:xfrm>
              <a:prstGeom prst="line">
                <a:avLst/>
              </a:prstGeom>
              <a:ln w="38160">
                <a:solidFill>
                  <a:srgbClr val="2663a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Text Box 29"/>
              <p:cNvSpPr/>
              <p:nvPr/>
            </p:nvSpPr>
            <p:spPr>
              <a:xfrm>
                <a:off x="4984200" y="3977280"/>
                <a:ext cx="55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Wingdings 2"/>
                    <a:ea typeface="Wingdings 2"/>
                  </a:rPr>
                  <a:t>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 rot="3130800">
                <a:off x="5591160" y="436716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 rot="3139800">
                <a:off x="5226120" y="4566600"/>
                <a:ext cx="645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ai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32"/>
            <p:cNvGrpSpPr/>
            <p:nvPr/>
          </p:nvGrpSpPr>
          <p:grpSpPr>
            <a:xfrm>
              <a:off x="3565440" y="5275440"/>
              <a:ext cx="1989000" cy="960120"/>
              <a:chOff x="3565440" y="5275440"/>
              <a:chExt cx="1989000" cy="960120"/>
            </a:xfrm>
          </p:grpSpPr>
          <p:sp>
            <p:nvSpPr>
              <p:cNvPr id="137" name="Line 33"/>
              <p:cNvSpPr/>
              <p:nvPr/>
            </p:nvSpPr>
            <p:spPr>
              <a:xfrm flipH="1">
                <a:off x="3565440" y="5859360"/>
                <a:ext cx="1989000" cy="1080"/>
              </a:xfrm>
              <a:prstGeom prst="line">
                <a:avLst/>
              </a:prstGeom>
              <a:ln w="38160">
                <a:solidFill>
                  <a:srgbClr val="2663a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Text Box 34"/>
              <p:cNvSpPr/>
              <p:nvPr/>
            </p:nvSpPr>
            <p:spPr>
              <a:xfrm>
                <a:off x="3635640" y="5275440"/>
                <a:ext cx="5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Wingdings 2"/>
                    <a:ea typeface="Wingdings 2"/>
                  </a:rPr>
                  <a:t>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 rot="21525000">
                <a:off x="4204080" y="546948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 rot="21525600">
                <a:off x="4132440" y="5859000"/>
                <a:ext cx="933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ccur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37"/>
            <p:cNvSpPr/>
            <p:nvPr/>
          </p:nvSpPr>
          <p:spPr>
            <a:xfrm>
              <a:off x="3099600" y="6300360"/>
              <a:ext cx="326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基本状态间的转换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10:16Z</dcterms:created>
  <dc:creator>ll</dc:creator>
  <dc:description/>
  <dc:language>en-US</dc:language>
  <cp:lastModifiedBy>lenovo</cp:lastModifiedBy>
  <dcterms:modified xsi:type="dcterms:W3CDTF">2015-05-15T07:36:53Z</dcterms:modified>
  <cp:revision>25</cp:revision>
  <dc:subject/>
  <dc:title>实验2：进程同步和通信 </dc:title>
</cp:coreProperties>
</file>