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7D2-7E31-43C9-AD9C-4575751D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F1D-C64D-437F-972E-AB264C1A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11D-9312-4851-A48E-2059FE4A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4DA-CBE6-4033-BE80-C9AB4B1E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403C-884F-4A50-852A-07506B4E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7E6A-FD1C-4BB0-B4FF-11B73DF7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4D1-BC5C-4A22-982E-0F21512E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D833-1DF2-4F71-BCD7-DCB14D76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6085-8CD3-4EBF-98F5-4CCA4159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550C-DA88-42EA-BBD6-BBCD95B4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7341-91A6-4547-B9AF-4B57DA40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D00-6B8E-4E06-A6DB-F39F5256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D3E0-AB3A-4A6B-B0B4-E7B245DD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00FB-CD01-4578-9856-5068F9D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4414-7056-4210-9FFB-F54296EA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60ED-03FC-4BE5-96C5-0C58D8DC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B1E1-7281-4F55-846B-1544DC3B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383-38D5-4334-917F-3170AD2A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E55-736F-48F3-9382-B45857FD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208-6E6A-4A73-84D9-7FFE3465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D7C-F226-44EB-8DA1-9CFCEEDD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88F-45BE-44A3-A09E-BDE63035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07B-A3BA-4273-B535-8231F69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2DE-E4AE-42C1-B7D1-C5E14B86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288D-59F7-4910-BC02-356ABB9F913A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6FBB-78E3-4C2E-8134-25788A1007FA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31F4-E7B8-4467-85AF-8C53DAB2CF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ão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rviç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: 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rviç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alguma tarefa que uma entidade de software realiza para outra. Um serviço é composto de sua especificação e de seu mét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ção: define o que o serviço realiza, além de documentar as informações que são necessárias para a sua re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: corresponde ao modo de realizar um serviço. Dada a especificação de um serviço, podem existir diversos métodos para realizá-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7CF-9F5A-4D82-8FE7-94D3BC5779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interface corresponde a um conjunto especificações de serviç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elhante ao conceito de classe abstrata (possui um nome, não gera instânci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, uma interface não contém estrutura interna (atributos e associaçõ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todas as operações (serviços) de uma interface só possuem especificações; o método não é definido na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7E7-0B5A-4471-A902-A1EC01870D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ceito de interface está relacionado a outro conceito da UML: 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ificado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ificador: uma entidade de software que implementa os métodos dos serviços especificados em um ou mais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UML, classificador é um nome genérico que pode deno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sub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A35-02CD-4C8F-827B-4F33163403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lassificador possui comportamento, ou seja, implementa um conjunto de oper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avés de suas op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lassificador pode fornecer serviços para outros classific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 também pode utilizar serviços desses últ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m classificador implementa uma ou mais operações especificadas em uma interface, diz-se que o classificador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liz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487-153B-44BF-BDAF-5C57A0E100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interface funciona como um nível adicional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ndireçã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rnando o sistema mais flexível a mudanç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nha que Ca utiliza serviços de Cb1 através de uma interface IC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novo classificador Cb2, que também realiza ICb for desenvolvido, este pode substituir Cb1 sem que Ca precise sofrer modific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ificadores podem ser substituídos sem causar modificações em seus cl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96C-941D-4448-ADB4-74719CDE0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, 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6192720" cy="2487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14400" y="1600200"/>
            <a:ext cx="77724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imeira notação é a mesma para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exibidas as operações que a interface especi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ser usado o estereótipo &lt;&lt;interface&gt;&gt;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AB5-33C6-41EA-A9EC-FEED59A02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, 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1320" y="4005360"/>
            <a:ext cx="4595760" cy="2101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nda notação: através de um segmento de reta com um pequeno círculo em um dos extremos e ligado ao classificador que a realiza no outro extre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clientes conectadas à interface através de um relacionamento de depend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CE4-10A1-4F03-8C9E-CD72E8B622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ubsistema é um classificador que corresponde a um agrupamento d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do um tipo de classificador, um subsistema realiza uma ou mais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UML, um subsistema é representado como um pacote com o estereótipo &lt;&lt;subsistema&gt;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ortante: subsistemas podem realizar interfaces enquanto que pacotes são somente mecanismos de agrup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construir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agrama de subsistemas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é um diagrama de pacotes onde no qual todos os pacotes são sub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EA0-7309-416C-9A36-F5DF9F5B9C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lasses a 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desenvolvimento de um sistema orientado a objetos, seus subsistemas devem ser identificados, juntamente com as interfaces entre 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lasse do sistema é então alocada aos sub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nalmente, um diagrama de subsistemas é construí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vez feita a sua identificação e a definição de sua interface, cada subsistema pode ser desenvolvido quase que de forma independente um do ou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AC4-6ECF-4625-A1D9-FF96E2C267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lasses a 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 de classes de domínio: ponto de partida para a identificação dos sub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lasses devem ser agrupadas segundo algum critério para formar sub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ritério de agrupamento possível:  considerar as classes mais importantes do modelo de classes de domí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ada uma dessas classes, um subsistema é cr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s classes menos importantes e relacionadas a uma classe considerada importante são posicionadas no subsistema desta úl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60C-3B64-47E8-BFED-5D0F4EA67F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12</a:t>
            </a: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Decompondo o Sistem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One of these days I’m going to cut you into little pie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EDDLE, Pink Floy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9208-A03E-41D7-B738-C1B849460D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lasses a 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outro lado, na fase especific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das classes do modelo de domínio podem sofrer decomposições adicionais, o que resulta em novas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que uma classe de domínio seja ela própria um sub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essas classes forem criadas, elas são adicionadas aos subsistemas pré-defi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1D0-BC60-418C-8BE7-71381CDABC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icas para a definição de subsistem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 devem ser minimamente acop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 devem ser maximamente coes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endências cíclicas entre subsistemas devem ser evi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lternativa para eliminar ciclos é quebrar um subsistema pertencente ao ciclo em dois ou mais. Uma outra solução é combinar dois ou mais subsistemas do ciclo em um ú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deve ser definida em um único subsistema (embora possa ser utilizada em vári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ubsistema que define a classe deve mostrar todas as propriedades da me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tros subsistemas que fazem referência a essa classe podem utilizar a notação simplificada da me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4E3-4FC6-4290-BE6F-A732287DB5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os subsistemas e das classes, um outro tipo de classificador é o compo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ogia: chip de memó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mponente eletrônico que pode ser utilizada para construir um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substituído por outro chip mais poderoso que possua a mesma espec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 mesma forma, pode-se pensar em um sistema de software constituído de diversos componentes, elementos que existem a tempo de execução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351-F0C2-4B58-A7D4-905481383D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omponente é uma unidade configurável de software que pode ser utilizada na construção de vários sistemas e que pode ser substituída por outra unidade que forneça a mesma funcion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do um classificador, um componente pode prover acesso aos seus serviços através de uma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icionalmente, um componente fornece serviços a outros componentes do sistema, mas pode também requisitar serviç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34A-BC25-483A-AFD5-D7F10F838A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aração entre classificado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 existem a tempo de implementação e de execução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 são elementos que existem a tempo de modelagem desse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almente há uma correspondência unívoca entre um componente e um subsistema de ori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dizer que o resultado da construção (compilação e ligação) de um subsistema é um 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09E-2310-4645-87FD-BB87A526E9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a diferença é que componentes representam conceitos fís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invés de conceitos lógicos representados por classes e sub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 são o empacotamento físico do sistema: uma única classe pode fornecer objetos para vários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construído segundo o paradigma da OO, um componente é composto de diverso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515-FA74-4BFB-80D5-806177125C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esenvolvimento Baseado em Component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ea ativa de pesquisa, cujo objetivo é a construção de componentes que tenham utilidade em diversas situações, não só no sistema no qual eles foram construí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imento de software passaria a ser cada vez mais baseado n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componentes pré-existentes do que na sua construção e teste de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EDF-5197-4D44-ACE9-94A72BBAB9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uso no Desenvolvimento Baseado em Component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19076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218-C408-4125-9032-806202D2BF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 na U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L: “um componente de software é um módulo, pacote ou subsistema que tem uma função e uma interface claramente definidas e pode ser integrado em um ou mais sistem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 definição engloba a definição considerada pela área de DB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define três tipos de componentes: de execução, de instalação e de trabal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fornece uma notação específica para componentes, apresentada mais adi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18B-D185-4866-BD0B-5EC7B763C5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em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outra forma de organizar a arquitetura de um sistema complexo em partes menores é através de camadas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amada de software, é uma coleção de sub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amada corresponde a um conjunto de funcionalidades de um sistema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cionalidades de alto nível dependem de funcionalidades de baixo ní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madas fornecem um nível de abstração através do agrupamento lógico de subsistemas relacion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11B-AA99-4148-A386-C0F3F2BB11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stões relacionadas à arquitetura de um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um sistema é decomposto em subsistemas, e como as suas classes são dispostas pelos diversos subsiste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subsistemas devem ser dispostos fisicamente quando o sistema tiver de ser implantado? (nós de processa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há uma definição universal sobre o que significa arquitetura de um sist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ção da UML: “Arquitetura de software é a estrutura organizacional do software. Uma arquitetura pode ser recursivamente decomposta em partes que interagem através de interfac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B9D-5991-4CC8-AC74-3A475782A0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em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ípio geral: camadas de abstração mais alta devem depender das camadas de abstração mais baixa, e não o contr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mite que o sistema de software seja mais portável e modificá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mudança em uma camada mais baixa que não afete a sua interface não implicará em mudanças nas camadas mais al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vice-versa, uma mudança em uma camada mais alta que não implica na criação de um novo serviço em uma camada mais baixa não irá afetar estas últ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6E5-76EA-4350-BB80-346FF4B6CB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em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não tem nenhum elemento gráfico pré-específico para representar camadas d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pacotes também podem ser utilizados para representar cam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ereótipo &lt;&lt;camada&gt;&gt; pode ser utilizado no pacote que represente uma c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ato de uma camada utilizar outra pode ser representado por um relacionamento de depend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444-9817-4BED-8D65-48AC3B4DE6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istema cliente-servidor clássico é dividido em duas camadas. A primeira (cliente) requisita serviços à segunda (servido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liente é normalmente responsável pela interface gráfica com o usu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ervidor é normalmente pode servir a diversos clientes para fornecer diversos serviços (segurança, impressão, correio eletrônico, gerenciamento de janelas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81A-3505-4DB0-B4ED-F6FAD2544A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função da sua carga de processamento, um cliente pode ser magro e gor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 magro: boa parte do processamento da lógica da aplicação está no servi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 gordo: contém a interface com o usuário e a maior parte da (ou toda) lógica da aplicação (servidor funciona como um repositório de dad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6CE-1A4A-4780-941F-FE4DCDD0BE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cliente-servidor em duas camadas foram dominantes durante aproximadamente toda a década de 90 e são utilizados até h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sistemas cliente-servidor é vantajosa quando o número de clientes não é tão gra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exemplo, uma centena de clientes interagindo com o servidor através de uma rede l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6AC-8B82-48C9-998C-4EF9017A68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com o surgimento da Internet. Rapidamente, originou-se uma demanda pela construção de sistemas de software que pudessem ser utilizados nesse amb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to causou problemas em relação à estratégia cliente-servidor de duas camadas, principalmente em relação à construção de clientes gor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et: permitir o acesso a variados recursos através de um programa navegador (browser), que não fornece grande suporte à construção daquele tipo de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8F4-7FB0-471F-A239-B50A28A03D8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em três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ução encontrada: adição de um nova camada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construídos segundo essa estratégia são denominad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istemas cliente-servidor em três camad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s camadas normalmente recebem os seguintes no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ada de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ada da lógica d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ada de a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33F-9F54-4CF5-BBDF-19C847FB03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mada de aprese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que contêm funcionalidade para visualização dos dados pelos usu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classes de fronteira para atores humanos se encontram nessa cam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: exibir informações ao usuário e traduzir ações do usuário em requisições às demais parte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camadas de apresenta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sistema de menus baseados em tex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página escrita em HTML ou XHTML com JavaScript apresentada em um navegador de Interne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interface gráfica construída em algum ambiente de programação vis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9C2-434F-4865-83EC-AC4B444D6B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mada da lógica do negóc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denominada camada da lógica da aplicação (servidor de aplica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que implementam as regras do negócio no qual o sistema está para ser impla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essa camada deve decidir que parte da camada de acesso de ser ativada com base em requisições provenientes da camada de aprese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ssa camada, são realizadas computações com base nos dados armazenados ou nos dado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são feitas validações de dados provenientes da camada de apresentação. Classes de controle e as classes de entidade se encontram nesta c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AF1-81FC-4BF9-83D3-F557E7D45E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mada de aces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ém classes que se comunicam com outros sistemas para realizar tarefas ou adquirir informações para 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icamente essa camada é implementada utilizando algum mecanismo de armazenamento persistente (SGB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haver uma subcamada dentro desta camada: a camada de persist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ola o restante do sistema de  modificações no mecanismo de armazenamento pers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D63-344F-451F-82FA-F7E67A80FF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Visão Ger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ões introdutó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c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tetura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cliente-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em três cam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tetura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397-9201-4297-A3B7-CAA4232D8A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a disposição física do sistema de software pelo hardware disponí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ivisão de um sistema em camadas é independente da sua disposição fís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amadas de software podem estar fisicamente localizadas em uma única máquina, ou podem estar distribuídas por diversos process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nativamente, essas camadas podem estar distribuídas fisicamente em vários processadores. (Por exemplo, quando a camada da lógica do negócio é dividida em duas ou mais máquina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B96-3B65-4C52-87D3-5D01A93D65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que representa a arquitetura física é denominad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e implemen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a arquitetura fís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dois tipos de diagramas na UML utilizados para modelar a arquitetura fís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44D-6E48-4ED1-946C-D77EFB88D9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stra os vários componentes de software de um sistema, além das dependências entre estes últi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mentos gráficos desse diagra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58920" y="4071960"/>
            <a:ext cx="7416720" cy="13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9F8-1139-4410-8B74-176CAD97E0D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7056720" cy="2719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diagrama de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276-4BFB-43A5-8FCF-D50ABEACFB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7056360" cy="3276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s alternativas de representação de interfaces de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933-3001-4E2C-B834-372206AF8DA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define diversos estereótipos para compon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executável&gt;&gt;: um componente que pode ser exec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documento&gt;&gt;: um documento. Por exemplo, um manual de instalação ou um manual do usu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tabela&gt;&gt;: uma tabela em um banco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arquivo&gt;&gt;: um arquivo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biblioteca&gt;&gt;: uma biblioteca de objetos ou de funções. Por exemplo, uma DLL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7E6-54C1-4036-97AD-22F5D2CB827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a topologia física do sistema e opcionalmente os componentes que são executados nesta topolo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 um mapeamento entre os componentes de software e o hardware uti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: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nó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nex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nó é uma unidade física que representa um recurso comput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possui uma memória e alguma capacidade de process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 processadores, dispositivos, sensores, roteadores ou qualquer equipamento de importância para o sistema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0BE-3152-4E6F-BA2F-3E18CF7B3F6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ós são conectados uns aos outros através das conex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xões mostram mecanismos de comunicação entre os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ios físicos (cabo coaxial, fibra ótica, etc.) ou protocolos de comunicação (TCP/IP, HTTP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nó é representado através de um cub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 e tipo do nó definidos no interior do cu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intaxe para o nome e o tipo do nó é similar à utilizada para os diagramas de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nto o nome quanto o tipo são op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nexão é representada graficamente por uma linha (estereotipada) ligando dois n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1A3-1692-4532-B101-E95B5D67852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2406600"/>
            <a:ext cx="7265880" cy="33908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diagrama de impla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07E-79FB-4B28-97CD-FE2D24821AB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diagrama de implantação exibindo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859880" cy="276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D73-6102-4BA8-A159-649B2F07BE8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c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mecanismo de agrupamento geral que pode ser utilizado para agrupar vários artefatos de um mode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ação: uma pasta com uma a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eúdo, duas maneiras de representar grafica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exibir o conteúdo dentro do pac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“pendurar” os elementos agrupados no ícone do pac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0AD-01E7-4644-B9D5-D3A5BDBADB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tividade de alocação de componentes aos nós físicos só tem sentido para sistemas distribuí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istemas que utilizam um único processador, não há necessidade desta ativ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os principais objetivos: distribuir a carga de processamento do sistema para aumentar o desempen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ntanto, nem sempre isso aumenta o desempe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porque a sobrecarga de comunicação entre os nós pode anular os ganhos obtidos com a distribuição do process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BE4-1A41-4EC9-A08A-AA39C670531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vio de mensag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“distâ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ntro de um processo executando em um n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e processos no mesmo n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ltrapassa as fronteiras de um nó para ser executada em outra má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tanto, durante a alocação de componentes, o arquiteto de software deve considerar diversos fa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itos desses fatores se sobrepõem ou são incompat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D84-F4B3-4BFF-8D5C-7AA1E189DF4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tores relacionados ao desempen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ção de dis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ga compu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acidade de processamento dos n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ção de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A91-075B-4527-A161-A2C4E0E9CBD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tores não relacionados ao desempen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quisitos não funcionai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ças de plataformas (de hardware ou de sistema operacional) dos componente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s usuários do sistema: leva em conta a localização física dos usuários, que máquinas eles utilizam, como eles estão conectad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 ou benefícios da distribuição das camadas lógica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undância: o mesmo componente pode ter que ser alocado a mais de um n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F9E-6DF9-427E-B490-6AF4AA09F40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 no processo de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os diagramas de componentes é iniciada na fase de elaboração (projeto da arquitetura) e refinada na fase de construção (projeto detalha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diagramas de componentes se justifica para componentes de exec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visualizar as dependências entre os componentes e a utilização de interfaces a tempo de execuçã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distribuído: representar seus componentes utilizando diagramas de impla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30E-5242-4414-9D1F-9C537953099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 no processo de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é recomendável usar diagramas de componentes para representar dependências de compilação entre os elementos do código fonte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ioria dos ambientes de desenvolvimento tem capacidade de manter as dependências entre códigos fonte, códigos objeto, códigos executáveis e páginas d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ó adiciona mais diagramas que terão que ser mantidos e que não terão uma real uti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também vários sistemas de gerenciamento de configurações e de versões de código (e.g, CVS)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409-36F8-49D1-A91F-F40ADA43185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 no processo de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relação ao diagrama de implantação, sua construção tem início na fase de elaboração. Na fase de construção, os componentes são adicionados aos diversos nó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versão do sistema corresponde a uma versão do DI, que exibe os componentes utilizados na construção daquela ver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 deve fazer parte dos manuais para instalação e operacionalizaçã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m todo sistema necessita de diagramas de componentes ou diagramas de impla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simpl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istemas complex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C22-D16E-46C0-A491-6C52C5CC38F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 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92E1-C0B2-4FCC-B284-057A73CFC8D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c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769080" cy="254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0E5-AF57-4C1A-B3A7-060A26ACF2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c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4191120" cy="357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1600200"/>
            <a:ext cx="78343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cotes podem ser agrupados dentro de outros pacotes, formando uma hierarquia de conte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E19-B5F1-4555-993E-B12D612135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acotes, Visibilidad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026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elemento de um pacote pode ter visibilidade pública, protegida ou priv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6243840" cy="157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9EE-5CB2-4A9C-B227-930DEDF970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acotes, Dependênci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haver relacionamentos de dependência entre pac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, pode-se construir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agrama de paco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representa dependências entre pac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acote P1 é dependente de outro, P2, se houver qualquer dependência entre quaisquer dois elementos de P1 e P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66F-BCB9-4945-A4B8-4491C3D99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Eduardo Bezerra</cp:lastModifiedBy>
  <dcterms:modified xsi:type="dcterms:W3CDTF">2003-04-27T14:53:15Z</dcterms:modified>
  <cp:revision>397</cp:revision>
  <dc:subject>Sildes do livro</dc:subject>
  <dc:title>Princípios de Análise e Projeto Orientados a Objetos com UML</dc:title>
</cp:coreProperties>
</file>