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259-F28F-461A-A71E-7B18394A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8FD-597A-4857-AC56-CE0E99E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CAE-7D2E-44F7-9D31-07957D08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A54-928D-470D-B7A1-315BBA62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5D5A-59D6-43E3-897B-BB59638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5A3-E25A-40B1-858B-C80AA926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D58F-DC2B-47ED-A11D-0E8D4F19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F61-6B56-450D-BEED-D883085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AEC0-8BAD-44C7-8EB7-8CE840C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240-15DF-4162-A8A6-FCD5E33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282F-22CF-4FF8-B8D1-C009124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25A-11CA-4E4A-B42C-5BDF3DF8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E160-34E2-493C-9795-6336FD2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BCD4-B4AC-4388-9985-462A27A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6CF-8F34-4176-84C3-D781A50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04E-DBC2-4AFD-8BE5-AF7D8EC7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BA05-2A29-472B-9A5B-1B895009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526-21DB-46E5-9331-15FE9CA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2E1-A30B-4D83-A216-9414012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D91-A102-4603-A4D7-554A8E22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A41-4203-46AD-861A-9C154AF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7B1-2E4F-45C8-B1B7-41402A5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03A-55B7-4895-AB74-7F8798A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375-5378-41F6-BB6A-27C4431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5E1-2C92-42E7-8EF4-415FFA01892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DEB-BF49-4731-85B2-45817F56E97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D9F-6660-4986-855A-998D409DD6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de controle paralelos: dois ou mais fluxos sendo executados simultane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bifur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uma transição de entrada, e cria dois ou mais fluxos de controle paral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fluxo é executado independentemente e em paralelo com os de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jun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duas ou mais transições de entrada e une os fluxos de controle em um único flu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sincronizar fluxos paral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ransição de saída da barra de junção somente é disparada quand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transições de entrada tiverem sido dispa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AC3-185D-491C-AC8E-7A7AC0970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as atividades de um processo podem ser distribuídas por vários agentes que o executar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essos de negócio de um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pode ser representado atravé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aias de na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swim la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aias de natação dividem o diagrama de atividade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art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ompartimento contém atividades que são realizadas por uma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865-F547-4AAF-B79B-4B36E1473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Raias de Natação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31640" y="1716120"/>
          <a:ext cx="8388360" cy="44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716120"/>
                    <a:ext cx="83883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C7F-4A9C-4F7B-958E-AB628E98C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ossíveis usos de diagramas de atividades  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898-16A2-47EA-8B76-B13B45148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Usos de diagramas de ativ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são freqüentemente utilizados na prátic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na orientação a objetos o sistema é dividido em objetos, e não em módulos funcionais como na Análise Estruturada (Diagrama de Fluxos de Dad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D41-EB81-4C65-AA44-872EE0946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os fluxos de trabalho de um processo do negóc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é um processo de entend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esenvolvedor constrói modelos para entender melhor um probl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te caso, o enfoque está em entender o comportamento do sistema no decorrer de diversos casos de us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cessos de negóc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determinados casos de uso do sistema se relacionam no decorrer do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287-533B-49A5-A91C-F780D491B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alização de um caso de uso requer que alguma computação seja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 computação pode ser dividida em ativ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o P ocorre até que a C seja verdadeir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corre C, vai para o passo P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as situações, é interessante complementar a descrição do caso de uso com um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85240" y="1965240"/>
            <a:ext cx="879480" cy="3551040"/>
            <a:chOff x="8085240" y="1965240"/>
            <a:chExt cx="879480" cy="3551040"/>
          </a:xfrm>
        </p:grpSpPr>
        <p:sp>
          <p:nvSpPr>
            <p:cNvPr id="124" name=""/>
            <p:cNvSpPr/>
            <p:nvPr/>
          </p:nvSpPr>
          <p:spPr>
            <a:xfrm>
              <a:off x="8294400" y="1965240"/>
              <a:ext cx="209520" cy="311400"/>
            </a:xfrm>
            <a:prstGeom prst="flowChartOffpageConnec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85240" y="258804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85240" y="3522600"/>
              <a:ext cx="628200" cy="498600"/>
            </a:xfrm>
            <a:prstGeom prst="flowChartDecision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85240" y="427032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85240" y="5329440"/>
              <a:ext cx="628200" cy="186840"/>
            </a:xfrm>
            <a:prstGeom prst="flowChartTermina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4" idx="2"/>
              <a:endCxn id="125" idx="0"/>
            </p:cNvCxnSpPr>
            <p:nvPr/>
          </p:nvCxnSpPr>
          <p:spPr>
            <a:xfrm>
              <a:off x="8398800" y="227628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0" name=""/>
            <p:cNvCxnSpPr>
              <a:stCxn id="125" idx="2"/>
              <a:endCxn id="126" idx="0"/>
            </p:cNvCxnSpPr>
            <p:nvPr/>
          </p:nvCxnSpPr>
          <p:spPr>
            <a:xfrm>
              <a:off x="8398800" y="321084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7" idx="0"/>
            </p:cNvCxnSpPr>
            <p:nvPr/>
          </p:nvCxnSpPr>
          <p:spPr>
            <a:xfrm>
              <a:off x="8398800" y="4020840"/>
              <a:ext cx="1080" cy="249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7" idx="2"/>
              <a:endCxn id="128" idx="0"/>
            </p:cNvCxnSpPr>
            <p:nvPr/>
          </p:nvCxnSpPr>
          <p:spPr>
            <a:xfrm>
              <a:off x="8398800" y="4893120"/>
              <a:ext cx="1080" cy="43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8713440" y="3771720"/>
              <a:ext cx="25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8280" y="5142600"/>
              <a:ext cx="58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964720" y="3771360"/>
              <a:ext cx="0" cy="13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631-597D-4ED4-BB31-5725BF412A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fluxos principal, alternativos e de exceção podem ser representados em um único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lementar e não substituir a descri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ção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tiv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ravés do exame d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lux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são descritos na perspectiva dos atores, enquanto diagramas de atividade descrevem atividades internas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E8A-3141-498A-A015-78AC7EA2B3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a operação complex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sistema é adequadamente decomposto em seus objetos, a maioria das operações são bastante si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s não necessitam de modelagem gráfic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ode haver a necessidade de descrever a lógica de uma operação mais complex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ção de regras de negó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A0D-61A6-4A2A-A4A0-EC310E0EF3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11</a:t>
            </a:r>
            <a:r>
              <a:rPr b="0" lang="sv-SE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Atividad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choose a ready guide in some celestial v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you choose not to decide, you still have made a ch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l Peart (Rush, Freew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96F3-5DE5-4620-8A19-FFABAFBF7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quatro diagramas da UML que descrevem os aspectos dinâmico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es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seqüência e de colabor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iagrama de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 tipo especial de diagrama de estados, onde são representados os estados de uma atividade, ao invés dos estados de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E88-1081-480D-9F1A-1108D899BF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iagrama de atividade exibe 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ssos de uma compu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ada estado é um passo da computação, onde o sistema está realizando alg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orientado a fluxos de controle (ao contrário dos DTEs que são orientados a evento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luxogr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endi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ém de possuir toda a semântica existente em um fluxograma, permite representar ações concorrentes e sua sincro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podem ser divididos em dois grupos: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seqü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parale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41B-5099-486E-8AE8-6D997D3170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seqüenci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tiv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s inicial e final, e condição de guar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ntos de ramificação e de uniã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paral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s de sincron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bifurcação (for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junção (joi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ABA-65F5-445A-99C3-133032A47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stado em um diagrama de atividade po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leva um certo tempo para ser fin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realizado instantane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haver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pode haver vári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s fi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guar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sociadas a trans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não ter estado final, o que significa que o processo ou procediment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cíclic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63B-AE58-48D8-B61E-9A62F247E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ignifica o término de um passo e o conseqüente início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invés de ser disparada pela ocorrência de um evento, é disparada pelo término de um pas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C85-AAAC-41C0-A7BF-E91B2FB9D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ramif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uma única transição de entrada e várias transições de sa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cada transição de saída, há uma condição de guarda assoc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o fluxo de controle chega a um ponto de ramificação, uma e somente uma das condições de guarda deve ser verdad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haver uma transição com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[else]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uni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úne diversas transições que, direta ou indiretamente, têm um ponto de ramificação em com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301-4D14-41A0-B6F9-97EDAF7C46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6560" y="1684440"/>
          <a:ext cx="820908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84440"/>
                    <a:ext cx="82090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FAD-88FE-4008-B331-75BCFCA00D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20:45Z</dcterms:modified>
  <cp:revision>327</cp:revision>
  <dc:subject>Sildes do livro</dc:subject>
  <dc:title>Princípios de Análise e Projeto Orientados a Objetos com UML</dc:title>
</cp:coreProperties>
</file>