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D14A-249F-4C69-9397-1431048CF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6F08-4165-4309-BF14-7DFC8DFEC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92B9-38E3-4152-943F-01D2BA673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1D01-AA12-4B62-86D8-93991AD44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775F-5059-4385-9A89-46736DFB3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3674-4195-455E-8C38-1D7070FC8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2017-3028-4FA9-BD4D-243B580D1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AD76-D8AD-45D3-AF1A-5EB619812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6858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7E08-9B41-4BD0-92FE-D6B7801E3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F303-72D3-4894-BA34-0A426EC5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E32D-6A35-4DC6-B4C7-479A1EA9A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A385-EFB6-4C4C-BC15-42D31424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93AB9-C16F-4B12-842A-11322F414F5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21560" y="533520"/>
            <a:ext cx="83664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36560" y="2997360"/>
            <a:ext cx="7137360" cy="4190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295280" y="3048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14240" y="1149480"/>
            <a:ext cx="6272280" cy="54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599"/>
              </a:spcAft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de-AT" sz="3200" spc="-1" strike="noStrike">
                <a:solidFill>
                  <a:srgbClr val="ff0000"/>
                </a:solidFill>
                <a:latin typeface="Times New Roman"/>
              </a:rPr>
              <a:t>Generating Compilers with Coco/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spcAft>
                <a:spcPts val="1599"/>
              </a:spcAft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Compil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Gramm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Coco/R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Scanner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Parser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LL(1) Confli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Case S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95520" y="1755720"/>
            <a:ext cx="3036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Hanspeter Mössenbö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University of Lin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http://ssw.jku.at/Coco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A4C2-6C4F-4D10-9626-3E66FEF6CE0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Coco/R - </a:t>
            </a:r>
            <a:r>
              <a:rPr b="0" i="1" lang="de-AT" sz="2400" spc="-1" strike="noStrike">
                <a:solidFill>
                  <a:srgbClr val="3333cc"/>
                </a:solidFill>
                <a:latin typeface="Times New Roman"/>
              </a:rPr>
              <a:t>Compiler Compiler /</a:t>
            </a: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de-AT" sz="2400" spc="-1" strike="noStrike">
                <a:solidFill>
                  <a:srgbClr val="3333cc"/>
                </a:solidFill>
                <a:latin typeface="Times New Roman"/>
              </a:rPr>
              <a:t>Recursive Descent</a:t>
            </a:r>
            <a:endParaRPr b="0" i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062360" y="1598760"/>
            <a:ext cx="69062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Generates a scanner and a parser from an attributed grammar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canner as a deterministic finite automaton (DFA)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recursive descent par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Developed at the University of Linz (Austri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re are versions for C#, Java, C/C++, VB.NET, Delphi, Modula-2, Oberon,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Gnu GPL open source: http://ssw.jku.at/Coco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22160" y="120636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722160" y="3517920"/>
            <a:ext cx="7158960" cy="2585520"/>
            <a:chOff x="722160" y="3517920"/>
            <a:chExt cx="7158960" cy="2585520"/>
          </a:xfrm>
        </p:grpSpPr>
        <p:sp>
          <p:nvSpPr>
            <p:cNvPr id="257" name=""/>
            <p:cNvSpPr/>
            <p:nvPr/>
          </p:nvSpPr>
          <p:spPr>
            <a:xfrm>
              <a:off x="3924360" y="5232240"/>
              <a:ext cx="863640" cy="304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838760" y="4597560"/>
              <a:ext cx="863640" cy="304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22160" y="3517920"/>
              <a:ext cx="148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How it work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512800" y="4595760"/>
              <a:ext cx="802440" cy="337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oco/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070000" y="4749840"/>
              <a:ext cx="4064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945600" y="5230800"/>
              <a:ext cx="81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cann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851360" y="5232240"/>
              <a:ext cx="8636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778360" y="5232240"/>
              <a:ext cx="8636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911480" y="459576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ars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976280" y="4011480"/>
              <a:ext cx="56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838760" y="4013280"/>
              <a:ext cx="86364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257800" y="4927680"/>
              <a:ext cx="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422240" y="4915080"/>
              <a:ext cx="505080" cy="29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575320" y="4927680"/>
              <a:ext cx="461880" cy="26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257800" y="4343400"/>
              <a:ext cx="0" cy="24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365640" y="4749840"/>
              <a:ext cx="13208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365640" y="4826160"/>
              <a:ext cx="1904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556080" y="4826160"/>
              <a:ext cx="0" cy="5461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556080" y="5372280"/>
              <a:ext cx="2919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829040" y="5522760"/>
              <a:ext cx="189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user-supplied class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(e.g. symbol tabl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807240" y="4000680"/>
              <a:ext cx="88920" cy="1562040"/>
            </a:xfrm>
            <a:custGeom>
              <a:avLst/>
              <a:gdLst>
                <a:gd name="textAreaLeft" fmla="*/ 0 w 88920"/>
                <a:gd name="textAreaRight" fmla="*/ 32040 w 88920"/>
                <a:gd name="textAreaTop" fmla="*/ 40680 h 1562040"/>
                <a:gd name="textAreaBottom" fmla="*/ 1521360 h 156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048440" y="4775040"/>
              <a:ext cx="304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441200" y="4595760"/>
              <a:ext cx="439920" cy="337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s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03680" y="4443480"/>
              <a:ext cx="959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ttribu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gramm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3473-8E66-4979-BD9F-F18AC550956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A Very Simple Example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93720" y="1333440"/>
            <a:ext cx="668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Assume that we want to parse one of the following two alternat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5240" y="1749600"/>
            <a:ext cx="299556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red ap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693000" y="4280040"/>
            <a:ext cx="5427720" cy="1589760"/>
            <a:chOff x="693000" y="4280040"/>
            <a:chExt cx="5427720" cy="1589760"/>
          </a:xfrm>
        </p:grpSpPr>
        <p:sp>
          <p:nvSpPr>
            <p:cNvPr id="285" name=""/>
            <p:cNvSpPr/>
            <p:nvPr/>
          </p:nvSpPr>
          <p:spPr>
            <a:xfrm>
              <a:off x="693000" y="4280040"/>
              <a:ext cx="542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We invoke Coco/R to generate a scanner and a pars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052640" y="4710240"/>
              <a:ext cx="4417920" cy="1159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ffffff"/>
                  </a:solidFill>
                  <a:latin typeface="Arial"/>
                </a:rPr>
                <a:t>&gt;coco Sample.at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ffffff"/>
                  </a:solidFill>
                  <a:latin typeface="Arial"/>
                </a:rPr>
                <a:t>Coco/R (Aug 22, 2006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ffffff"/>
                  </a:solidFill>
                  <a:latin typeface="Arial"/>
                </a:rPr>
                <a:t>check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ffffff"/>
                  </a:solidFill>
                  <a:latin typeface="Arial"/>
                </a:rPr>
                <a:t>parser + scanner generat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ffffff"/>
                  </a:solidFill>
                  <a:latin typeface="Arial"/>
                </a:rPr>
                <a:t>0 errors detect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1065240" y="2117880"/>
            <a:ext cx="299556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or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693360" y="2577960"/>
            <a:ext cx="3420000" cy="1254960"/>
            <a:chOff x="693360" y="2577960"/>
            <a:chExt cx="3420000" cy="1254960"/>
          </a:xfrm>
        </p:grpSpPr>
        <p:sp>
          <p:nvSpPr>
            <p:cNvPr id="289" name=""/>
            <p:cNvSpPr/>
            <p:nvPr/>
          </p:nvSpPr>
          <p:spPr>
            <a:xfrm>
              <a:off x="693360" y="2577960"/>
              <a:ext cx="246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We write a grammar 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055520" y="3525840"/>
              <a:ext cx="3057840" cy="3070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ample = "red" "apple" | "orange"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1055520" y="2577960"/>
            <a:ext cx="6909480" cy="1465560"/>
            <a:chOff x="1055520" y="2577960"/>
            <a:chExt cx="6909480" cy="1465560"/>
          </a:xfrm>
        </p:grpSpPr>
        <p:sp>
          <p:nvSpPr>
            <p:cNvPr id="292" name=""/>
            <p:cNvSpPr/>
            <p:nvPr/>
          </p:nvSpPr>
          <p:spPr>
            <a:xfrm>
              <a:off x="1055520" y="3097080"/>
              <a:ext cx="3057840" cy="946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MPILER Samp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RODUC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ample = "red" "apple" | "orange"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ND Sample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115880" y="3084480"/>
              <a:ext cx="1410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file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Sample.at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046320" y="2577960"/>
              <a:ext cx="491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and embed it into a Coco/R compiler descrip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3C76-FE49-4B9A-887D-58BBC3EF7C2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A Very Simple Example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67440" y="1193760"/>
            <a:ext cx="25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We write a main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071000" y="1662120"/>
            <a:ext cx="4946040" cy="2145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using System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Compil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ic 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Main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string[] arg) </a:t>
            </a:r>
            <a:br>
              <a:rPr sz="1400"/>
            </a:b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canner scanner = new Scanner(arg[0]);</a:t>
            </a:r>
            <a:br>
              <a:rPr sz="1400"/>
            </a:b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arser parser = new Parser(scanne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arser.Parse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nsole.Write(parser.errors.count + " errors detected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666720" y="3797280"/>
            <a:ext cx="4803840" cy="699120"/>
            <a:chOff x="666720" y="3797280"/>
            <a:chExt cx="4803840" cy="699120"/>
          </a:xfrm>
        </p:grpSpPr>
        <p:sp>
          <p:nvSpPr>
            <p:cNvPr id="299" name=""/>
            <p:cNvSpPr/>
            <p:nvPr/>
          </p:nvSpPr>
          <p:spPr>
            <a:xfrm>
              <a:off x="666720" y="3797280"/>
              <a:ext cx="256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Times New Roman"/>
                </a:rPr>
                <a:t>We compile everything 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052640" y="4189320"/>
              <a:ext cx="4417920" cy="307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ffffff"/>
                  </a:solidFill>
                  <a:latin typeface="Arial"/>
                </a:rPr>
                <a:t>&gt;csc Compile.cs Scanner.cs Parser.c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668520" y="4838760"/>
            <a:ext cx="6435000" cy="912240"/>
            <a:chOff x="668520" y="4838760"/>
            <a:chExt cx="6435000" cy="912240"/>
          </a:xfrm>
        </p:grpSpPr>
        <p:sp>
          <p:nvSpPr>
            <p:cNvPr id="302" name=""/>
            <p:cNvSpPr/>
            <p:nvPr/>
          </p:nvSpPr>
          <p:spPr>
            <a:xfrm>
              <a:off x="668520" y="4838760"/>
              <a:ext cx="1291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Times New Roman"/>
                </a:rPr>
                <a:t>... and run 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052640" y="5230800"/>
              <a:ext cx="4417920" cy="520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ffffff"/>
                  </a:solidFill>
                  <a:latin typeface="Arial"/>
                </a:rPr>
                <a:t>&gt;Compile Input.t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ffffff"/>
                  </a:solidFill>
                  <a:latin typeface="Arial"/>
                </a:rPr>
                <a:t>0 errors detect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28560" y="5230800"/>
              <a:ext cx="92448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red app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919840" y="4875120"/>
              <a:ext cx="118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file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Input.tx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6138000" y="1967040"/>
            <a:ext cx="2256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mu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reate the scan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reate the par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tart the par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report number of err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5053-87BD-4F86-BBA7-31CB4BE69C8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4819680" y="1809720"/>
            <a:ext cx="2047680" cy="5619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Generated Parser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85160" y="1289160"/>
            <a:ext cx="3493800" cy="5149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Parse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Sampl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la.kind == 1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Get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xpect(2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 else if (la.kind == 3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Get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 else SynErr(5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oken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l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  // lookahead tok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Ge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a = Scanner.Scan();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Expec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(int n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la.kind == n) Get(); else SynErr(n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Pars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Get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ample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538160" y="136224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Gramm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775760" y="1808280"/>
            <a:ext cx="2126160" cy="5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424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ampl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red"  "apple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71424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orange"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5991120" y="1657440"/>
            <a:ext cx="181080" cy="1807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179400" y="14749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6581880" y="1657440"/>
            <a:ext cx="180720" cy="1807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770160" y="14749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 flipV="1">
            <a:off x="5990760" y="2371320"/>
            <a:ext cx="181080" cy="1810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179400" y="24940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066080" y="1360440"/>
            <a:ext cx="1888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token co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returned by the scan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DCC3-DCF6-4618-B91C-7DF6091E03D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A Slightly Larger Example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43680" y="1206360"/>
            <a:ext cx="36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Parse simple arithmetic expres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065240" y="1622520"/>
            <a:ext cx="2386080" cy="58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calc  34 + 2 +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calc  2 + 10 + 123 +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644400" y="2463840"/>
            <a:ext cx="4323240" cy="3201840"/>
            <a:chOff x="644400" y="2463840"/>
            <a:chExt cx="4323240" cy="3201840"/>
          </a:xfrm>
        </p:grpSpPr>
        <p:sp>
          <p:nvSpPr>
            <p:cNvPr id="323" name=""/>
            <p:cNvSpPr/>
            <p:nvPr/>
          </p:nvSpPr>
          <p:spPr>
            <a:xfrm>
              <a:off x="644400" y="2463840"/>
              <a:ext cx="297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Coco/R compiler descrip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058400" y="2894040"/>
              <a:ext cx="2212200" cy="27716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MPILER Samp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HARACT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digit = '0'..'9'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OKE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number = digit {digit}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GNORE '\r' + '\n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RODUC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ample = {"calc" Expr}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xpr = Term {'+' Term}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erm = number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ND Sample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557160" y="2881440"/>
              <a:ext cx="1410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file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Sample.at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1029960" y="5815080"/>
            <a:ext cx="7148160" cy="784080"/>
            <a:chOff x="1029960" y="5815080"/>
            <a:chExt cx="7148160" cy="784080"/>
          </a:xfrm>
        </p:grpSpPr>
        <p:sp>
          <p:nvSpPr>
            <p:cNvPr id="327" name=""/>
            <p:cNvSpPr/>
            <p:nvPr/>
          </p:nvSpPr>
          <p:spPr>
            <a:xfrm>
              <a:off x="4501440" y="5815080"/>
              <a:ext cx="3676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he generated scanner and parser wi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heck the syntactic correctness of the in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029960" y="5865840"/>
              <a:ext cx="3439080" cy="73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ffffff"/>
                  </a:solidFill>
                  <a:latin typeface="Arial"/>
                </a:rPr>
                <a:t>&gt;coco Sample.at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ffffff"/>
                  </a:solidFill>
                  <a:latin typeface="Arial"/>
                </a:rPr>
                <a:t>&gt;csc Compile.cs Scanner.cs Parser.c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ffffff"/>
                  </a:solidFill>
                  <a:latin typeface="Arial"/>
                </a:rPr>
                <a:t>&gt;Compile Input.t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6D98-85CA-4EE3-9E49-43C7D96CAA2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Now we add Semantic Processing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86600" y="1281240"/>
            <a:ext cx="4381920" cy="4196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MPILER S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90440"/>
                <a:tab algn="l" pos="380880"/>
                <a:tab algn="l" pos="5716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RODU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90440"/>
                <a:tab algn="l" pos="380880"/>
                <a:tab algn="l" pos="5716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ample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 int n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calc"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xpr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&lt;out n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 Console.WriteLine(n)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808080"/>
                </a:solidFill>
                <a:latin typeface="Arial"/>
              </a:rPr>
              <a:t>/*-------------------------------------------------------------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xpr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&lt;out int n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 int n1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erm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&lt;out n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'+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erm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&lt;out n1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 n = n + n1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808080"/>
                </a:solidFill>
                <a:latin typeface="Arial"/>
              </a:rPr>
              <a:t>/*-------------------------------------------------------------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erm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&lt;out int n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numbe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 n = Convert.Int32(t.val)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90440"/>
                <a:tab algn="l" pos="380880"/>
                <a:tab algn="l" pos="5716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ND Sampl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095560" y="4711680"/>
            <a:ext cx="0" cy="10540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199160" y="5738760"/>
            <a:ext cx="189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imilar to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of the symb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368960" y="4965840"/>
            <a:ext cx="0" cy="799920"/>
          </a:xfrm>
          <a:prstGeom prst="line">
            <a:avLst/>
          </a:prstGeom>
          <a:ln w="93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353040" y="5713560"/>
            <a:ext cx="2134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Semantic A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ordinary C# 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executed during par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558760" y="2502000"/>
            <a:ext cx="213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This is called 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"attributed grammar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A341-53A4-4300-A4F0-E16E8C8E699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Generated Parser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75800" y="1425600"/>
            <a:ext cx="2693880" cy="5015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lass Parser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Sampl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int n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while (la.kind == 2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Get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xpr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(out n)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Console.WriteLine(n)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Expr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(out int n)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int n1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erm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(out n)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while (la.kind == 3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Get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erm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(out n1)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n = n + n1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Term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(out int n)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xpect(1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n = Convert.ToInt32(t.val)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064760" y="2975040"/>
            <a:ext cx="13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Token co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099320" y="3379680"/>
            <a:ext cx="1134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 ... nu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2 ... "calc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3 ... '+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049640" y="4659480"/>
            <a:ext cx="4672080" cy="1531440"/>
            <a:chOff x="4049640" y="4659480"/>
            <a:chExt cx="4672080" cy="1531440"/>
          </a:xfrm>
        </p:grpSpPr>
        <p:sp>
          <p:nvSpPr>
            <p:cNvPr id="341" name=""/>
            <p:cNvSpPr/>
            <p:nvPr/>
          </p:nvSpPr>
          <p:spPr>
            <a:xfrm>
              <a:off x="4052520" y="4659480"/>
              <a:ext cx="3439080" cy="73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ffffff"/>
                  </a:solidFill>
                  <a:latin typeface="Arial"/>
                </a:rPr>
                <a:t>&gt;coco Sample.at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ffffff"/>
                  </a:solidFill>
                  <a:latin typeface="Arial"/>
                </a:rPr>
                <a:t>&gt;csc Compile.cs Scanner.cs Parser.c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ffffff"/>
                  </a:solidFill>
                  <a:latin typeface="Arial"/>
                </a:rPr>
                <a:t>&gt;Compile Input.t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049640" y="5610240"/>
              <a:ext cx="2386080" cy="580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Arial"/>
                </a:rPr>
                <a:t>calc 1 + 2 +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Arial"/>
                </a:rPr>
                <a:t>calc 100 + 10 +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151840" y="5610240"/>
              <a:ext cx="569880" cy="580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Arial"/>
                </a:rPr>
                <a:t>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882840" y="5726160"/>
              <a:ext cx="88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ompi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502320" y="5905800"/>
              <a:ext cx="36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721640" y="5905800"/>
              <a:ext cx="36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4102200" y="1468440"/>
            <a:ext cx="366408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1080"/>
                <a:tab algn="l" pos="36180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ampl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 int n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36180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 {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calc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36180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xpr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&lt;out n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 Console.WriteLine(n)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36180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36180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7BE0-9F52-48C1-87A0-DE790DE76B2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Structure of a Compiler Description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292760" y="1812960"/>
            <a:ext cx="2562840" cy="1681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de-AT" sz="1600" spc="-1" strike="noStrike">
                <a:solidFill>
                  <a:srgbClr val="3333cc"/>
                </a:solidFill>
                <a:latin typeface="Arial"/>
              </a:rPr>
              <a:t>UsingClauses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Arial"/>
              </a:rPr>
              <a:t>"COMPILER" id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de-AT" sz="1600" spc="-1" strike="noStrike">
                <a:solidFill>
                  <a:srgbClr val="3333cc"/>
                </a:solidFill>
                <a:latin typeface="Arial"/>
              </a:rPr>
              <a:t>GlobalFieldsAndMethods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ff0000"/>
                </a:solidFill>
                <a:latin typeface="Arial"/>
              </a:rPr>
              <a:t>ScannerSpec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ff0000"/>
                </a:solidFill>
                <a:latin typeface="Arial"/>
              </a:rPr>
              <a:t>ParserSpec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Arial"/>
              </a:rPr>
              <a:t>"END" ident ".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610160" y="1434960"/>
            <a:ext cx="2336760" cy="495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6787" y="23815"/>
                </a:moveTo>
                <a:lnTo>
                  <a:pt x="-704" y="4985"/>
                </a:lnTo>
              </a:path>
              <a:path w="21600" h="21600">
                <a:moveTo>
                  <a:pt x="-704" y="0"/>
                </a:moveTo>
                <a:lnTo>
                  <a:pt x="-704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using System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using System.Collection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610160" y="2502000"/>
            <a:ext cx="2336760" cy="1003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513" y="547"/>
                </a:moveTo>
                <a:lnTo>
                  <a:pt x="-704" y="2461"/>
                </a:lnTo>
              </a:path>
              <a:path w="21600" h="21600">
                <a:moveTo>
                  <a:pt x="-704" y="0"/>
                </a:moveTo>
                <a:lnTo>
                  <a:pt x="-704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 sum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void Add(int x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um = sum + x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976680" y="4317840"/>
            <a:ext cx="79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800" spc="-1" strike="noStrike">
                <a:solidFill>
                  <a:srgbClr val="000000"/>
                </a:solidFill>
                <a:latin typeface="Times New Roman"/>
              </a:rPr>
              <a:t>ident</a:t>
            </a: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 denotes the start symbol of the grammar (i.e. the topmost nonterminal symbo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0684-5D55-41E7-BE02-FAD0092E274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736560" y="3670200"/>
            <a:ext cx="7137360" cy="4190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1295280" y="3048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14960" y="1568520"/>
            <a:ext cx="596592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599"/>
              </a:spcAft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Generating Compilers with Coco/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Compil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Gramm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Coco/R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Scanner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Parser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LL(1) Confli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Case S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A0BA-52C3-4F6A-B857-D383B6002568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Structure of a Scanner Specification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61760" y="1596960"/>
            <a:ext cx="2949840" cy="2711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ScannerSpecification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["IGNORECASE"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["CHARACTERS" {SetDecl}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["TOKENS" {TokenDecl}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["PRAGMAS" {PragmaDecl}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{CommentDecl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{WhiteSpaceDecl}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102200" y="1701720"/>
            <a:ext cx="421632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506" y="27000"/>
                </a:moveTo>
                <a:lnTo>
                  <a:pt x="-390" y="8100"/>
                </a:lnTo>
              </a:path>
              <a:path w="21600" h="21600">
                <a:moveTo>
                  <a:pt x="-390" y="0"/>
                </a:moveTo>
                <a:lnTo>
                  <a:pt x="-390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hould the generated compiler be case-sensitiv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102200" y="2184480"/>
            <a:ext cx="4876560" cy="304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250" y="19800"/>
                </a:moveTo>
                <a:lnTo>
                  <a:pt x="-338" y="8100"/>
                </a:lnTo>
              </a:path>
              <a:path w="21600" h="21600">
                <a:moveTo>
                  <a:pt x="-338" y="0"/>
                </a:moveTo>
                <a:lnTo>
                  <a:pt x="-338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Which character sets are used in the token declaration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102200" y="2679840"/>
            <a:ext cx="4876560" cy="55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094" y="8836"/>
                </a:moveTo>
                <a:lnTo>
                  <a:pt x="-338" y="4418"/>
                </a:lnTo>
              </a:path>
              <a:path w="21600" h="21600">
                <a:moveTo>
                  <a:pt x="-338" y="0"/>
                </a:moveTo>
                <a:lnTo>
                  <a:pt x="-338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Here one has to declare all structured toke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(i.e. terminal symbols) of the gramm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102200" y="3403440"/>
            <a:ext cx="487656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969" y="-1800"/>
                </a:moveTo>
                <a:lnTo>
                  <a:pt x="-338" y="8100"/>
                </a:lnTo>
              </a:path>
              <a:path w="21600" h="21600">
                <a:moveTo>
                  <a:pt x="-338" y="0"/>
                </a:moveTo>
                <a:lnTo>
                  <a:pt x="-338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ragmas are tokens which are not part of the gramm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102200" y="3860640"/>
            <a:ext cx="4876560" cy="571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38" y="-5760"/>
                </a:moveTo>
                <a:lnTo>
                  <a:pt x="-338" y="4320"/>
                </a:lnTo>
              </a:path>
              <a:path w="21600" h="21600">
                <a:moveTo>
                  <a:pt x="-338" y="0"/>
                </a:moveTo>
                <a:lnTo>
                  <a:pt x="-338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Here one can declare one or several kinds of com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for the language to be compi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102200" y="4584600"/>
            <a:ext cx="487656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906" y="-33300"/>
                </a:moveTo>
                <a:lnTo>
                  <a:pt x="-338" y="8100"/>
                </a:lnTo>
              </a:path>
              <a:path w="21600" h="21600">
                <a:moveTo>
                  <a:pt x="-338" y="0"/>
                </a:moveTo>
                <a:lnTo>
                  <a:pt x="-338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Which characters should be ignored (e.g. \t, \n, \r)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F52F-C91D-44C4-9018-BB9FFFCDEF0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Compilation Phase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71040" y="1371600"/>
            <a:ext cx="175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800" spc="-1" strike="noStrike">
                <a:solidFill>
                  <a:srgbClr val="000000"/>
                </a:solidFill>
                <a:latin typeface="Times New Roman"/>
              </a:rPr>
              <a:t>character str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624040" y="1736640"/>
            <a:ext cx="292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2629080" y="1671120"/>
            <a:ext cx="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790720" y="1671120"/>
            <a:ext cx="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653560" y="14479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952720" y="1671120"/>
            <a:ext cx="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3114720" y="1671120"/>
            <a:ext cx="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20960" y="1447920"/>
            <a:ext cx="90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997360" y="14479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276720" y="1671120"/>
            <a:ext cx="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3438360" y="1671120"/>
            <a:ext cx="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01560" y="1447920"/>
            <a:ext cx="115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600360" y="1671120"/>
            <a:ext cx="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762360" y="1671120"/>
            <a:ext cx="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787200" y="14479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625200" y="14479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3924360" y="1671120"/>
            <a:ext cx="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086360" y="1671120"/>
            <a:ext cx="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248000" y="1671120"/>
            <a:ext cx="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410000" y="1671120"/>
            <a:ext cx="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115880" y="14479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53920" y="14479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4572000" y="1671120"/>
            <a:ext cx="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4734000" y="1671120"/>
            <a:ext cx="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97560" y="1447920"/>
            <a:ext cx="90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896000" y="1671120"/>
            <a:ext cx="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5057640" y="1671120"/>
            <a:ext cx="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64240" y="14479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87520" y="1447920"/>
            <a:ext cx="115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5224320" y="1671120"/>
            <a:ext cx="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5386320" y="1671120"/>
            <a:ext cx="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5548320" y="1671120"/>
            <a:ext cx="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411880" y="14479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670680" y="1854360"/>
            <a:ext cx="7503480" cy="1961280"/>
            <a:chOff x="670680" y="1854360"/>
            <a:chExt cx="7503480" cy="1961280"/>
          </a:xfrm>
        </p:grpSpPr>
        <p:sp>
          <p:nvSpPr>
            <p:cNvPr id="81" name=""/>
            <p:cNvSpPr/>
            <p:nvPr/>
          </p:nvSpPr>
          <p:spPr>
            <a:xfrm>
              <a:off x="2425680" y="2247840"/>
              <a:ext cx="3162240" cy="4190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716560" y="2260440"/>
              <a:ext cx="261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Times New Roman"/>
                </a:rPr>
                <a:t>lexical analysis (scanning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873600" y="1854360"/>
              <a:ext cx="203040" cy="342720"/>
            </a:xfrm>
            <a:prstGeom prst="downArrow">
              <a:avLst>
                <a:gd name="adj1" fmla="val 50000"/>
                <a:gd name="adj2" fmla="val 4219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70680" y="3048120"/>
              <a:ext cx="13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800" spc="-1" strike="noStrike">
                  <a:solidFill>
                    <a:srgbClr val="000000"/>
                  </a:solidFill>
                  <a:latin typeface="Times New Roman"/>
                </a:rPr>
                <a:t>token strea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303280" y="3097080"/>
              <a:ext cx="551160" cy="6613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18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(ide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"val"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892240" y="3097080"/>
              <a:ext cx="641160" cy="6613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18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(assign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568320" y="3097080"/>
              <a:ext cx="738720" cy="6613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18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(number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346640" y="3097080"/>
              <a:ext cx="580320" cy="6613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18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(time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970160" y="3097080"/>
              <a:ext cx="551160" cy="6613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18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(ide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"val"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559480" y="3097080"/>
              <a:ext cx="491760" cy="6613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18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(plu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100560" y="3097080"/>
              <a:ext cx="551160" cy="6613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18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(ide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"i"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6502320" y="3225960"/>
              <a:ext cx="3556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870240" y="3059280"/>
              <a:ext cx="130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oken numb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873600" y="2717640"/>
              <a:ext cx="203040" cy="343080"/>
            </a:xfrm>
            <a:prstGeom prst="downArrow">
              <a:avLst>
                <a:gd name="adj1" fmla="val 50000"/>
                <a:gd name="adj2" fmla="val 42243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6502320" y="3645000"/>
              <a:ext cx="3556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869880" y="3478320"/>
              <a:ext cx="112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oken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670320" y="3809880"/>
            <a:ext cx="4917600" cy="2769480"/>
            <a:chOff x="670320" y="3809880"/>
            <a:chExt cx="4917600" cy="2769480"/>
          </a:xfrm>
        </p:grpSpPr>
        <p:sp>
          <p:nvSpPr>
            <p:cNvPr id="98" name=""/>
            <p:cNvSpPr/>
            <p:nvPr/>
          </p:nvSpPr>
          <p:spPr>
            <a:xfrm>
              <a:off x="3873600" y="3809880"/>
              <a:ext cx="203040" cy="343080"/>
            </a:xfrm>
            <a:prstGeom prst="downArrow">
              <a:avLst>
                <a:gd name="adj1" fmla="val 50000"/>
                <a:gd name="adj2" fmla="val 42243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73600" y="4660920"/>
              <a:ext cx="203040" cy="342720"/>
            </a:xfrm>
            <a:prstGeom prst="downArrow">
              <a:avLst>
                <a:gd name="adj1" fmla="val 50000"/>
                <a:gd name="adj2" fmla="val 4219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425680" y="4191120"/>
              <a:ext cx="3162240" cy="4190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55800" y="4191120"/>
              <a:ext cx="245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Times New Roman"/>
                </a:rPr>
                <a:t>syntax analysis (parsing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70320" y="5232240"/>
              <a:ext cx="118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800" spc="-1" strike="noStrike">
                  <a:solidFill>
                    <a:srgbClr val="000000"/>
                  </a:solidFill>
                  <a:latin typeface="Times New Roman"/>
                </a:rPr>
                <a:t>syntax tre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923920" y="6272280"/>
              <a:ext cx="236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ident = number * ident + id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909600" y="5827680"/>
              <a:ext cx="56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Te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772080" y="6159600"/>
              <a:ext cx="711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72080" y="6159600"/>
              <a:ext cx="0" cy="16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203720" y="6095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483080" y="6159600"/>
              <a:ext cx="0" cy="16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191120" y="5791320"/>
              <a:ext cx="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191120" y="57913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5791320"/>
              <a:ext cx="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37240" y="5702400"/>
              <a:ext cx="0" cy="63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110120" y="5446800"/>
              <a:ext cx="97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Express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4737240" y="5409720"/>
              <a:ext cx="0" cy="8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3187800" y="5410080"/>
              <a:ext cx="154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187800" y="541008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467160" y="541008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936960" y="53341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488400" y="5040360"/>
              <a:ext cx="89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Stat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6BDC-8D7B-4486-ACA3-1B4AD76DA6A9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Character Set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09560" y="1295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985680" y="1700280"/>
            <a:ext cx="2718360" cy="148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1904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CHARAC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1904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digi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 "0123456789"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1904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hexDigi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 digit + "ABCDEF"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1904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lette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 'A' .. 'Z'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1904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eol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 '\r'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1904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noDigi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 ANY - digi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772080" y="1916280"/>
            <a:ext cx="2666520" cy="12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he set of all dig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he set of all hexadecimal dig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he set of all upper-case let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he end-of-line charac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ny character that is not a dig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690120" y="3848040"/>
            <a:ext cx="6592680" cy="1302120"/>
            <a:chOff x="690120" y="3848040"/>
            <a:chExt cx="6592680" cy="1302120"/>
          </a:xfrm>
        </p:grpSpPr>
        <p:sp>
          <p:nvSpPr>
            <p:cNvPr id="369" name=""/>
            <p:cNvSpPr/>
            <p:nvPr/>
          </p:nvSpPr>
          <p:spPr>
            <a:xfrm>
              <a:off x="690120" y="3848040"/>
              <a:ext cx="544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Times New Roman"/>
                </a:rPr>
                <a:t>Valid escape sequences in character constants and string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969480" y="4203720"/>
              <a:ext cx="63133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91960"/>
                  <a:tab algn="l" pos="2006640"/>
                  <a:tab algn="l" pos="2286000"/>
                  <a:tab algn="l" pos="4000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\\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ackslash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\r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arriage return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\f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form fe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91960"/>
                  <a:tab algn="l" pos="2006640"/>
                  <a:tab algn="l" pos="2286000"/>
                  <a:tab algn="l" pos="4000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\'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postrophe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\n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new line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\a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e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91960"/>
                  <a:tab algn="l" pos="2006640"/>
                  <a:tab algn="l" pos="2286000"/>
                  <a:tab algn="l" pos="4000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\"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quote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\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horizontal ta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\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ack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91960"/>
                  <a:tab algn="l" pos="2006640"/>
                  <a:tab algn="l" pos="2286000"/>
                  <a:tab algn="l" pos="4000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\0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null character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\v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vertical ta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\uxxxx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hex character valu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2F3A-B656-48A0-9891-3DD63D673AE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Token Declaration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99120" y="1244520"/>
            <a:ext cx="5586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Define the structure of </a:t>
            </a:r>
            <a:r>
              <a:rPr b="1" i="1" lang="de-AT" sz="1800" spc="-1" strike="noStrike">
                <a:solidFill>
                  <a:srgbClr val="000000"/>
                </a:solidFill>
                <a:latin typeface="Times New Roman"/>
              </a:rPr>
              <a:t>token classes</a:t>
            </a: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(e.g. ident, number, ..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Literals such as "while" or "&gt;=" don't have to be decla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671400" y="2222640"/>
            <a:ext cx="5117400" cy="1692000"/>
            <a:chOff x="671400" y="2222640"/>
            <a:chExt cx="5117400" cy="1692000"/>
          </a:xfrm>
        </p:grpSpPr>
        <p:sp>
          <p:nvSpPr>
            <p:cNvPr id="374" name=""/>
            <p:cNvSpPr/>
            <p:nvPr/>
          </p:nvSpPr>
          <p:spPr>
            <a:xfrm>
              <a:off x="671400" y="2222640"/>
              <a:ext cx="10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Examp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41960" y="2665800"/>
              <a:ext cx="5046840" cy="12488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190440"/>
                  <a:tab algn="l" pos="95256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TOKE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190440"/>
                  <a:tab algn="l" pos="95256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iden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letter {letter | digit | '_'}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190440"/>
                  <a:tab algn="l" pos="95256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number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digit {digit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190440"/>
                  <a:tab algn="l" pos="95256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0x" hexDigit hexDigit hexDigit hexDigit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190440"/>
                  <a:tab algn="l" pos="95256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floa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digit {digit} '.' digit {digit} ['E' ['+' | '-'] digit {digit}]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6018840" y="2728800"/>
            <a:ext cx="27622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Right-hand side must be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 regular EBNF expre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Names on the right-hand side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denote character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1047240" y="3174840"/>
            <a:ext cx="2670840" cy="1455480"/>
            <a:chOff x="1047240" y="3174840"/>
            <a:chExt cx="2670840" cy="1455480"/>
          </a:xfrm>
        </p:grpSpPr>
        <p:sp>
          <p:nvSpPr>
            <p:cNvPr id="378" name=""/>
            <p:cNvSpPr/>
            <p:nvPr/>
          </p:nvSpPr>
          <p:spPr>
            <a:xfrm>
              <a:off x="1047240" y="4049640"/>
              <a:ext cx="2670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no problem if alternatives st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with the same charac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879560" y="3174840"/>
              <a:ext cx="507960" cy="507960"/>
            </a:xfrm>
            <a:prstGeom prst="ellipse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1790280" y="3657600"/>
              <a:ext cx="203400" cy="4060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6298-D8C5-4623-BF28-51809D5009C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Literal Token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07400" y="1333440"/>
            <a:ext cx="470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Literal tokens can be used without decla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044720" y="1878120"/>
            <a:ext cx="2224440" cy="1159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OKE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RODU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ement = 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"while"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..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705960" y="3441600"/>
            <a:ext cx="3306600" cy="1841040"/>
            <a:chOff x="705960" y="3441600"/>
            <a:chExt cx="3306600" cy="1841040"/>
          </a:xfrm>
        </p:grpSpPr>
        <p:sp>
          <p:nvSpPr>
            <p:cNvPr id="385" name=""/>
            <p:cNvSpPr/>
            <p:nvPr/>
          </p:nvSpPr>
          <p:spPr>
            <a:xfrm>
              <a:off x="705960" y="3441600"/>
              <a:ext cx="330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... but one can also declare th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045080" y="3909960"/>
              <a:ext cx="2096280" cy="1372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OKE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while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 "while"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RODUC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ement = 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while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... 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998280" y="5548320"/>
            <a:ext cx="5158080" cy="980280"/>
            <a:chOff x="998280" y="5548320"/>
            <a:chExt cx="5158080" cy="980280"/>
          </a:xfrm>
        </p:grpSpPr>
        <p:sp>
          <p:nvSpPr>
            <p:cNvPr id="388" name=""/>
            <p:cNvSpPr/>
            <p:nvPr/>
          </p:nvSpPr>
          <p:spPr>
            <a:xfrm>
              <a:off x="998280" y="5548320"/>
              <a:ext cx="5158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Sometimes useful because Coco/R generates constant name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for the token numbers of all declared toke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88280" y="6221520"/>
              <a:ext cx="1855440" cy="30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nst int _while = 17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8035-A800-4CD8-B95A-24F8998EE3E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Context-dependent Token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96240" y="140976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017360" y="178920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floating point n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981520" y="181440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.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017000" y="206856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nteger r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981520" y="2093760"/>
            <a:ext cx="47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.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6090480" y="1866960"/>
            <a:ext cx="1733760" cy="1089000"/>
            <a:chOff x="6090480" y="1866960"/>
            <a:chExt cx="1733760" cy="1089000"/>
          </a:xfrm>
        </p:grpSpPr>
        <p:sp>
          <p:nvSpPr>
            <p:cNvPr id="397" name=""/>
            <p:cNvSpPr/>
            <p:nvPr/>
          </p:nvSpPr>
          <p:spPr>
            <a:xfrm>
              <a:off x="6629400" y="1866960"/>
              <a:ext cx="16524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652800" y="18781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794640" y="1866960"/>
              <a:ext cx="16488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830280" y="18781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959520" y="1866960"/>
              <a:ext cx="16524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995160" y="18781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124760" y="1866960"/>
              <a:ext cx="16488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147800" y="18781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6959520" y="2082960"/>
              <a:ext cx="0" cy="13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090480" y="2131920"/>
              <a:ext cx="17337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got stuck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no way to contin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n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4044240" y="1420920"/>
            <a:ext cx="4440240" cy="1291680"/>
            <a:chOff x="4044240" y="1420920"/>
            <a:chExt cx="4440240" cy="1291680"/>
          </a:xfrm>
        </p:grpSpPr>
        <p:sp>
          <p:nvSpPr>
            <p:cNvPr id="408" name=""/>
            <p:cNvSpPr/>
            <p:nvPr/>
          </p:nvSpPr>
          <p:spPr>
            <a:xfrm>
              <a:off x="4635360" y="1866960"/>
              <a:ext cx="16524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658760" y="18781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800600" y="1866960"/>
              <a:ext cx="16524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836240" y="18781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965840" y="1866960"/>
              <a:ext cx="16488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001480" y="18781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130720" y="1866960"/>
              <a:ext cx="16524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154120" y="18781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4800600" y="2082960"/>
              <a:ext cx="0" cy="13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293720" y="2131920"/>
              <a:ext cx="1104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decides 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scan a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44240" y="1420920"/>
              <a:ext cx="4440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Scanner tries to recognize the longest possible tok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696960" y="3162240"/>
            <a:ext cx="7900920" cy="1519560"/>
            <a:chOff x="696960" y="3162240"/>
            <a:chExt cx="7900920" cy="1519560"/>
          </a:xfrm>
        </p:grpSpPr>
        <p:sp>
          <p:nvSpPr>
            <p:cNvPr id="420" name=""/>
            <p:cNvSpPr/>
            <p:nvPr/>
          </p:nvSpPr>
          <p:spPr>
            <a:xfrm>
              <a:off x="696960" y="3162240"/>
              <a:ext cx="196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CONTEXT clau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032840" y="3668760"/>
              <a:ext cx="3495600" cy="10130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5256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OKE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5256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ntCon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digit {digit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5256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digit {digit} 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CONTEXT ("..")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190440"/>
                  <a:tab algn="l" pos="95256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floatCon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digit {digit} "." digit {digit}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054760" y="3822840"/>
              <a:ext cx="354312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-3639" y="15300"/>
                  </a:moveTo>
                  <a:lnTo>
                    <a:pt x="-465" y="4000"/>
                  </a:lnTo>
                </a:path>
                <a:path w="21600" h="21600">
                  <a:moveTo>
                    <a:pt x="-465" y="0"/>
                  </a:moveTo>
                  <a:lnTo>
                    <a:pt x="-465" y="2160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Recognize a digit sequence as an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intC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f its right-hand context is "..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E5CA-F62E-44F1-8C2B-DD61DB2FE2F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Pragma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10480" y="1219320"/>
            <a:ext cx="3859560" cy="11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Special tokens 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(e.g. compiler optio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an occur anywhere in the 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re not part of the gramm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must be semantically proces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00840" y="4648320"/>
            <a:ext cx="2538360" cy="13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Typical 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ompiler o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reprocessor comma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omment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end-of-lin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722160" y="2666880"/>
            <a:ext cx="8151840" cy="1679040"/>
            <a:chOff x="722160" y="2666880"/>
            <a:chExt cx="8151840" cy="1679040"/>
          </a:xfrm>
        </p:grpSpPr>
        <p:sp>
          <p:nvSpPr>
            <p:cNvPr id="427" name=""/>
            <p:cNvSpPr/>
            <p:nvPr/>
          </p:nvSpPr>
          <p:spPr>
            <a:xfrm>
              <a:off x="722160" y="2666880"/>
              <a:ext cx="10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Examp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966600" y="3097080"/>
              <a:ext cx="4107600" cy="12488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190440"/>
                  <a:tab algn="l" pos="1054080"/>
                  <a:tab algn="l" pos="1816200"/>
                  <a:tab algn="l" pos="2006640"/>
                  <a:tab algn="l" pos="21970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PRAGM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190440"/>
                  <a:tab algn="l" pos="1054080"/>
                  <a:tab algn="l" pos="1816200"/>
                  <a:tab algn="l" pos="2006640"/>
                  <a:tab algn="l" pos="21970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option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= '$' {letter}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(.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foreach (char ch in t.val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190440"/>
                  <a:tab algn="l" pos="1054080"/>
                  <a:tab algn="l" pos="1816200"/>
                  <a:tab algn="l" pos="2006640"/>
                  <a:tab algn="l" pos="21970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if (ch == 'A')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190440"/>
                  <a:tab algn="l" pos="1054080"/>
                  <a:tab algn="l" pos="1816200"/>
                  <a:tab algn="l" pos="2006640"/>
                  <a:tab algn="l" pos="21970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else if (ch == 'B')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190440"/>
                  <a:tab algn="l" pos="1054080"/>
                  <a:tab algn="l" pos="1816200"/>
                  <a:tab algn="l" pos="2006640"/>
                  <a:tab algn="l" pos="21970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...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411880" y="3287880"/>
              <a:ext cx="3462120" cy="87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whenever an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option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(e.g. $ABC) occur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n the input, this semantic a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s execu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278F-50AB-4288-8E01-B3DF6DF5490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Comment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18560" y="1257480"/>
            <a:ext cx="5474880" cy="9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Described in a special section beca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nested comments cannot be described with regular expres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must be ignored by the par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722160" y="2502000"/>
            <a:ext cx="3552840" cy="963360"/>
            <a:chOff x="722160" y="2502000"/>
            <a:chExt cx="3552840" cy="963360"/>
          </a:xfrm>
        </p:grpSpPr>
        <p:sp>
          <p:nvSpPr>
            <p:cNvPr id="433" name=""/>
            <p:cNvSpPr/>
            <p:nvPr/>
          </p:nvSpPr>
          <p:spPr>
            <a:xfrm>
              <a:off x="722160" y="2502000"/>
              <a:ext cx="10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Examp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19360" y="2945160"/>
              <a:ext cx="3455640" cy="520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MMENTS FROM 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"/*"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TO 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"*/"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NEST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MMENTS FROM 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"//"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TO 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"\r\n"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5" name=""/>
          <p:cNvSpPr/>
          <p:nvPr/>
        </p:nvSpPr>
        <p:spPr>
          <a:xfrm>
            <a:off x="772200" y="3859200"/>
            <a:ext cx="5516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f comments are not nested they can also be described as prag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dvantage: can be semantically proces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AA04-7D34-4085-A2AC-7F2294BBA9B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White Space and Case Sensitivity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21800" y="1282680"/>
            <a:ext cx="13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White 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981000" y="1827360"/>
            <a:ext cx="200340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GNORE   '\t' + '\r' + '\n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456000" y="1789200"/>
            <a:ext cx="255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blanks are ignored by defa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722160" y="2781360"/>
            <a:ext cx="5506920" cy="1085040"/>
            <a:chOff x="722160" y="2781360"/>
            <a:chExt cx="5506920" cy="1085040"/>
          </a:xfrm>
        </p:grpSpPr>
        <p:sp>
          <p:nvSpPr>
            <p:cNvPr id="441" name=""/>
            <p:cNvSpPr/>
            <p:nvPr/>
          </p:nvSpPr>
          <p:spPr>
            <a:xfrm>
              <a:off x="722160" y="2781360"/>
              <a:ext cx="168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Case sensitiv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909000" y="3135600"/>
              <a:ext cx="513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ompilers generated by Coco/R are case-sensitive by defaul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905040" y="3529080"/>
              <a:ext cx="389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an be made case-insensitive by the keywor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861080" y="3542040"/>
              <a:ext cx="136800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GNORECA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975600" y="4070520"/>
            <a:ext cx="7972920" cy="2599560"/>
            <a:chOff x="975600" y="4070520"/>
            <a:chExt cx="7972920" cy="2599560"/>
          </a:xfrm>
        </p:grpSpPr>
        <p:sp>
          <p:nvSpPr>
            <p:cNvPr id="446" name=""/>
            <p:cNvSpPr/>
            <p:nvPr/>
          </p:nvSpPr>
          <p:spPr>
            <a:xfrm>
              <a:off x="975600" y="4070520"/>
              <a:ext cx="4326120" cy="2599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MPILER Samp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IGNORECA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spcBef>
                  <a:spcPts val="612"/>
                </a:spcBef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HARACT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hexDigit = digit + 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'a'..'f'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OKE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number = 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"0x"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hexDigit hexDigit hexDigit hexDigit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RODUC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WhileStat = 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"while"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'(' Expr ')' Stat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ND Sample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537160" y="4113360"/>
              <a:ext cx="3411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Will recogn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0x00ff, 0X00ff, 0X00FF as a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numb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while, While, WHILE as a keywor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350320" y="5014800"/>
              <a:ext cx="3351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oken value returned to the pars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retains original cas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" name=""/>
          <p:cNvSpPr/>
          <p:nvPr/>
        </p:nvSpPr>
        <p:spPr>
          <a:xfrm rot="5400000">
            <a:off x="2361960" y="1765440"/>
            <a:ext cx="88920" cy="965160"/>
          </a:xfrm>
          <a:custGeom>
            <a:avLst/>
            <a:gdLst>
              <a:gd name="textAreaLeft" fmla="*/ 0 w 88920"/>
              <a:gd name="textAreaRight" fmla="*/ 32040 w 88920"/>
              <a:gd name="textAreaTop" fmla="*/ 24840 h 965160"/>
              <a:gd name="textAreaBottom" fmla="*/ 940320 h 965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830960" y="224640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haracter 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2C6E-4E7C-4696-AC3D-2C1D08EF438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Interface of the Generated Scanner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89840" y="1393920"/>
            <a:ext cx="3000240" cy="1920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class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Scanne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Buffer buffer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public </a:t>
            </a:r>
            <a:r>
              <a:rPr b="1" lang="de-AT" sz="1400" spc="-1" strike="noStrike">
                <a:solidFill>
                  <a:srgbClr val="ff0000"/>
                </a:solidFill>
                <a:latin typeface="Arial"/>
              </a:rPr>
              <a:t>Scanner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 (string fileName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Scanne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(Stream 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public Token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ff0000"/>
                </a:solidFill>
                <a:latin typeface="Arial"/>
              </a:rPr>
              <a:t>Scan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();</a:t>
            </a:r>
            <a:br>
              <a:rPr sz="1400"/>
            </a:b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Token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Peek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void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ResetPeek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699080" y="1989000"/>
            <a:ext cx="4013280" cy="292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314" y="39443"/>
                </a:moveTo>
                <a:lnTo>
                  <a:pt x="-410" y="8452"/>
                </a:lnTo>
              </a:path>
              <a:path w="21600" h="21600">
                <a:moveTo>
                  <a:pt x="-410" y="0"/>
                </a:moveTo>
                <a:lnTo>
                  <a:pt x="-410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main method: returns a token upon every c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699080" y="2459160"/>
            <a:ext cx="4064040" cy="583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493" y="10800"/>
                </a:moveTo>
                <a:lnTo>
                  <a:pt x="-405" y="4226"/>
                </a:lnTo>
              </a:path>
              <a:path w="21600" h="21600">
                <a:moveTo>
                  <a:pt x="-405" y="0"/>
                </a:moveTo>
                <a:lnTo>
                  <a:pt x="-405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reads ahead from the current scanner 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without removing tokens from the input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699080" y="3170160"/>
            <a:ext cx="3949560" cy="292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348" y="-14087"/>
                </a:moveTo>
                <a:lnTo>
                  <a:pt x="-417" y="8452"/>
                </a:lnTo>
              </a:path>
              <a:path w="21600" h="21600">
                <a:moveTo>
                  <a:pt x="-417" y="0"/>
                </a:moveTo>
                <a:lnTo>
                  <a:pt x="-417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resets peeking to the current scanner 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77960" y="3789360"/>
            <a:ext cx="5770440" cy="15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24452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class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Token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24452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i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kin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token kind (i.e. token numb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24452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i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po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token position in the source text (starting at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24452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i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col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token column (starting at 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24452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i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lin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token line (starting at 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24452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string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val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token 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24452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2BB0-2855-40BE-840C-97AD5BB4813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736560" y="4102200"/>
            <a:ext cx="7137360" cy="4190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1295280" y="3048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14960" y="1568520"/>
            <a:ext cx="596592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599"/>
              </a:spcAft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Generating Compilers with Coco/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Compil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Gramm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Coco/R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Scanner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Parser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LL(1) Confli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Case S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4720-7963-4D0E-B3FB-B074FBDA2222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Structure of a Parser Specification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85880" y="1281240"/>
            <a:ext cx="5464080" cy="609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143000"/>
                <a:tab algn="l" pos="143496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arserSpecification = "PRODUCTION" {Production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52560"/>
                <a:tab algn="l" pos="1143000"/>
                <a:tab algn="l" pos="143496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roduction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dent [FormalAttributes] '=' EbnfExpr '.'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85880" y="1941480"/>
            <a:ext cx="5462640" cy="243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52560"/>
                <a:tab algn="l" pos="1143000"/>
                <a:tab algn="l" pos="143496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bnfExp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lternative { '|' Alternative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143000"/>
                <a:tab algn="l" pos="143496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lternativ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[Resolver] {Element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143000"/>
                <a:tab algn="l" pos="143496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leme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ymbol [ActualAttributes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143000"/>
                <a:tab algn="l" pos="143496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'(' EbnfExpr ')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143000"/>
                <a:tab algn="l" pos="143496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'[' EbnfExpr ']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143000"/>
                <a:tab algn="l" pos="143496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'{' EbnfExpr '}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143000"/>
                <a:tab algn="l" pos="143496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ANY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143000"/>
                <a:tab algn="l" pos="143496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SYNC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143000"/>
                <a:tab algn="l" pos="143496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emAc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143000"/>
                <a:tab algn="l" pos="143496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ymbol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143000"/>
                <a:tab algn="l" pos="143496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ring | cha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85880" y="4430880"/>
            <a:ext cx="5468760" cy="609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52560"/>
                <a:tab algn="l" pos="1143000"/>
                <a:tab algn="l" pos="143496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emAction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(." 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ArbitraryCSharpStatement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".)"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52560"/>
                <a:tab algn="l" pos="1143000"/>
                <a:tab algn="l" pos="143496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esolve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IF" '(' 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ArbitraryCSharpPredicat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')'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85880" y="5091120"/>
            <a:ext cx="5467320" cy="520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52560"/>
                <a:tab algn="l" pos="1143000"/>
                <a:tab algn="l" pos="143496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ormalAttribute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'&lt;' 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ArbitraryTex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'&gt;'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143000"/>
                <a:tab algn="l" pos="143496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ctualAttribute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'&lt;' 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ArbitraryTex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'&gt;'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02B5-95CE-47DD-9A20-447FA7D4A78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Compilation Phase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35240" y="3098880"/>
            <a:ext cx="3708360" cy="4190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00400" y="3098880"/>
            <a:ext cx="357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semantic analysis (type checking, ..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0320" y="1371600"/>
            <a:ext cx="11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800" spc="-1" strike="noStrike">
                <a:solidFill>
                  <a:srgbClr val="000000"/>
                </a:solidFill>
                <a:latin typeface="Times New Roman"/>
              </a:rPr>
              <a:t>syntax tr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923920" y="2411280"/>
            <a:ext cx="236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ident = number * ident + i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09600" y="1967040"/>
            <a:ext cx="5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772080" y="2298600"/>
            <a:ext cx="71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72080" y="2298600"/>
            <a:ext cx="0" cy="1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03720" y="22352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83080" y="2298600"/>
            <a:ext cx="0" cy="1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91120" y="193032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91120" y="1930320"/>
            <a:ext cx="79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03640" y="193032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737240" y="1841400"/>
            <a:ext cx="0" cy="63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110120" y="1585800"/>
            <a:ext cx="97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737240" y="1549080"/>
            <a:ext cx="0" cy="8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187800" y="1549440"/>
            <a:ext cx="154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87800" y="154944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67160" y="154944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36960" y="147312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88400" y="117936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Stat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71040" y="3619440"/>
            <a:ext cx="151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800" spc="-1" strike="noStrike">
                <a:solidFill>
                  <a:srgbClr val="000000"/>
                </a:solidFill>
                <a:latin typeface="Times New Roman"/>
              </a:rPr>
              <a:t>intermedi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800" spc="-1" strike="noStrike">
                <a:solidFill>
                  <a:srgbClr val="000000"/>
                </a:solidFill>
                <a:latin typeface="Times New Roman"/>
              </a:rPr>
              <a:t>repres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026520" y="3706920"/>
            <a:ext cx="246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yntax tree, symbol table,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75120" y="2857680"/>
            <a:ext cx="203040" cy="20304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75120" y="3556080"/>
            <a:ext cx="203040" cy="20304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670320" y="4064040"/>
            <a:ext cx="5273280" cy="2548080"/>
            <a:chOff x="670320" y="4064040"/>
            <a:chExt cx="5273280" cy="2548080"/>
          </a:xfrm>
        </p:grpSpPr>
        <p:sp>
          <p:nvSpPr>
            <p:cNvPr id="146" name=""/>
            <p:cNvSpPr/>
            <p:nvPr/>
          </p:nvSpPr>
          <p:spPr>
            <a:xfrm>
              <a:off x="2235240" y="4330800"/>
              <a:ext cx="3708360" cy="4190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416040" y="4330800"/>
              <a:ext cx="134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Times New Roman"/>
                </a:rPr>
                <a:t>optimiz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975120" y="4788000"/>
              <a:ext cx="203040" cy="203040"/>
            </a:xfrm>
            <a:prstGeom prst="downArrow">
              <a:avLst>
                <a:gd name="adj1" fmla="val 50000"/>
                <a:gd name="adj2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235240" y="5029200"/>
              <a:ext cx="3708360" cy="4190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267000" y="5029200"/>
              <a:ext cx="163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Times New Roman"/>
                </a:rPr>
                <a:t>code gene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975120" y="5511960"/>
              <a:ext cx="203040" cy="203040"/>
            </a:xfrm>
            <a:prstGeom prst="downArrow">
              <a:avLst>
                <a:gd name="adj1" fmla="val 50000"/>
                <a:gd name="adj2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630240" y="5740560"/>
              <a:ext cx="8676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482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onst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82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load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82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82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975120" y="4064040"/>
              <a:ext cx="203040" cy="203040"/>
            </a:xfrm>
            <a:prstGeom prst="downArrow">
              <a:avLst>
                <a:gd name="adj1" fmla="val 50000"/>
                <a:gd name="adj2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0320" y="5753160"/>
              <a:ext cx="144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800" spc="-1" strike="noStrike">
                  <a:solidFill>
                    <a:srgbClr val="000000"/>
                  </a:solidFill>
                  <a:latin typeface="Times New Roman"/>
                </a:rPr>
                <a:t>machine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7FC0-3B0A-4C78-80E8-7B8308138647}" type="slidenum">
              <a:t>3</a:t>
            </a:fld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Production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74280" y="1371600"/>
            <a:ext cx="66715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Can occur in any or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There must be exactly 1 production for every nonterm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There must be a production for the start symbol (the grammar 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71400" y="270036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73280" y="3156120"/>
            <a:ext cx="51512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525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MPILER 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Ex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525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525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RODU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525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Exp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imExpr [RelOp SimExpr]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525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imExp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erm {AddOp Term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525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erm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actor {Mulop Factor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525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acto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dent | number | "-" Factor | "true" | "false"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525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elOp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==" | "&lt;" | "&gt;"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525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ddOp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+" | "-"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525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MulOp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*" | "/"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525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ND Exp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040080" y="3859200"/>
            <a:ext cx="2745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rbitrary context-free gramm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n EBN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BE5D-3E95-4DB2-859B-26FD821272A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Semantic Action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06680" y="1219320"/>
            <a:ext cx="36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Arbitrary C# code between </a:t>
            </a:r>
            <a:r>
              <a:rPr b="1" lang="de-AT" sz="1800" spc="-1" strike="noStrike">
                <a:solidFill>
                  <a:srgbClr val="3333cc"/>
                </a:solidFill>
                <a:latin typeface="Times New Roman"/>
              </a:rPr>
              <a:t>(.</a:t>
            </a: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de-AT" sz="1800" spc="-1" strike="noStrike">
                <a:solidFill>
                  <a:srgbClr val="3333cc"/>
                </a:solidFill>
                <a:latin typeface="Times New Roman"/>
              </a:rPr>
              <a:t>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057320" y="1649520"/>
            <a:ext cx="3470400" cy="1203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dentLis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 int n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904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de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 n = 1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 ',' ide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 n++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 Console.WriteLine(n)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3200040" y="1790640"/>
            <a:ext cx="146052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652640" y="1598760"/>
            <a:ext cx="229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local semantic decla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3200040" y="2057400"/>
            <a:ext cx="146052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650120" y="1865160"/>
            <a:ext cx="144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emantic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986760" y="2932200"/>
            <a:ext cx="716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emantic actions are copied to the generated parser without being checked by Coco/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707760" y="3568680"/>
            <a:ext cx="8361000" cy="2959920"/>
            <a:chOff x="707760" y="3568680"/>
            <a:chExt cx="8361000" cy="2959920"/>
          </a:xfrm>
        </p:grpSpPr>
        <p:sp>
          <p:nvSpPr>
            <p:cNvPr id="479" name=""/>
            <p:cNvSpPr/>
            <p:nvPr/>
          </p:nvSpPr>
          <p:spPr>
            <a:xfrm>
              <a:off x="707760" y="3568680"/>
              <a:ext cx="301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Global semantic declar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055880" y="4003560"/>
              <a:ext cx="3711600" cy="25250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57168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using System.IO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57168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MPILER Samp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57168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Stream s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57168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void OpenStream(string path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s = File.OpenRead(path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RODUC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ample = ..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(. OpenStream("in.txt");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ND Sample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886200" y="4521240"/>
              <a:ext cx="88920" cy="1003320"/>
            </a:xfrm>
            <a:custGeom>
              <a:avLst/>
              <a:gdLst>
                <a:gd name="textAreaLeft" fmla="*/ 0 w 88920"/>
                <a:gd name="textAreaRight" fmla="*/ 32040 w 88920"/>
                <a:gd name="textAreaTop" fmla="*/ 25920 h 1003320"/>
                <a:gd name="textAreaBottom" fmla="*/ 977400 h 100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4114800" y="5016600"/>
              <a:ext cx="8128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048640" y="4811760"/>
              <a:ext cx="3594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global semantic declar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(become fields and methods of the parser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>
              <a:off x="2628720" y="4127400"/>
              <a:ext cx="22986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044680" y="3935520"/>
              <a:ext cx="196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mport of namespa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4723920" y="6019920"/>
              <a:ext cx="2034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049000" y="5827680"/>
              <a:ext cx="4019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semantic actions can access global declar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s well as imported class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22F8-FD98-4522-A0E5-3C9D2C1A041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6089760" y="2660760"/>
            <a:ext cx="2590560" cy="6728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753000" y="2660760"/>
            <a:ext cx="2108160" cy="6728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Attribute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70680" y="1231920"/>
            <a:ext cx="264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For nonterminal symb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018080" y="2557440"/>
            <a:ext cx="2404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AT" sz="1600" spc="-1" strike="noStrike">
                <a:solidFill>
                  <a:srgbClr val="000000"/>
                </a:solidFill>
                <a:latin typeface="Times New Roman"/>
              </a:rPr>
              <a:t>output 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ass results of a p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o the "caller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118200" y="2658960"/>
            <a:ext cx="187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xpr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&lt;out int val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=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753360" y="2658960"/>
            <a:ext cx="19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 = ... Expr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&lt;out n&gt;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115680" y="2963880"/>
            <a:ext cx="260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ist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&lt;ref StringBuilder buf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=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753000" y="2951280"/>
            <a:ext cx="178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 = ... List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&lt;ref b&gt;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508800" y="1481040"/>
            <a:ext cx="155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formal 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007160" y="1481040"/>
            <a:ext cx="152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actual 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670320" y="3695760"/>
            <a:ext cx="8016480" cy="2702880"/>
            <a:chOff x="670320" y="3695760"/>
            <a:chExt cx="8016480" cy="2702880"/>
          </a:xfrm>
        </p:grpSpPr>
        <p:sp>
          <p:nvSpPr>
            <p:cNvPr id="500" name=""/>
            <p:cNvSpPr/>
            <p:nvPr/>
          </p:nvSpPr>
          <p:spPr>
            <a:xfrm>
              <a:off x="670320" y="3695760"/>
              <a:ext cx="227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For terminal symb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018800" y="4087800"/>
              <a:ext cx="19072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no explicit attributes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values are returned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by the scan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746520" y="4191120"/>
              <a:ext cx="4927680" cy="507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769560" y="4164120"/>
              <a:ext cx="3635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Number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&lt;out int n&gt;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number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(. n = Convert.ToInt32(t.val); .)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050720" y="3821040"/>
              <a:ext cx="279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adapter nonterminals necess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746520" y="4788000"/>
              <a:ext cx="4940280" cy="507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774240" y="4761000"/>
              <a:ext cx="2582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dent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&lt;out string name&gt;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den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(. name = t.val; .)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019520" y="5472000"/>
              <a:ext cx="3209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Parser has two global token variab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088640" y="5878440"/>
              <a:ext cx="4225320" cy="520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oken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;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// most recently recognized tok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oken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la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;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// lookahead token (not yet recognized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" name=""/>
          <p:cNvSpPr/>
          <p:nvPr/>
        </p:nvSpPr>
        <p:spPr>
          <a:xfrm>
            <a:off x="6089760" y="1841400"/>
            <a:ext cx="2590560" cy="6732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753000" y="1841400"/>
            <a:ext cx="2108160" cy="6732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020960" y="1738440"/>
            <a:ext cx="2507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AT" sz="1600" spc="-1" strike="noStrike">
                <a:solidFill>
                  <a:srgbClr val="000000"/>
                </a:solidFill>
                <a:latin typeface="Times New Roman"/>
              </a:rPr>
              <a:t>input 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ass values from the "caller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o a p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117120" y="1992240"/>
            <a:ext cx="191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dentList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&lt;Type t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=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750840" y="1992240"/>
            <a:ext cx="217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 = ... IdentLIst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&lt;type&gt;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652D-F165-4513-94DA-84EA6B64B82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The symbol ANY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0000" y="1282680"/>
            <a:ext cx="63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Denotes any token that is not an alternative of this ANY symb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1240" y="1873080"/>
            <a:ext cx="45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: counting the number of occurrences of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103400" y="2282760"/>
            <a:ext cx="3079800" cy="668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9044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int"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 intCounter++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1866960" y="2813040"/>
            <a:ext cx="256536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572360" y="2646360"/>
            <a:ext cx="19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ny token except "int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742320" y="3530520"/>
            <a:ext cx="5721120" cy="1269360"/>
            <a:chOff x="742320" y="3530520"/>
            <a:chExt cx="5721120" cy="1269360"/>
          </a:xfrm>
        </p:grpSpPr>
        <p:sp>
          <p:nvSpPr>
            <p:cNvPr id="521" name=""/>
            <p:cNvSpPr/>
            <p:nvPr/>
          </p:nvSpPr>
          <p:spPr>
            <a:xfrm>
              <a:off x="742320" y="3530520"/>
              <a:ext cx="455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Example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: computing the length of a semantic a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103400" y="3939840"/>
              <a:ext cx="3066840" cy="8600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90440"/>
                  <a:tab algn="l" pos="380880"/>
                  <a:tab algn="l" pos="1054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emAction&lt;out int len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90440"/>
                  <a:tab algn="l" pos="380880"/>
                  <a:tab algn="l" pos="1054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(."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. int beg = t.pos + 2;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90440"/>
                  <a:tab algn="l" pos="380880"/>
                  <a:tab algn="l" pos="1054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{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ANY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90440"/>
                  <a:tab algn="l" pos="380880"/>
                  <a:tab algn="l" pos="1054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.)"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. len = t.pos - beg; .) 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>
              <a:off x="2044800" y="4457520"/>
              <a:ext cx="23875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572720" y="4290840"/>
              <a:ext cx="189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ny token except ".)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D558-A6A4-4CCB-A34D-A38E7AC6744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3009960" y="914400"/>
            <a:ext cx="1320840" cy="330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800280" y="1498680"/>
            <a:ext cx="1434960" cy="965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Frame File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901800" y="1623960"/>
            <a:ext cx="124596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canner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900000" y="2043000"/>
            <a:ext cx="125568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arser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923040" y="1166760"/>
            <a:ext cx="108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ample.at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004200" y="925560"/>
            <a:ext cx="135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canner.fr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009960" y="2679840"/>
            <a:ext cx="1320840" cy="330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074400" y="2690640"/>
            <a:ext cx="121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arser.fr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832120" y="1498680"/>
            <a:ext cx="1689120" cy="96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3556080" y="1676520"/>
            <a:ext cx="216000" cy="215640"/>
            <a:chOff x="3556080" y="1676520"/>
            <a:chExt cx="216000" cy="215640"/>
          </a:xfrm>
        </p:grpSpPr>
        <p:sp>
          <p:nvSpPr>
            <p:cNvPr id="536" name=""/>
            <p:cNvSpPr/>
            <p:nvPr/>
          </p:nvSpPr>
          <p:spPr>
            <a:xfrm>
              <a:off x="3556080" y="1676520"/>
              <a:ext cx="216000" cy="215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670200" y="1676520"/>
              <a:ext cx="0" cy="20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556080" y="177768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3556080" y="2095560"/>
            <a:ext cx="216000" cy="216000"/>
            <a:chOff x="3556080" y="2095560"/>
            <a:chExt cx="216000" cy="216000"/>
          </a:xfrm>
        </p:grpSpPr>
        <p:sp>
          <p:nvSpPr>
            <p:cNvPr id="540" name=""/>
            <p:cNvSpPr/>
            <p:nvPr/>
          </p:nvSpPr>
          <p:spPr>
            <a:xfrm>
              <a:off x="3556080" y="2095560"/>
              <a:ext cx="216000" cy="216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670200" y="209556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556080" y="219708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3" name=""/>
          <p:cNvSpPr/>
          <p:nvPr/>
        </p:nvSpPr>
        <p:spPr>
          <a:xfrm>
            <a:off x="2146320" y="1778040"/>
            <a:ext cx="1384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146320" y="2209680"/>
            <a:ext cx="1384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09880" y="1778040"/>
            <a:ext cx="138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809880" y="2209680"/>
            <a:ext cx="138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3670200" y="232416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670200" y="1257480"/>
            <a:ext cx="0" cy="40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219640" y="1625760"/>
            <a:ext cx="1320840" cy="330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351400" y="1636560"/>
            <a:ext cx="107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canner.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219640" y="2057400"/>
            <a:ext cx="1320840" cy="330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421240" y="2068560"/>
            <a:ext cx="9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arser.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770280" y="14335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Coco/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747000" y="3143160"/>
            <a:ext cx="7905240" cy="3533400"/>
            <a:chOff x="747000" y="3143160"/>
            <a:chExt cx="7905240" cy="3533400"/>
          </a:xfrm>
        </p:grpSpPr>
        <p:sp>
          <p:nvSpPr>
            <p:cNvPr id="555" name=""/>
            <p:cNvSpPr/>
            <p:nvPr/>
          </p:nvSpPr>
          <p:spPr>
            <a:xfrm>
              <a:off x="747000" y="3143160"/>
              <a:ext cx="23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Scanner.frame snipp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838800" y="3598920"/>
              <a:ext cx="2743920" cy="30776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ublic class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Scanner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nst char EOL = '\n'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nst int eofSym = 0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--&gt;declara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ublic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Scanner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(Stream s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uffer = new Buffer(s, true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nit(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void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Ini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(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os = -1; line = 1; 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--&gt;initializ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087080" y="3573360"/>
              <a:ext cx="4565160" cy="16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oco/R inserts generated parts at positions</a:t>
              </a:r>
              <a:br>
                <a:rPr sz="1600"/>
              </a:b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marked by "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-&gt;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...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Users can edit the frame files for adapting</a:t>
              </a:r>
              <a:br>
                <a:rPr sz="1600"/>
              </a:b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he generated scanner and parser to their nee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Frame files are expected to be in the same directory</a:t>
              </a:r>
              <a:br>
                <a:rPr sz="1600"/>
              </a:b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s the compiler specification (e.g.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Sample.atg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0399-2CEC-4C8B-8C31-02315CA6FFF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Interface of the Generated Parser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849240" y="1230480"/>
            <a:ext cx="5378400" cy="2200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class Parser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Scanner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scanne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/ the scanner of this par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Errors 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error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the error message stre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90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Token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most recently recognized tok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Token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l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lookahead tok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Parse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(Scanner scanne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Parse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SemEr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(string msg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770040" y="3575160"/>
            <a:ext cx="5451120" cy="2505600"/>
            <a:chOff x="770040" y="3575160"/>
            <a:chExt cx="5451120" cy="2505600"/>
          </a:xfrm>
        </p:grpSpPr>
        <p:sp>
          <p:nvSpPr>
            <p:cNvPr id="561" name=""/>
            <p:cNvSpPr/>
            <p:nvPr/>
          </p:nvSpPr>
          <p:spPr>
            <a:xfrm>
              <a:off x="854640" y="4068720"/>
              <a:ext cx="5366520" cy="20120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ublic class MyCompiler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ublic static void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Main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string[] arg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canner scanner = new Scanner(arg[0]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arser parser = new Parser(scanner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parser.Parse(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nsole.WriteLine(parser.errors.count + " errors detected"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70040" y="3575160"/>
              <a:ext cx="399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Parser invocation in the main progra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46C6-729D-48B8-8C27-C624A730685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736560" y="4533840"/>
            <a:ext cx="7137360" cy="4190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1295280" y="3048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14960" y="1568520"/>
            <a:ext cx="596592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599"/>
              </a:spcAft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Generating Compilers with Coco/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Compil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Gramm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Coco/R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Scanner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Parser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6.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LL(1) Confli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Case S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5E5F-EF17-4902-BB8F-C23F499426ED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Syntax Error Handling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93360" y="1206360"/>
            <a:ext cx="51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Syntax error messages are generated automatic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95160" y="1790640"/>
            <a:ext cx="301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For invalid terminal symb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026720" y="2195640"/>
            <a:ext cx="107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p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382120" y="222084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 = a b 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027080" y="2487600"/>
            <a:ext cx="59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383920" y="2513160"/>
            <a:ext cx="56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027800" y="2792520"/>
            <a:ext cx="134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error mess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373840" y="2817720"/>
            <a:ext cx="22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-- line ... col ...: b expec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694440" y="3390840"/>
            <a:ext cx="3765600" cy="1339200"/>
            <a:chOff x="694440" y="3390840"/>
            <a:chExt cx="3765600" cy="1339200"/>
          </a:xfrm>
        </p:grpSpPr>
        <p:sp>
          <p:nvSpPr>
            <p:cNvPr id="576" name=""/>
            <p:cNvSpPr/>
            <p:nvPr/>
          </p:nvSpPr>
          <p:spPr>
            <a:xfrm>
              <a:off x="694440" y="3390840"/>
              <a:ext cx="2821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For invalid alternative lis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026720" y="3795840"/>
              <a:ext cx="1075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produ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79240" y="3821040"/>
              <a:ext cx="1552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 = a (b | c | d) e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027080" y="4087800"/>
              <a:ext cx="599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383920" y="4113360"/>
              <a:ext cx="56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027800" y="4392720"/>
              <a:ext cx="134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error mess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376000" y="4417920"/>
              <a:ext cx="2084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-- line ... col ...: invalid 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692640" y="4965840"/>
            <a:ext cx="6069600" cy="1529280"/>
            <a:chOff x="692640" y="4965840"/>
            <a:chExt cx="6069600" cy="1529280"/>
          </a:xfrm>
        </p:grpSpPr>
        <p:sp>
          <p:nvSpPr>
            <p:cNvPr id="584" name=""/>
            <p:cNvSpPr/>
            <p:nvPr/>
          </p:nvSpPr>
          <p:spPr>
            <a:xfrm>
              <a:off x="692640" y="4965840"/>
              <a:ext cx="606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Error message can be improved by rewriting the produ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027080" y="5370480"/>
              <a:ext cx="115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produ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381400" y="5396040"/>
              <a:ext cx="1123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 = a T e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 = b | c | d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027080" y="5853240"/>
              <a:ext cx="599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383920" y="5878440"/>
              <a:ext cx="56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027800" y="6157800"/>
              <a:ext cx="134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error mess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375640" y="6183360"/>
              <a:ext cx="207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-- line ... col ...: invalid 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08D6-3840-4DE4-98D1-18EEC20F8B52}" type="slidenum">
              <a:t>37</a:t>
            </a:fld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Syntax Error Recovery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80400" y="1181160"/>
            <a:ext cx="779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The user must specify synchronization points where the parser should reco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997920" y="1649520"/>
            <a:ext cx="4402080" cy="1669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em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ff0000"/>
                </a:solidFill>
                <a:latin typeface="Arial"/>
              </a:rPr>
              <a:t>SYN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Designator "=" Expr </a:t>
            </a:r>
            <a:r>
              <a:rPr b="1" lang="de-AT" sz="1400" spc="-1" strike="noStrike">
                <a:solidFill>
                  <a:srgbClr val="ff0000"/>
                </a:solidFill>
                <a:latin typeface="Arial"/>
              </a:rPr>
              <a:t>SYNC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';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if" '(' Expression ')' Statement ["else" Statement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while" '(' Expression ')' Stat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'{' {Statement} '}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1904760" y="1841400"/>
            <a:ext cx="749160" cy="15264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793960" y="1854360"/>
            <a:ext cx="444600" cy="2664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260080" y="1547640"/>
            <a:ext cx="202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ynchronization poi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683280" y="5359320"/>
            <a:ext cx="6505200" cy="1396080"/>
            <a:chOff x="683280" y="5359320"/>
            <a:chExt cx="6505200" cy="1396080"/>
          </a:xfrm>
        </p:grpSpPr>
        <p:sp>
          <p:nvSpPr>
            <p:cNvPr id="598" name=""/>
            <p:cNvSpPr/>
            <p:nvPr/>
          </p:nvSpPr>
          <p:spPr>
            <a:xfrm>
              <a:off x="683280" y="5359320"/>
              <a:ext cx="401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What are good synchronization points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812880" y="5688000"/>
              <a:ext cx="63756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Locations in the grammar where particularly "safe" tokens are expec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start of a statement: if, while, do, 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start of a declaration: public, static, void, 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n front of a semicol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716760" y="3409920"/>
            <a:ext cx="7783560" cy="1830240"/>
            <a:chOff x="716760" y="3409920"/>
            <a:chExt cx="7783560" cy="1830240"/>
          </a:xfrm>
        </p:grpSpPr>
        <p:sp>
          <p:nvSpPr>
            <p:cNvPr id="601" name=""/>
            <p:cNvSpPr/>
            <p:nvPr/>
          </p:nvSpPr>
          <p:spPr>
            <a:xfrm>
              <a:off x="1204920" y="4506840"/>
              <a:ext cx="3043080" cy="733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while (la.kind </a:t>
              </a:r>
              <a:r>
                <a:rPr b="0" i="1" lang="de-AT" sz="1400" spc="-1" strike="noStrike">
                  <a:solidFill>
                    <a:srgbClr val="000000"/>
                  </a:solidFill>
                  <a:latin typeface="Arial"/>
                </a:rPr>
                <a:t>is not accepted here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la = scanner.Scan(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949680" y="3693960"/>
              <a:ext cx="75506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parser reports the err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parser continues to the next synchronization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parser skips input symbols until it finds one that is expected at the synchronization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16760" y="3409920"/>
              <a:ext cx="386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What happens if an error is detected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3699-9CD7-49E1-95DC-4F3B11460F9B}" type="slidenum">
              <a:t>38</a:t>
            </a:fld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Semantic Error Handling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20720" y="1320840"/>
            <a:ext cx="341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Must be done in semantic 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819360" y="1839960"/>
            <a:ext cx="6346800" cy="946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xpr&lt;out Type type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ype type1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erm&lt;out 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'+' Term&lt;out type1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type != type1) 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SemErr("incompatible types")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721080" y="3673440"/>
            <a:ext cx="3015360" cy="1669320"/>
            <a:chOff x="721080" y="3673440"/>
            <a:chExt cx="3015360" cy="1669320"/>
          </a:xfrm>
        </p:grpSpPr>
        <p:sp>
          <p:nvSpPr>
            <p:cNvPr id="608" name=""/>
            <p:cNvSpPr/>
            <p:nvPr/>
          </p:nvSpPr>
          <p:spPr>
            <a:xfrm>
              <a:off x="721080" y="3673440"/>
              <a:ext cx="301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AT" sz="1800" spc="-1" strike="noStrike">
                  <a:solidFill>
                    <a:srgbClr val="000000"/>
                  </a:solidFill>
                  <a:latin typeface="Times New Roman"/>
                </a:rPr>
                <a:t>SemErr</a:t>
              </a: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 method in the pars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825480" y="4183200"/>
              <a:ext cx="2905560" cy="1159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2095560"/>
                  <a:tab algn="l" pos="228600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void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SemErr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(string msg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2095560"/>
                  <a:tab algn="l" pos="228600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2095560"/>
                  <a:tab algn="l" pos="228600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rrors.SemErr(t.line, t.col, msg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2095560"/>
                  <a:tab algn="l" pos="228600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2095560"/>
                  <a:tab algn="l" pos="228600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10BA-E9D7-4CBF-B1AF-4BCCC56EDF2B}" type="slidenum">
              <a:t>39</a:t>
            </a:fld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Structure of a Compiler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382200" y="1801800"/>
            <a:ext cx="147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arser &a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em.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1714680"/>
            <a:ext cx="1663560" cy="749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690200" y="312264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536840" y="3086280"/>
            <a:ext cx="1066680" cy="419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03880" y="3909960"/>
            <a:ext cx="122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ymbol 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467160" y="3873600"/>
            <a:ext cx="1270080" cy="419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667120" y="3122640"/>
            <a:ext cx="147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626080" y="3086280"/>
            <a:ext cx="1587600" cy="419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089240" y="2463840"/>
            <a:ext cx="0" cy="139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2590920" y="2463840"/>
            <a:ext cx="8380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788000" y="2463840"/>
            <a:ext cx="838080" cy="63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4749840" y="3276720"/>
            <a:ext cx="87624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41200" y="3745080"/>
            <a:ext cx="1886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provides tokens f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the source 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887560" y="4532400"/>
            <a:ext cx="251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maintains information ab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declared names and typ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65440" y="3745080"/>
            <a:ext cx="214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generates machine 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081040" y="1611360"/>
            <a:ext cx="259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"main program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directs the whole compi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88840" y="5613480"/>
            <a:ext cx="571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49520" y="5446800"/>
            <a:ext cx="53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u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35040" y="2145960"/>
            <a:ext cx="7581960" cy="4107960"/>
            <a:chOff x="635040" y="2145960"/>
            <a:chExt cx="7581960" cy="4107960"/>
          </a:xfrm>
        </p:grpSpPr>
        <p:sp>
          <p:nvSpPr>
            <p:cNvPr id="175" name=""/>
            <p:cNvSpPr/>
            <p:nvPr/>
          </p:nvSpPr>
          <p:spPr>
            <a:xfrm>
              <a:off x="635040" y="3098880"/>
              <a:ext cx="393840" cy="393480"/>
            </a:xfrm>
            <a:prstGeom prst="can">
              <a:avLst>
                <a:gd name="adj" fmla="val 25000"/>
              </a:avLst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823160" y="3098880"/>
              <a:ext cx="393840" cy="393480"/>
            </a:xfrm>
            <a:prstGeom prst="can">
              <a:avLst>
                <a:gd name="adj" fmla="val 25000"/>
              </a:avLst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2044800" y="2145960"/>
              <a:ext cx="1218960" cy="9399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3848040" y="2463480"/>
              <a:ext cx="0" cy="13590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028880" y="3301920"/>
              <a:ext cx="4950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264440" y="3301920"/>
              <a:ext cx="4953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940280" y="2171880"/>
              <a:ext cx="1143000" cy="9014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88840" y="6083280"/>
              <a:ext cx="5716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650960" y="5916600"/>
              <a:ext cx="941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data flo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D8E7-1276-440D-94CB-88C2930CD0C6}" type="slidenum">
              <a:t>4</a:t>
            </a:fld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Errors Clas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87680" y="1687680"/>
            <a:ext cx="7340400" cy="4982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class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Error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90440"/>
                <a:tab algn="l" pos="380880"/>
                <a:tab algn="l" pos="57168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int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cou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= 0; 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// number of errors detec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TextWriter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errorStream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= Console.Ou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// error message stre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string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errMsgForma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= "-- line {0} col {1}: {2}"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// 0=line, 1=column, 2=t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90440"/>
                <a:tab algn="l" pos="380880"/>
                <a:tab algn="l" pos="57168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// called by the programmer (via Parser.SemErr) to report semantic err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SemEr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(int line, int col, string msg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rrorStream.WriteLine(errMsgFormat, line, col, msg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unt++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92280" y="1168560"/>
            <a:ext cx="535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Coco/R generates a class for error message repor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762840" y="3897360"/>
            <a:ext cx="6980400" cy="2438280"/>
            <a:chOff x="762840" y="3897360"/>
            <a:chExt cx="6980400" cy="2438280"/>
          </a:xfrm>
        </p:grpSpPr>
        <p:sp>
          <p:nvSpPr>
            <p:cNvPr id="614" name=""/>
            <p:cNvSpPr/>
            <p:nvPr/>
          </p:nvSpPr>
          <p:spPr>
            <a:xfrm>
              <a:off x="762840" y="3897360"/>
              <a:ext cx="4967280" cy="24382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181080"/>
                  <a:tab algn="l" pos="361800"/>
                  <a:tab algn="l" pos="542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8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8000"/>
                  </a:solidFill>
                  <a:latin typeface="Arial"/>
                </a:rPr>
                <a:t>// called automatically by the parser to report syntax erro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1080"/>
                  <a:tab algn="l" pos="361800"/>
                  <a:tab algn="l" pos="542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ublic void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SynErr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(int line, int col, int n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1080"/>
                  <a:tab algn="l" pos="361800"/>
                  <a:tab algn="l" pos="542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ring msg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1080"/>
                  <a:tab algn="l" pos="361800"/>
                  <a:tab algn="l" pos="542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witch (n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1080"/>
                  <a:tab algn="l" pos="361800"/>
                  <a:tab algn="l" pos="542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ase 0: msg = "..."; break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1080"/>
                  <a:tab algn="l" pos="361800"/>
                  <a:tab algn="l" pos="542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ase 1: msg = "..."; break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1080"/>
                  <a:tab algn="l" pos="361800"/>
                  <a:tab algn="l" pos="542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1080"/>
                  <a:tab algn="l" pos="361800"/>
                  <a:tab algn="l" pos="542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1080"/>
                  <a:tab algn="l" pos="361800"/>
                  <a:tab algn="l" pos="542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rrorStream.WriteLine(errMsgFormat, line, col, msg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1080"/>
                  <a:tab algn="l" pos="361800"/>
                  <a:tab algn="l" pos="542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unt++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1080"/>
                  <a:tab algn="l" pos="361800"/>
                  <a:tab algn="l" pos="542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 flipV="1">
              <a:off x="3568680" y="4933440"/>
              <a:ext cx="393840" cy="1018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>
              <a:off x="3606840" y="5099040"/>
              <a:ext cx="355680" cy="25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003920" y="4881600"/>
              <a:ext cx="373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syntax error messages generated by Coco/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2024-FD25-4AEB-81FB-EE2D490F0595}" type="slidenum">
              <a:t>40</a:t>
            </a:fld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736560" y="4978440"/>
            <a:ext cx="7137360" cy="4190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1295280" y="3048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14960" y="1568520"/>
            <a:ext cx="596592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599"/>
              </a:spcAft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Generating Compilers with Coco/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Compil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Gramm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Coco/R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Scanner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Parser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7.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LL(1) Confli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Case S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669A-93FD-420B-A66D-E85845B68E96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Terminal Start Symbols of Nonterminal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07040" y="1333440"/>
            <a:ext cx="674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Those terminal symbols with which a nonterminal symbol can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104120" y="1814400"/>
            <a:ext cx="3405600" cy="821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xp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 ["+" | "-"] Term {("+" | "-") Term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erm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 Factor {("*" | "/") Factor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acto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 ident | number | "(" Expr ")"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784800" y="3251160"/>
            <a:ext cx="15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First(Factor)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63640" y="3251160"/>
            <a:ext cx="183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0000"/>
                </a:solidFill>
                <a:latin typeface="Times New Roman"/>
              </a:rPr>
              <a:t>ident, number, "(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84440" y="388620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First(Term)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65080" y="388620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First(Fac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662560" y="4241880"/>
            <a:ext cx="20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de-AT" sz="1800" spc="-1" strike="noStrike">
                <a:solidFill>
                  <a:srgbClr val="ff0000"/>
                </a:solidFill>
                <a:latin typeface="Times New Roman"/>
              </a:rPr>
              <a:t>ident, number, "(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85160" y="491508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First(Expr)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64360" y="4915080"/>
            <a:ext cx="20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"+", "-", First(Ter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661840" y="5295960"/>
            <a:ext cx="28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de-AT" sz="1800" spc="-1" strike="noStrike">
                <a:solidFill>
                  <a:srgbClr val="ff0000"/>
                </a:solidFill>
                <a:latin typeface="Times New Roman"/>
              </a:rPr>
              <a:t>"+", "-", ident, number, "(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32EC-0AE4-44F1-9697-53F4DF88FFF1}" type="slidenum">
              <a:t>42</a:t>
            </a:fld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Terminal Successors of Nonterminal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705240" y="1333440"/>
            <a:ext cx="704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Those terminal symbols that can follow a nonterminal in the gramm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104120" y="1814400"/>
            <a:ext cx="3405600" cy="821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xp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 ["+" | "-"] Term {("+" | "-") Term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erm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 Factor {("*" | "/") Factor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acto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 ident | number | "(" Expr ")"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85160" y="325116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Follow(Expr)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665440" y="3251160"/>
            <a:ext cx="8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0000"/>
                </a:solidFill>
                <a:latin typeface="Times New Roman"/>
              </a:rPr>
              <a:t>")", e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84440" y="3886200"/>
            <a:ext cx="16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Follow(Term)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664720" y="388620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"+", "-", Follow(Exp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663640" y="4241880"/>
            <a:ext cx="184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de-AT" sz="1800" spc="-1" strike="noStrike">
                <a:solidFill>
                  <a:srgbClr val="ff0000"/>
                </a:solidFill>
                <a:latin typeface="Times New Roman"/>
              </a:rPr>
              <a:t>"+", "-", ")", e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84800" y="4915080"/>
            <a:ext cx="175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Follow(Factor)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664720" y="4915080"/>
            <a:ext cx="22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"*", "/", Follow(Ter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663640" y="5295960"/>
            <a:ext cx="26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de-AT" sz="1800" spc="-1" strike="noStrike">
                <a:solidFill>
                  <a:srgbClr val="ff0000"/>
                </a:solidFill>
                <a:latin typeface="Times New Roman"/>
              </a:rPr>
              <a:t>"*", "/", "+", "-", ")", e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450400" y="3046320"/>
            <a:ext cx="2788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Where does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occur on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right-hand side of a production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What terminal symbols c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follow ther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21E3-AAEF-488F-9C11-CC703C7851E6}" type="slidenum">
              <a:t>43</a:t>
            </a:fld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LL(1) Condition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84720" y="1270080"/>
            <a:ext cx="71438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For recursive descent parsing a grammar must be LL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(parseable from </a:t>
            </a: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eft to right with </a:t>
            </a: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eftcanonical derivations and </a:t>
            </a: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lookahead symbo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671400" y="2070000"/>
            <a:ext cx="6958080" cy="1023840"/>
            <a:chOff x="671400" y="2070000"/>
            <a:chExt cx="6958080" cy="1023840"/>
          </a:xfrm>
        </p:grpSpPr>
        <p:sp>
          <p:nvSpPr>
            <p:cNvPr id="647" name=""/>
            <p:cNvSpPr/>
            <p:nvPr/>
          </p:nvSpPr>
          <p:spPr>
            <a:xfrm>
              <a:off x="671400" y="2070000"/>
              <a:ext cx="115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90480" y="2436840"/>
              <a:ext cx="6939000" cy="6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291960"/>
                  <a:tab algn="l" pos="482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 grammar is LL(1) if all its productions are LL(1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291960"/>
                  <a:tab algn="l" pos="482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 production is LL(1) if all its alternatives start with different terminal symbo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996480" y="3325680"/>
            <a:ext cx="1317600" cy="1335240"/>
            <a:chOff x="996480" y="3325680"/>
            <a:chExt cx="1317600" cy="1335240"/>
          </a:xfrm>
        </p:grpSpPr>
        <p:sp>
          <p:nvSpPr>
            <p:cNvPr id="650" name=""/>
            <p:cNvSpPr/>
            <p:nvPr/>
          </p:nvSpPr>
          <p:spPr>
            <a:xfrm>
              <a:off x="1086480" y="3325680"/>
              <a:ext cx="103860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 = a b | c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996480" y="3846600"/>
              <a:ext cx="131760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LL(1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First(a b) = {a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First(c) = {c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3446640" y="3325680"/>
            <a:ext cx="1368000" cy="1335240"/>
            <a:chOff x="3446640" y="3325680"/>
            <a:chExt cx="1368000" cy="1335240"/>
          </a:xfrm>
        </p:grpSpPr>
        <p:sp>
          <p:nvSpPr>
            <p:cNvPr id="653" name=""/>
            <p:cNvSpPr/>
            <p:nvPr/>
          </p:nvSpPr>
          <p:spPr>
            <a:xfrm>
              <a:off x="3538080" y="3325680"/>
              <a:ext cx="1056960" cy="520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 = a b | T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 = [a] c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446640" y="3846600"/>
              <a:ext cx="136800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not LL(1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First(a b) = {a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First(T) = {a, c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671400" y="4927680"/>
            <a:ext cx="8178840" cy="1643760"/>
            <a:chOff x="671400" y="4927680"/>
            <a:chExt cx="8178840" cy="1643760"/>
          </a:xfrm>
        </p:grpSpPr>
        <p:sp>
          <p:nvSpPr>
            <p:cNvPr id="656" name=""/>
            <p:cNvSpPr/>
            <p:nvPr/>
          </p:nvSpPr>
          <p:spPr>
            <a:xfrm>
              <a:off x="671400" y="4927680"/>
              <a:ext cx="16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In other word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85440" y="5332320"/>
              <a:ext cx="8164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he parser must always be able to select one of the alternatives by looking at the lookahead toke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086120" y="5776920"/>
              <a:ext cx="117576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 = (a b | T)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>
              <a:off x="1473120" y="6006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384920" y="6234120"/>
              <a:ext cx="599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f the parser sees an "a" here it cannot decide which alternative to sele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78A3-0DEB-46A7-A193-6B417AB5B992}" type="slidenum">
              <a:t>44</a:t>
            </a:fld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How to Remove LL(1) Conflict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95880" y="1079640"/>
            <a:ext cx="149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Factor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077840" y="1509840"/>
            <a:ext cx="477828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Stateme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if" "(" Expr ")" Stat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if" "(" Expr ")" Statement "else" Stateme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1008000" y="2004840"/>
            <a:ext cx="4856400" cy="1025640"/>
            <a:chOff x="1008000" y="2004840"/>
            <a:chExt cx="4856400" cy="1025640"/>
          </a:xfrm>
        </p:grpSpPr>
        <p:sp>
          <p:nvSpPr>
            <p:cNvPr id="665" name=""/>
            <p:cNvSpPr/>
            <p:nvPr/>
          </p:nvSpPr>
          <p:spPr>
            <a:xfrm>
              <a:off x="1008000" y="2004840"/>
              <a:ext cx="280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Extract common start sequen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077840" y="2297160"/>
              <a:ext cx="4786560" cy="733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52560"/>
                  <a:tab algn="l" pos="1143000"/>
                  <a:tab algn="l" pos="3149640"/>
                  <a:tab algn="l" pos="33400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fStatemen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if" "(" Expr ")" Statement (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2560"/>
                  <a:tab algn="l" pos="1143000"/>
                  <a:tab algn="l" pos="3149640"/>
                  <a:tab algn="l" pos="33400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| "else" Stat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2560"/>
                  <a:tab algn="l" pos="1143000"/>
                  <a:tab algn="l" pos="3149640"/>
                  <a:tab algn="l" pos="33400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)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1003320" y="2970360"/>
            <a:ext cx="4878360" cy="599040"/>
            <a:chOff x="1003320" y="2970360"/>
            <a:chExt cx="4878360" cy="599040"/>
          </a:xfrm>
        </p:grpSpPr>
        <p:sp>
          <p:nvSpPr>
            <p:cNvPr id="668" name=""/>
            <p:cNvSpPr/>
            <p:nvPr/>
          </p:nvSpPr>
          <p:spPr>
            <a:xfrm>
              <a:off x="1003320" y="2970360"/>
              <a:ext cx="132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... or in EBN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062000" y="3262320"/>
              <a:ext cx="4819680" cy="3070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52560"/>
                  <a:tab algn="l" pos="1143000"/>
                  <a:tab algn="l" pos="3149640"/>
                  <a:tab algn="l" pos="33400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fStatemen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if" "(" Expr ")" Statement ["else" Statement]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0" name=""/>
          <p:cNvGrpSpPr/>
          <p:nvPr/>
        </p:nvGrpSpPr>
        <p:grpSpPr>
          <a:xfrm>
            <a:off x="693360" y="3759120"/>
            <a:ext cx="6887880" cy="1125360"/>
            <a:chOff x="693360" y="3759120"/>
            <a:chExt cx="6887880" cy="1125360"/>
          </a:xfrm>
        </p:grpSpPr>
        <p:sp>
          <p:nvSpPr>
            <p:cNvPr id="671" name=""/>
            <p:cNvSpPr/>
            <p:nvPr/>
          </p:nvSpPr>
          <p:spPr>
            <a:xfrm>
              <a:off x="693360" y="3759120"/>
              <a:ext cx="688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Sometimes nonterminal symbols must be inlined before factoriz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077840" y="4151160"/>
              <a:ext cx="4784760" cy="733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5256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emen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Designator "=" Expr ";"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256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dent "(" [ActualParameters] ")" ";"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256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Designator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dent {"." ident}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3" name=""/>
          <p:cNvGrpSpPr/>
          <p:nvPr/>
        </p:nvGrpSpPr>
        <p:grpSpPr>
          <a:xfrm>
            <a:off x="1004400" y="4862520"/>
            <a:ext cx="4870800" cy="812160"/>
            <a:chOff x="1004400" y="4862520"/>
            <a:chExt cx="4870800" cy="812160"/>
          </a:xfrm>
        </p:grpSpPr>
        <p:sp>
          <p:nvSpPr>
            <p:cNvPr id="674" name=""/>
            <p:cNvSpPr/>
            <p:nvPr/>
          </p:nvSpPr>
          <p:spPr>
            <a:xfrm>
              <a:off x="1004400" y="4862520"/>
              <a:ext cx="268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nline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 Designator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in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Stat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077840" y="5154480"/>
              <a:ext cx="4797360" cy="520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52560"/>
                  <a:tab algn="l" pos="1143000"/>
                  <a:tab algn="l" pos="3149640"/>
                  <a:tab algn="l" pos="33400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emen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ident {"." ident}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"=" Expr ";"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2560"/>
                  <a:tab algn="l" pos="1143000"/>
                  <a:tab algn="l" pos="3149640"/>
                  <a:tab algn="l" pos="33400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dent "(" [ActualParameters] ")" ";"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1005120" y="5629320"/>
            <a:ext cx="4843080" cy="1025280"/>
            <a:chOff x="1005120" y="5629320"/>
            <a:chExt cx="4843080" cy="1025280"/>
          </a:xfrm>
        </p:grpSpPr>
        <p:sp>
          <p:nvSpPr>
            <p:cNvPr id="677" name=""/>
            <p:cNvSpPr/>
            <p:nvPr/>
          </p:nvSpPr>
          <p:spPr>
            <a:xfrm>
              <a:off x="1005120" y="5629320"/>
              <a:ext cx="1290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hen factor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077840" y="5921280"/>
              <a:ext cx="4770360" cy="733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52560"/>
                  <a:tab algn="l" pos="1143000"/>
                  <a:tab algn="l" pos="1625760"/>
                  <a:tab algn="l" pos="1816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emen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den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{"." ident} "=" Expr ";"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2560"/>
                  <a:tab algn="l" pos="1143000"/>
                  <a:tab algn="l" pos="1625760"/>
                  <a:tab algn="l" pos="1816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(" [ActualParameters] ")" ";"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2560"/>
                  <a:tab algn="l" pos="1143000"/>
                  <a:tab algn="l" pos="1625760"/>
                  <a:tab algn="l" pos="1816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)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F776-52A0-4020-A624-6B40AAD3468D}" type="slidenum">
              <a:t>45</a:t>
            </a:fld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How to Remove Left Recursion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79680" y="1257480"/>
            <a:ext cx="65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Left recursion is always an LL(1) conflict and must be elimin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089000" y="2004840"/>
            <a:ext cx="298800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dentList = ident | IdentList "," ide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99120" y="1649520"/>
            <a:ext cx="120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For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702360" y="5405400"/>
            <a:ext cx="3336120" cy="713520"/>
            <a:chOff x="702360" y="5405400"/>
            <a:chExt cx="3336120" cy="713520"/>
          </a:xfrm>
        </p:grpSpPr>
        <p:sp>
          <p:nvSpPr>
            <p:cNvPr id="684" name=""/>
            <p:cNvSpPr/>
            <p:nvPr/>
          </p:nvSpPr>
          <p:spPr>
            <a:xfrm>
              <a:off x="702360" y="5405400"/>
              <a:ext cx="303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an always be replaced by iter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103400" y="5811840"/>
              <a:ext cx="2935080" cy="3070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dentList = ident {"," ident}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4387320" y="1979640"/>
            <a:ext cx="293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(both alternatives start with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ident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701280" y="2589120"/>
            <a:ext cx="3655440" cy="1139040"/>
            <a:chOff x="701280" y="2589120"/>
            <a:chExt cx="3655440" cy="1139040"/>
          </a:xfrm>
        </p:grpSpPr>
        <p:sp>
          <p:nvSpPr>
            <p:cNvPr id="688" name=""/>
            <p:cNvSpPr/>
            <p:nvPr/>
          </p:nvSpPr>
          <p:spPr>
            <a:xfrm>
              <a:off x="701280" y="2589120"/>
              <a:ext cx="274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generates the following phras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198520" y="2982960"/>
              <a:ext cx="85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dentLi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H="1">
              <a:off x="2247840" y="3276720"/>
              <a:ext cx="162000" cy="16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895480" y="3276720"/>
              <a:ext cx="162000" cy="16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886400" y="3421080"/>
              <a:ext cx="56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id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833200" y="3421080"/>
              <a:ext cx="152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dentList "," id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4" name=""/>
          <p:cNvGrpSpPr/>
          <p:nvPr/>
        </p:nvGrpSpPr>
        <p:grpSpPr>
          <a:xfrm>
            <a:off x="1949400" y="3714840"/>
            <a:ext cx="3708000" cy="537120"/>
            <a:chOff x="1949400" y="3714840"/>
            <a:chExt cx="3708000" cy="537120"/>
          </a:xfrm>
        </p:grpSpPr>
        <p:sp>
          <p:nvSpPr>
            <p:cNvPr id="695" name=""/>
            <p:cNvSpPr/>
            <p:nvPr/>
          </p:nvSpPr>
          <p:spPr>
            <a:xfrm flipH="1">
              <a:off x="2886120" y="3714840"/>
              <a:ext cx="162000" cy="1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533760" y="3714840"/>
              <a:ext cx="162000" cy="1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949400" y="3944880"/>
              <a:ext cx="123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ident "," id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467880" y="3944880"/>
              <a:ext cx="218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dentList "," ident "," id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2012760" y="4267080"/>
            <a:ext cx="5021280" cy="546840"/>
            <a:chOff x="2012760" y="4267080"/>
            <a:chExt cx="5021280" cy="546840"/>
          </a:xfrm>
        </p:grpSpPr>
        <p:sp>
          <p:nvSpPr>
            <p:cNvPr id="700" name=""/>
            <p:cNvSpPr/>
            <p:nvPr/>
          </p:nvSpPr>
          <p:spPr>
            <a:xfrm flipH="1">
              <a:off x="3533760" y="4267080"/>
              <a:ext cx="162000" cy="1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181400" y="4267080"/>
              <a:ext cx="162000" cy="1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012760" y="4506840"/>
              <a:ext cx="189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ident "," ident "," id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178520" y="4506840"/>
              <a:ext cx="2855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dentList "," ident "," ident "," id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EE45-6AA3-4037-93C2-6C9F51A786B6}" type="slidenum">
              <a:t>46</a:t>
            </a:fld>
          </a:p>
        </p:txBody>
      </p: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Hidden LL(1) Conflict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07040" y="1359000"/>
            <a:ext cx="527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EBNF options and iterations are hidden alternat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104840" y="4311720"/>
            <a:ext cx="4318200" cy="609480"/>
            <a:chOff x="1104840" y="4311720"/>
            <a:chExt cx="4318200" cy="609480"/>
          </a:xfrm>
        </p:grpSpPr>
        <p:sp>
          <p:nvSpPr>
            <p:cNvPr id="707" name=""/>
            <p:cNvSpPr/>
            <p:nvPr/>
          </p:nvSpPr>
          <p:spPr>
            <a:xfrm>
              <a:off x="1104840" y="4311720"/>
              <a:ext cx="43182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105920" y="4317840"/>
              <a:ext cx="4149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33440"/>
                  <a:tab algn="l" pos="419112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 = </a:t>
              </a:r>
              <a:r>
                <a:rPr b="0" lang="de-AT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[</a:t>
              </a:r>
              <a:r>
                <a:rPr b="0" lang="de-AT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].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First(</a:t>
              </a: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Follow(S) must be {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333440"/>
                  <a:tab algn="l" pos="419112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 = </a:t>
              </a:r>
              <a:r>
                <a:rPr b="0" lang="de-AT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{</a:t>
              </a:r>
              <a:r>
                <a:rPr b="0" lang="de-AT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.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First(</a:t>
              </a: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Follow(S) must be {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9" name=""/>
          <p:cNvSpPr/>
          <p:nvPr/>
        </p:nvSpPr>
        <p:spPr>
          <a:xfrm>
            <a:off x="1083240" y="1860480"/>
            <a:ext cx="707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54080"/>
                <a:tab algn="l" pos="1625760"/>
                <a:tab algn="l" pos="3591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 = [</a:t>
            </a:r>
            <a:r>
              <a:rPr b="0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0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 = </a:t>
            </a:r>
            <a:r>
              <a:rPr b="0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de-AT" sz="16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re arbitrary EBNF expres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4080"/>
                <a:tab algn="l" pos="1625760"/>
                <a:tab algn="l" pos="3591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 = {</a:t>
            </a:r>
            <a:r>
              <a:rPr b="0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 = </a:t>
            </a:r>
            <a:r>
              <a:rPr b="0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| ..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709920" y="2863800"/>
            <a:ext cx="4713120" cy="1104840"/>
            <a:chOff x="709920" y="2863800"/>
            <a:chExt cx="4713120" cy="1104840"/>
          </a:xfrm>
        </p:grpSpPr>
        <p:sp>
          <p:nvSpPr>
            <p:cNvPr id="711" name=""/>
            <p:cNvSpPr/>
            <p:nvPr/>
          </p:nvSpPr>
          <p:spPr>
            <a:xfrm>
              <a:off x="1104840" y="3359160"/>
              <a:ext cx="43182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107360" y="3365280"/>
              <a:ext cx="3960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33440"/>
                  <a:tab algn="l" pos="419112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 = [</a:t>
              </a:r>
              <a:r>
                <a:rPr b="0" lang="de-AT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] </a:t>
              </a:r>
              <a:r>
                <a:rPr b="0" lang="de-AT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First(</a:t>
              </a: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First(</a:t>
              </a: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) must be {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333440"/>
                  <a:tab algn="l" pos="419112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 = {</a:t>
              </a:r>
              <a:r>
                <a:rPr b="0" lang="de-AT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 </a:t>
              </a:r>
              <a:r>
                <a:rPr b="0" lang="de-AT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First(</a:t>
              </a: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First(</a:t>
              </a: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) must be {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09920" y="2863800"/>
              <a:ext cx="72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Ru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88B0-35F3-47F3-BC49-9778F899BCC0}" type="slidenum">
              <a:t>47</a:t>
            </a:fld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Removing Hidden LL(1) Conflict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828360" y="1293840"/>
            <a:ext cx="206280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Name = [ident "."] ide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42680" y="1649520"/>
            <a:ext cx="421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Where is the conflict and how can it be remove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7" name=""/>
          <p:cNvGrpSpPr/>
          <p:nvPr/>
        </p:nvGrpSpPr>
        <p:grpSpPr>
          <a:xfrm>
            <a:off x="1094040" y="2106720"/>
            <a:ext cx="2628360" cy="756720"/>
            <a:chOff x="1094040" y="2106720"/>
            <a:chExt cx="2628360" cy="756720"/>
          </a:xfrm>
        </p:grpSpPr>
        <p:sp>
          <p:nvSpPr>
            <p:cNvPr id="718" name=""/>
            <p:cNvSpPr/>
            <p:nvPr/>
          </p:nvSpPr>
          <p:spPr>
            <a:xfrm>
              <a:off x="1133280" y="2106720"/>
              <a:ext cx="2062800" cy="3070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Name = ident ["." ident]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094040" y="2526120"/>
              <a:ext cx="262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s this production LL(1) now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0" name=""/>
          <p:cNvSpPr/>
          <p:nvPr/>
        </p:nvSpPr>
        <p:spPr>
          <a:xfrm>
            <a:off x="1097640" y="2876400"/>
            <a:ext cx="489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We have to check if First("." ident) </a:t>
            </a:r>
            <a:r>
              <a:rPr b="0" lang="de-AT" sz="16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Follow(Name) = {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742680" y="3719520"/>
            <a:ext cx="4210200" cy="946800"/>
            <a:chOff x="742680" y="3719520"/>
            <a:chExt cx="4210200" cy="946800"/>
          </a:xfrm>
        </p:grpSpPr>
        <p:sp>
          <p:nvSpPr>
            <p:cNvPr id="722" name=""/>
            <p:cNvSpPr/>
            <p:nvPr/>
          </p:nvSpPr>
          <p:spPr>
            <a:xfrm>
              <a:off x="825480" y="3719520"/>
              <a:ext cx="2986560" cy="520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rog = Declarations ";" Statement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Declarations = D {";" D}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42680" y="4329000"/>
              <a:ext cx="421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Where is the conflict and how can it be removed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4" name=""/>
          <p:cNvGrpSpPr/>
          <p:nvPr/>
        </p:nvGrpSpPr>
        <p:grpSpPr>
          <a:xfrm>
            <a:off x="1072080" y="4748040"/>
            <a:ext cx="3491280" cy="967680"/>
            <a:chOff x="1072080" y="4748040"/>
            <a:chExt cx="3491280" cy="967680"/>
          </a:xfrm>
        </p:grpSpPr>
        <p:sp>
          <p:nvSpPr>
            <p:cNvPr id="725" name=""/>
            <p:cNvSpPr/>
            <p:nvPr/>
          </p:nvSpPr>
          <p:spPr>
            <a:xfrm>
              <a:off x="1092960" y="4748040"/>
              <a:ext cx="243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nline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Declarations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in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Pro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156320" y="5078520"/>
              <a:ext cx="264816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rog = D {";" D} ";" Statement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072080" y="5378400"/>
              <a:ext cx="3491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First(";" D) </a:t>
              </a: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First(";" Statements) </a:t>
              </a: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{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8" name=""/>
          <p:cNvGrpSpPr/>
          <p:nvPr/>
        </p:nvGrpSpPr>
        <p:grpSpPr>
          <a:xfrm>
            <a:off x="1101240" y="5802480"/>
            <a:ext cx="5200920" cy="662760"/>
            <a:chOff x="1101240" y="5802480"/>
            <a:chExt cx="5200920" cy="662760"/>
          </a:xfrm>
        </p:grpSpPr>
        <p:sp>
          <p:nvSpPr>
            <p:cNvPr id="729" name=""/>
            <p:cNvSpPr/>
            <p:nvPr/>
          </p:nvSpPr>
          <p:spPr>
            <a:xfrm>
              <a:off x="1156320" y="5802480"/>
              <a:ext cx="2648160" cy="3070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rog = D ";" {D ";"} Statement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101240" y="6127920"/>
              <a:ext cx="52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We still have to check if First(D ";") </a:t>
              </a: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First(Statements) = {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1" name=""/>
          <p:cNvSpPr/>
          <p:nvPr/>
        </p:nvSpPr>
        <p:spPr>
          <a:xfrm>
            <a:off x="851040" y="1981080"/>
            <a:ext cx="6705360" cy="134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851040" y="4724280"/>
            <a:ext cx="6705360" cy="189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0EB8-CC8C-4C8C-AD80-314747B9A658}" type="slidenum">
              <a:t>48</a:t>
            </a:fld>
          </a:p>
        </p:txBody>
      </p: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Dangling Else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708120" y="1219320"/>
            <a:ext cx="273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If statement in C# or 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011600" y="1687680"/>
            <a:ext cx="468072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eme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if" "(" Expr ")" Statement ["else" Statement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6" name=""/>
          <p:cNvGrpSpPr/>
          <p:nvPr/>
        </p:nvGrpSpPr>
        <p:grpSpPr>
          <a:xfrm>
            <a:off x="708120" y="2489040"/>
            <a:ext cx="4978440" cy="839160"/>
            <a:chOff x="708120" y="2489040"/>
            <a:chExt cx="4978440" cy="839160"/>
          </a:xfrm>
        </p:grpSpPr>
        <p:sp>
          <p:nvSpPr>
            <p:cNvPr id="737" name=""/>
            <p:cNvSpPr/>
            <p:nvPr/>
          </p:nvSpPr>
          <p:spPr>
            <a:xfrm>
              <a:off x="708120" y="2489040"/>
              <a:ext cx="261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This is an LL(1) conflict!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985320" y="2990880"/>
              <a:ext cx="470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First("else" Statement) </a:t>
              </a: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Follow(Statement) = {"else"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9" name=""/>
          <p:cNvGrpSpPr/>
          <p:nvPr/>
        </p:nvGrpSpPr>
        <p:grpSpPr>
          <a:xfrm>
            <a:off x="707040" y="3619440"/>
            <a:ext cx="7459920" cy="2451960"/>
            <a:chOff x="707040" y="3619440"/>
            <a:chExt cx="7459920" cy="2451960"/>
          </a:xfrm>
        </p:grpSpPr>
        <p:sp>
          <p:nvSpPr>
            <p:cNvPr id="740" name=""/>
            <p:cNvSpPr/>
            <p:nvPr/>
          </p:nvSpPr>
          <p:spPr>
            <a:xfrm>
              <a:off x="707040" y="3619440"/>
              <a:ext cx="496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It is even an ambiguity which cannot be remov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151280" y="4989600"/>
              <a:ext cx="299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if (expr1) if (expr2) stat1; else stat2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rot="16200000">
              <a:off x="2520720" y="4399920"/>
              <a:ext cx="127080" cy="1130400"/>
            </a:xfrm>
            <a:custGeom>
              <a:avLst/>
              <a:gdLst>
                <a:gd name="textAreaLeft" fmla="*/ 0 w 127080"/>
                <a:gd name="textAreaRight" fmla="*/ 45720 w 127080"/>
                <a:gd name="textAreaTop" fmla="*/ 29160 h 1130400"/>
                <a:gd name="textAreaBottom" fmla="*/ 1101240 h 113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053080" y="4595760"/>
              <a:ext cx="99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rot="16200000">
              <a:off x="2603520" y="3225240"/>
              <a:ext cx="114120" cy="2705040"/>
            </a:xfrm>
            <a:custGeom>
              <a:avLst/>
              <a:gdLst>
                <a:gd name="textAreaLeft" fmla="*/ 0 w 114120"/>
                <a:gd name="textAreaRight" fmla="*/ 41040 w 114120"/>
                <a:gd name="textAreaTop" fmla="*/ 70200 h 2705040"/>
                <a:gd name="textAreaBottom" fmla="*/ 2634840 h 270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116440" y="4202280"/>
              <a:ext cx="99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V="1" rot="5400000">
              <a:off x="2952720" y="4349520"/>
              <a:ext cx="126720" cy="1994040"/>
            </a:xfrm>
            <a:custGeom>
              <a:avLst/>
              <a:gdLst>
                <a:gd name="textAreaLeft" fmla="*/ 0 w 126720"/>
                <a:gd name="textAreaRight" fmla="*/ 45720 w 126720"/>
                <a:gd name="textAreaTop" fmla="*/ 51840 h 1994040"/>
                <a:gd name="textAreaBottom" fmla="*/ 1942200 h 199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522880" y="5396040"/>
              <a:ext cx="99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V="1" rot="5400000">
              <a:off x="2577960" y="4354920"/>
              <a:ext cx="127080" cy="2743200"/>
            </a:xfrm>
            <a:custGeom>
              <a:avLst/>
              <a:gdLst>
                <a:gd name="textAreaLeft" fmla="*/ 0 w 127080"/>
                <a:gd name="textAreaRight" fmla="*/ 45720 w 127080"/>
                <a:gd name="textAreaTop" fmla="*/ 71280 h 2743200"/>
                <a:gd name="textAreaBottom" fmla="*/ 2671920 h 274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180160" y="5764320"/>
              <a:ext cx="99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920120" y="4786200"/>
              <a:ext cx="324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We can build 2 different syntax trees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FF5D-F6A2-425D-BC7F-B0B25D91097F}" type="slidenum">
              <a:t>49</a:t>
            </a:fld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736560" y="2793960"/>
            <a:ext cx="7137360" cy="4190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1295280" y="3048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14960" y="1568520"/>
            <a:ext cx="596592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599"/>
              </a:spcAft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Generating Compilers with Coco/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Compil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Gramm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Coco/R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Scanner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Parser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LL(1) Confli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Case S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2BD9-D5CA-4771-A529-CECD8A6D0C92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Can We Ignore LL(1) Conflicts?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82200" y="1231920"/>
            <a:ext cx="36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An LL(1) conflict is only a war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708840" y="1623960"/>
            <a:ext cx="402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parser selects the first matching altern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050480" y="2131920"/>
            <a:ext cx="95040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b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H="1">
            <a:off x="1994040" y="2286000"/>
            <a:ext cx="419040" cy="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486160" y="2119320"/>
            <a:ext cx="501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f the lookahead token is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the parser selects this altern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3051360" y="5052960"/>
            <a:ext cx="3358800" cy="1467360"/>
            <a:chOff x="3051360" y="5052960"/>
            <a:chExt cx="3358800" cy="1467360"/>
          </a:xfrm>
        </p:grpSpPr>
        <p:sp>
          <p:nvSpPr>
            <p:cNvPr id="758" name=""/>
            <p:cNvSpPr/>
            <p:nvPr/>
          </p:nvSpPr>
          <p:spPr>
            <a:xfrm>
              <a:off x="3411720" y="5052960"/>
              <a:ext cx="299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if (expr1) if (expr2) stat1; else stat2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V="1" rot="5400000">
              <a:off x="5213160" y="4411800"/>
              <a:ext cx="127080" cy="1993680"/>
            </a:xfrm>
            <a:custGeom>
              <a:avLst/>
              <a:gdLst>
                <a:gd name="textAreaLeft" fmla="*/ 0 w 127080"/>
                <a:gd name="textAreaRight" fmla="*/ 45720 w 127080"/>
                <a:gd name="textAreaTop" fmla="*/ 51840 h 1993680"/>
                <a:gd name="textAreaBottom" fmla="*/ 1941840 h 199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783680" y="5459400"/>
              <a:ext cx="99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V="1" rot="5400000">
              <a:off x="4838400" y="4418280"/>
              <a:ext cx="127080" cy="2743200"/>
            </a:xfrm>
            <a:custGeom>
              <a:avLst/>
              <a:gdLst>
                <a:gd name="textAreaLeft" fmla="*/ 0 w 127080"/>
                <a:gd name="textAreaRight" fmla="*/ 45720 w 127080"/>
                <a:gd name="textAreaTop" fmla="*/ 71280 h 2743200"/>
                <a:gd name="textAreaBottom" fmla="*/ 2671920 h 274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440600" y="5827680"/>
              <a:ext cx="99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051360" y="6183000"/>
              <a:ext cx="29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Luckily this is what we want her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4" name=""/>
          <p:cNvGrpSpPr/>
          <p:nvPr/>
        </p:nvGrpSpPr>
        <p:grpSpPr>
          <a:xfrm>
            <a:off x="696240" y="2971800"/>
            <a:ext cx="6007320" cy="2016000"/>
            <a:chOff x="696240" y="2971800"/>
            <a:chExt cx="6007320" cy="2016000"/>
          </a:xfrm>
        </p:grpSpPr>
        <p:sp>
          <p:nvSpPr>
            <p:cNvPr id="765" name=""/>
            <p:cNvSpPr/>
            <p:nvPr/>
          </p:nvSpPr>
          <p:spPr>
            <a:xfrm>
              <a:off x="1036080" y="3414600"/>
              <a:ext cx="4781160" cy="520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63640"/>
                  <a:tab algn="l" pos="1054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emen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if" "(" Expr ")" Statement [ "else" Statement 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63640"/>
                  <a:tab algn="l" pos="1054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 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V="1">
              <a:off x="4292640" y="3657600"/>
              <a:ext cx="0" cy="4190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054240" y="4163760"/>
              <a:ext cx="3649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f the lookahead token is "else" he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he parser starts parsing the option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.e. the "else" belongs to the innermost "if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96240" y="2971800"/>
              <a:ext cx="253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Example: Dangling El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F7DB-A660-4BCF-863F-3FE45831EC54}" type="slidenum">
              <a:t>50</a:t>
            </a:fld>
          </a:p>
        </p:txBody>
      </p:sp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000" spc="-1" strike="noStrike">
                <a:solidFill>
                  <a:srgbClr val="3333cc"/>
                </a:solidFill>
                <a:latin typeface="Times New Roman"/>
              </a:rPr>
              <a:t>Coco/R finds LL(1) Conflicts automatically</a:t>
            </a:r>
            <a:endParaRPr b="0" i="1" lang="en-US" sz="3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70400" y="1649520"/>
            <a:ext cx="4819320" cy="2012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05408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05408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RODU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05408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ampl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Statement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05408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eme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Qualident '=' number ';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05408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05408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if" '(' ident ')' Statement ["else" Statement]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05408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all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dent '(' ')' ';'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05408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Qualide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[ident '.'] ide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05408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84360" y="123192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683640" y="3911760"/>
            <a:ext cx="6855120" cy="2404080"/>
            <a:chOff x="683640" y="3911760"/>
            <a:chExt cx="6855120" cy="2404080"/>
          </a:xfrm>
        </p:grpSpPr>
        <p:sp>
          <p:nvSpPr>
            <p:cNvPr id="773" name=""/>
            <p:cNvSpPr/>
            <p:nvPr/>
          </p:nvSpPr>
          <p:spPr>
            <a:xfrm>
              <a:off x="683640" y="3911760"/>
              <a:ext cx="413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Coco/R produces the following warning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63920" y="4303800"/>
              <a:ext cx="6774840" cy="2012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05408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ffffff"/>
                  </a:solidFill>
                  <a:latin typeface="Arial"/>
                </a:rPr>
                <a:t>&gt;coco Sample.at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05408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ffffff"/>
                  </a:solidFill>
                  <a:latin typeface="Arial"/>
                </a:rPr>
                <a:t>Coco/R (Aug 22, 2006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05408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ffffff"/>
                  </a:solidFill>
                  <a:latin typeface="Arial"/>
                </a:rPr>
                <a:t>check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05408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de-AT" sz="1400" spc="-1" strike="noStrike">
                  <a:solidFill>
                    <a:srgbClr val="ffffff"/>
                  </a:solidFill>
                  <a:latin typeface="Arial"/>
                </a:rPr>
                <a:t>Sample deleta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05408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de-AT" sz="1400" spc="-1" strike="noStrike">
                  <a:solidFill>
                    <a:srgbClr val="ffffff"/>
                  </a:solidFill>
                  <a:latin typeface="Arial"/>
                </a:rPr>
                <a:t>LL1 warning in Statement: ident is start of several alternativ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05408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de-AT" sz="1400" spc="-1" strike="noStrike">
                  <a:solidFill>
                    <a:srgbClr val="ffffff"/>
                  </a:solidFill>
                  <a:latin typeface="Arial"/>
                </a:rPr>
                <a:t>LL1 warning in Statement: "else" is start &amp; successor of deletable structu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05408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de-AT" sz="1400" spc="-1" strike="noStrike">
                  <a:solidFill>
                    <a:srgbClr val="ffffff"/>
                  </a:solidFill>
                  <a:latin typeface="Arial"/>
                </a:rPr>
                <a:t>LL1 warning in Qualident: ident is start &amp; successor of deletable structu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05408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ffffff"/>
                  </a:solidFill>
                  <a:latin typeface="Arial"/>
                </a:rPr>
                <a:t>parser + scanner generat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05408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ffffff"/>
                  </a:solidFill>
                  <a:latin typeface="Arial"/>
                </a:rPr>
                <a:t>0 errors detect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0053-F29D-4BD0-950B-53937B341D8F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Problems with LL(1) Conflict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92640" y="1282680"/>
            <a:ext cx="643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Some conflicts are hard to remove by grammar transform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006200" y="1763640"/>
            <a:ext cx="4360320" cy="946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76212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xp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actor {'+' Factor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76212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acto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'(' ident ')' Facto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* type cast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76212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'(' Expr ')'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* nested expression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76212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dent | numb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397480" y="2082960"/>
            <a:ext cx="88920" cy="304560"/>
          </a:xfrm>
          <a:custGeom>
            <a:avLst/>
            <a:gdLst>
              <a:gd name="textAreaLeft" fmla="*/ 0 w 88920"/>
              <a:gd name="textAreaRight" fmla="*/ 32040 w 88920"/>
              <a:gd name="textAreaTop" fmla="*/ 7920 h 304560"/>
              <a:gd name="textAreaBottom" fmla="*/ 29664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554080" y="1928880"/>
            <a:ext cx="26726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both alternatives can start w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'(' ident ')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695160" y="3111480"/>
            <a:ext cx="7673400" cy="1163520"/>
            <a:chOff x="695160" y="3111480"/>
            <a:chExt cx="7673400" cy="1163520"/>
          </a:xfrm>
        </p:grpSpPr>
        <p:sp>
          <p:nvSpPr>
            <p:cNvPr id="781" name=""/>
            <p:cNvSpPr/>
            <p:nvPr/>
          </p:nvSpPr>
          <p:spPr>
            <a:xfrm>
              <a:off x="695160" y="3111480"/>
              <a:ext cx="416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Transformations can corrupt readabil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005120" y="3541680"/>
              <a:ext cx="3039840" cy="520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71680"/>
                  <a:tab algn="l" pos="7621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Using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using" [ident '='] Qualid ';'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71680"/>
                  <a:tab algn="l" pos="7621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Qualid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dent {'.' ident}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227200" y="3541680"/>
              <a:ext cx="3141360" cy="733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71680"/>
                  <a:tab algn="l" pos="762120"/>
                  <a:tab algn="l" pos="1816200"/>
                  <a:tab algn="l" pos="20066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Using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using" iden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{'.' ident} ';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71680"/>
                  <a:tab algn="l" pos="762120"/>
                  <a:tab algn="l" pos="1816200"/>
                  <a:tab algn="l" pos="20066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'=' Qualid ';'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71680"/>
                  <a:tab algn="l" pos="762120"/>
                  <a:tab algn="l" pos="1816200"/>
                  <a:tab algn="l" pos="20066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)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343400" y="3720960"/>
              <a:ext cx="520560" cy="190800"/>
            </a:xfrm>
            <a:prstGeom prst="rightArrow">
              <a:avLst>
                <a:gd name="adj1" fmla="val 50000"/>
                <a:gd name="adj2" fmla="val 68208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5" name=""/>
          <p:cNvGrpSpPr/>
          <p:nvPr/>
        </p:nvGrpSpPr>
        <p:grpSpPr>
          <a:xfrm>
            <a:off x="694080" y="4584600"/>
            <a:ext cx="4415760" cy="950400"/>
            <a:chOff x="694080" y="4584600"/>
            <a:chExt cx="4415760" cy="950400"/>
          </a:xfrm>
        </p:grpSpPr>
        <p:sp>
          <p:nvSpPr>
            <p:cNvPr id="786" name=""/>
            <p:cNvSpPr/>
            <p:nvPr/>
          </p:nvSpPr>
          <p:spPr>
            <a:xfrm>
              <a:off x="694080" y="4584600"/>
              <a:ext cx="4415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Semantic actions may prevent factoriz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996480" y="5014800"/>
              <a:ext cx="3603240" cy="520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dent 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(. x = 1; .)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{',' ident 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(. x++; .)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} ':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dent 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(. Foo(); .)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{',' ident 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(. Bar(); .)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} ';'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8" name=""/>
          <p:cNvSpPr/>
          <p:nvPr/>
        </p:nvSpPr>
        <p:spPr>
          <a:xfrm>
            <a:off x="692280" y="5943600"/>
            <a:ext cx="638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ff0000"/>
                </a:solidFill>
                <a:latin typeface="Times New Roman"/>
              </a:rPr>
              <a:t>=&gt; Coco/R offers a special mechanism to resolve LL(1) confli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9FC8-5BDD-43B0-9E9A-40ADCA882184}" type="slidenum">
              <a:t>52</a:t>
            </a:fld>
          </a:p>
        </p:txBody>
      </p: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LL(1) Conflict Resolver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773280" y="1662120"/>
            <a:ext cx="4216320" cy="733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525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BNFexp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lternative { '|' Alternative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lternativ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Resolve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] Element {Element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Resolver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"IF" '(' </a:t>
            </a:r>
            <a:r>
              <a:rPr b="0" i="1" lang="de-AT" sz="1400" spc="-1" strike="noStrike">
                <a:solidFill>
                  <a:srgbClr val="ff0000"/>
                </a:solidFill>
                <a:latin typeface="Arial"/>
              </a:rPr>
              <a:t>ArbitraryCSharpPredicate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 ')'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72120" y="124452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2" name=""/>
          <p:cNvGrpSpPr/>
          <p:nvPr/>
        </p:nvGrpSpPr>
        <p:grpSpPr>
          <a:xfrm>
            <a:off x="671760" y="4978440"/>
            <a:ext cx="7314840" cy="1564200"/>
            <a:chOff x="671760" y="4978440"/>
            <a:chExt cx="7314840" cy="1564200"/>
          </a:xfrm>
        </p:grpSpPr>
        <p:sp>
          <p:nvSpPr>
            <p:cNvPr id="793" name=""/>
            <p:cNvSpPr/>
            <p:nvPr/>
          </p:nvSpPr>
          <p:spPr>
            <a:xfrm>
              <a:off x="671760" y="4978440"/>
              <a:ext cx="148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Token nam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764640" y="5383080"/>
              <a:ext cx="2687400" cy="1159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863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OKE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863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den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 letter {letter | digit}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863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number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 digit {digit}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863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ssign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 '='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863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978880" y="5383080"/>
              <a:ext cx="2007720" cy="1159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nst int  _EOF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 0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nst int  _iden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 1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nst int  _number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 2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nst int  _assign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 3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568680" y="6070680"/>
              <a:ext cx="2133720" cy="228600"/>
            </a:xfrm>
            <a:prstGeom prst="rightArrow">
              <a:avLst>
                <a:gd name="adj1" fmla="val 61111"/>
                <a:gd name="adj2" fmla="val 122248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544920" y="5281560"/>
              <a:ext cx="20034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oco/R generates t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following declar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for tokens na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671400" y="2565360"/>
            <a:ext cx="3291120" cy="683280"/>
            <a:chOff x="671400" y="2565360"/>
            <a:chExt cx="3291120" cy="683280"/>
          </a:xfrm>
        </p:grpSpPr>
        <p:sp>
          <p:nvSpPr>
            <p:cNvPr id="799" name=""/>
            <p:cNvSpPr/>
            <p:nvPr/>
          </p:nvSpPr>
          <p:spPr>
            <a:xfrm>
              <a:off x="671400" y="2565360"/>
              <a:ext cx="10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Examp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76520" y="2941560"/>
              <a:ext cx="3186000" cy="3070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5256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Using = "using" [ident '='] Qualident ';'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1" name=""/>
          <p:cNvGrpSpPr/>
          <p:nvPr/>
        </p:nvGrpSpPr>
        <p:grpSpPr>
          <a:xfrm>
            <a:off x="684720" y="2944800"/>
            <a:ext cx="6763320" cy="1810080"/>
            <a:chOff x="684720" y="2944800"/>
            <a:chExt cx="6763320" cy="1810080"/>
          </a:xfrm>
        </p:grpSpPr>
        <p:sp>
          <p:nvSpPr>
            <p:cNvPr id="802" name=""/>
            <p:cNvSpPr/>
            <p:nvPr/>
          </p:nvSpPr>
          <p:spPr>
            <a:xfrm>
              <a:off x="755280" y="2944800"/>
              <a:ext cx="4260240" cy="3070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5256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Using = "using" [ 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IF (IsAlias())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ident '='] Qualident ';'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84720" y="3440160"/>
              <a:ext cx="6375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We have to write the following method (in the global semantic declaration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73280" y="3808440"/>
              <a:ext cx="4235400" cy="9464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ool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IsAlias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oken next = scanner.Peek(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return la.kind == _ident &amp;&amp; next.kind == _assign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197680" y="3745080"/>
              <a:ext cx="2250360" cy="10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returns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if the input 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dent =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nd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false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if the input 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dent . ident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3D81-A2B7-4A78-9631-0624AADEF15E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Example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682560" y="1257480"/>
            <a:ext cx="488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Conflict resolution by a multi-symbol lookah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996480" y="1827360"/>
            <a:ext cx="3603240" cy="520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dent 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 x = 1; .)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',' ident 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 x++; .)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} ':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dent 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 Foo(); .)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',' ident 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 Bar(); .)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} ';'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4763520" y="1928880"/>
            <a:ext cx="130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LL(1) confli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925560" y="2602080"/>
            <a:ext cx="106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Re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996480" y="2944800"/>
            <a:ext cx="3603240" cy="733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IF (FollowedByColon(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dent 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 x = 1; .)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',' ident 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 x++; .)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} ':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dent 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 Foo(); .)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',' ident 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 Bar(); .)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} ';'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926640" y="3846600"/>
            <a:ext cx="172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Resolution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000800" y="4189320"/>
            <a:ext cx="3967920" cy="15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ool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FollowedByColon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oken x = la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while (x.kind == _ident || x.kind == _comma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x = scanner.Peek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eturn x.kind == _colo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1DC0-CE08-4DC6-BCD5-DAB82B0ACFED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Example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681120" y="1257480"/>
            <a:ext cx="547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Conflict resolution by exploiting semantic 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5513040" y="1928880"/>
            <a:ext cx="130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LL(1) confli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1006200" y="1763640"/>
            <a:ext cx="4360320" cy="733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76212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acto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'(' ident ')' Facto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* type cast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76212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'(' Expr ')'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* nested expression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76212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dent | numb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8" name=""/>
          <p:cNvGrpSpPr/>
          <p:nvPr/>
        </p:nvGrpSpPr>
        <p:grpSpPr>
          <a:xfrm>
            <a:off x="925560" y="2855880"/>
            <a:ext cx="7049880" cy="3440160"/>
            <a:chOff x="925560" y="2855880"/>
            <a:chExt cx="7049880" cy="3440160"/>
          </a:xfrm>
        </p:grpSpPr>
        <p:sp>
          <p:nvSpPr>
            <p:cNvPr id="819" name=""/>
            <p:cNvSpPr/>
            <p:nvPr/>
          </p:nvSpPr>
          <p:spPr>
            <a:xfrm>
              <a:off x="925560" y="2855880"/>
              <a:ext cx="106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Resol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926640" y="4367160"/>
              <a:ext cx="172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Resolution metho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1014480" y="4710240"/>
              <a:ext cx="4340160" cy="15858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ool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IsCas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oken next = scanner.Peek(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f (la.kind == _lpar &amp;&amp; next.kind == _ident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Obj obj = SymTab.Find(next.val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return obj != null &amp;&amp; obj.kind == TYPE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 else return false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006200" y="3198960"/>
              <a:ext cx="4360320" cy="946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71680"/>
                  <a:tab algn="l" pos="762120"/>
                  <a:tab algn="l" pos="2387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Factor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IF (IsCast()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71680"/>
                  <a:tab algn="l" pos="762120"/>
                  <a:tab algn="l" pos="2387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'(' ident ')' Factor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/* type cast */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71680"/>
                  <a:tab algn="l" pos="762120"/>
                  <a:tab algn="l" pos="2387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'(' Expr ')'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/* nested expression */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71680"/>
                  <a:tab algn="l" pos="762120"/>
                  <a:tab algn="l" pos="2387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dent | number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542200" y="5040360"/>
              <a:ext cx="2433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returns true if '(' is follow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by a declared type n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D147-81AD-475F-9B7A-6A97184C1D54}" type="slidenum">
              <a:t>55</a:t>
            </a:fld>
          </a:p>
        </p:txBody>
      </p:sp>
    </p:spTree>
  </p:cSld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"/>
          <p:cNvSpPr/>
          <p:nvPr/>
        </p:nvSpPr>
        <p:spPr>
          <a:xfrm>
            <a:off x="736560" y="5410080"/>
            <a:ext cx="7137360" cy="4194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subTitle"/>
          </p:nvPr>
        </p:nvSpPr>
        <p:spPr>
          <a:xfrm>
            <a:off x="1295280" y="3048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717120" y="1568520"/>
            <a:ext cx="654480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599"/>
              </a:spcAft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Generating Compilers with Coco/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Compil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Gramm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Coco/R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Scanner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Parser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LL(1) Confli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8.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Case Study -- The Programming Language </a:t>
            </a:r>
            <a:r>
              <a:rPr b="0" i="1" lang="de-AT" sz="2400" spc="-1" strike="noStrike">
                <a:solidFill>
                  <a:srgbClr val="ff0000"/>
                </a:solidFill>
                <a:latin typeface="Times New Roman"/>
              </a:rPr>
              <a:t>Ta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F8F7-4FDA-475B-ACEA-580758982ACF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A Simple Taste Program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720720" y="1235160"/>
            <a:ext cx="3564000" cy="4115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program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Test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i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i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// compute the sum of 1..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voi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SumUp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i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sum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um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whil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(i &gt; 0) { sum = sum + i; i = i - 1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writ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sum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// the program starts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voi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Main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rea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i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whil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(i &gt; 0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umUp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rea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i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651200" y="1192320"/>
            <a:ext cx="200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 single main pro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651560" y="2093760"/>
            <a:ext cx="248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methods without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649040" y="1547640"/>
            <a:ext cx="147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global 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648680" y="3643200"/>
            <a:ext cx="126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Main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BEF5-36A1-460B-A5BD-A66256D36B37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Syntax of Taste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773280" y="1535040"/>
            <a:ext cx="5136840" cy="946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ast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program" ident "{"  {VarDecl} {ProcDecl} "}"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rocDecl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void" ident "(" ")" "{" { VarDecl | Stat} "}"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VarDecl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ype ident {"," ident} ";"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int" | "bool"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670320" y="1168560"/>
            <a:ext cx="286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Programs and Decla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6" name=""/>
          <p:cNvGrpSpPr/>
          <p:nvPr/>
        </p:nvGrpSpPr>
        <p:grpSpPr>
          <a:xfrm>
            <a:off x="671760" y="2641680"/>
            <a:ext cx="5238360" cy="1939680"/>
            <a:chOff x="671760" y="2641680"/>
            <a:chExt cx="5238360" cy="1939680"/>
          </a:xfrm>
        </p:grpSpPr>
        <p:sp>
          <p:nvSpPr>
            <p:cNvPr id="837" name=""/>
            <p:cNvSpPr/>
            <p:nvPr/>
          </p:nvSpPr>
          <p:spPr>
            <a:xfrm>
              <a:off x="671760" y="2641680"/>
              <a:ext cx="125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Stat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73280" y="2995560"/>
              <a:ext cx="5136840" cy="15858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dent "=" Expr ";"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dent "(" ")" ";"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if" "(" Expr ")" Stat ["else" Stat]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while" "(" Expr ")" Sta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read" ident ";"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write" Expr ";"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{" { Stat | VarDecl } "}"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9" name=""/>
          <p:cNvGrpSpPr/>
          <p:nvPr/>
        </p:nvGrpSpPr>
        <p:grpSpPr>
          <a:xfrm>
            <a:off x="672120" y="4707000"/>
            <a:ext cx="5252400" cy="1939680"/>
            <a:chOff x="672120" y="4707000"/>
            <a:chExt cx="5252400" cy="1939680"/>
          </a:xfrm>
        </p:grpSpPr>
        <p:sp>
          <p:nvSpPr>
            <p:cNvPr id="840" name=""/>
            <p:cNvSpPr/>
            <p:nvPr/>
          </p:nvSpPr>
          <p:spPr>
            <a:xfrm>
              <a:off x="672120" y="4707000"/>
              <a:ext cx="134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Express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73280" y="5060880"/>
              <a:ext cx="5151240" cy="15858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xpr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imExpr [RelOp SimExpr]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imExpr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erm {AddOp Term}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erm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Factor {Mulop Factor}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Factor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dent | number | "-" Factor | "true" | "false"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RelOp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==" | "&lt;" | "&gt;"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ddOp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+" | "-"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MulOp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*" | "/"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66D9-B355-49B8-BA4E-BC8426F412A4}" type="slidenum">
              <a:t>58</a:t>
            </a:fld>
          </a:p>
        </p:txBody>
      </p:sp>
    </p:spTree>
  </p:cSld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"/>
          <p:cNvSpPr/>
          <p:nvPr/>
        </p:nvSpPr>
        <p:spPr>
          <a:xfrm>
            <a:off x="3416400" y="1943280"/>
            <a:ext cx="1371600" cy="647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3416400" y="2959200"/>
            <a:ext cx="1371600" cy="622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Architecture or the Taste VM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851040" y="1587600"/>
            <a:ext cx="1371600" cy="1727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1154160" y="1243080"/>
            <a:ext cx="78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glob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416400" y="1587600"/>
            <a:ext cx="1371600" cy="28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3809160" y="124308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3416400" y="17654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528720" y="159876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416400" y="1943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645000" y="2068560"/>
            <a:ext cx="910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locals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calling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416400" y="25909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416400" y="2768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416400" y="2959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537000" y="2589120"/>
            <a:ext cx="857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return add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538080" y="2779560"/>
            <a:ext cx="91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bp of the ca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637440" y="3084480"/>
            <a:ext cx="925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locals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current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416400" y="3581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213000" y="2959200"/>
            <a:ext cx="20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2881080" y="27669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213000" y="3886200"/>
            <a:ext cx="20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2817720" y="3693960"/>
            <a:ext cx="4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635360" y="287028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V="1">
            <a:off x="4991040" y="1955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 flipH="1">
            <a:off x="4788000" y="1955880"/>
            <a:ext cx="20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416400" y="3581280"/>
            <a:ext cx="1371600" cy="304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3579840" y="3643200"/>
            <a:ext cx="1001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expression st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6273720" y="1587600"/>
            <a:ext cx="1371600" cy="2870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640560" y="124308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6273720" y="21463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273720" y="2984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6070680" y="2984400"/>
            <a:ext cx="20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194080" y="279252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rog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6070680" y="2514600"/>
            <a:ext cx="20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738760" y="2322360"/>
            <a:ext cx="37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 rot="5400000">
            <a:off x="2761920" y="2812680"/>
            <a:ext cx="114120" cy="3962520"/>
          </a:xfrm>
          <a:custGeom>
            <a:avLst/>
            <a:gdLst>
              <a:gd name="textAreaLeft" fmla="*/ 0 w 114120"/>
              <a:gd name="textAreaRight" fmla="*/ 41040 w 114120"/>
              <a:gd name="textAreaTop" fmla="*/ 103320 h 3962520"/>
              <a:gd name="textAreaBottom" fmla="*/ 385920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rot="5400000">
            <a:off x="6946920" y="3911400"/>
            <a:ext cx="114120" cy="1765440"/>
          </a:xfrm>
          <a:custGeom>
            <a:avLst/>
            <a:gdLst>
              <a:gd name="textAreaLeft" fmla="*/ 0 w 114120"/>
              <a:gd name="textAreaRight" fmla="*/ 41040 w 114120"/>
              <a:gd name="textAreaTop" fmla="*/ 45720 h 1765440"/>
              <a:gd name="textAreaBottom" fmla="*/ 1719720 h 17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120760" y="4836960"/>
            <a:ext cx="146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word-addres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311880" y="483696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byte-addres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528720" y="177624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2CB3-5BB2-48C7-A806-A0A0862E4254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What is a grammar?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35120" y="140976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849320" y="1471680"/>
            <a:ext cx="508032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ement = "if" "(" Condition ")" Statement ["else" Statement]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735120" y="2413080"/>
            <a:ext cx="7383960" cy="3180600"/>
            <a:chOff x="735120" y="2413080"/>
            <a:chExt cx="7383960" cy="3180600"/>
          </a:xfrm>
        </p:grpSpPr>
        <p:sp>
          <p:nvSpPr>
            <p:cNvPr id="191" name=""/>
            <p:cNvSpPr/>
            <p:nvPr/>
          </p:nvSpPr>
          <p:spPr>
            <a:xfrm>
              <a:off x="735120" y="2413080"/>
              <a:ext cx="188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Four compon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37640" y="2995560"/>
              <a:ext cx="167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ff0000"/>
                  </a:solidFill>
                  <a:latin typeface="Times New Roman"/>
                </a:rPr>
                <a:t>terminal symbo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821320" y="2995560"/>
              <a:ext cx="1029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re atom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080320" y="3021120"/>
              <a:ext cx="227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if", "&gt;=", ident, number,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7280" y="3782880"/>
              <a:ext cx="200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ff0000"/>
                  </a:solidFill>
                  <a:latin typeface="Times New Roman"/>
                </a:rPr>
                <a:t>nonterminal symbo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821680" y="3782880"/>
              <a:ext cx="1590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re decompo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nto smaller uni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080680" y="3808440"/>
              <a:ext cx="2596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ement, Condition, Type,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36200" y="4519440"/>
              <a:ext cx="121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ff0000"/>
                  </a:solidFill>
                  <a:latin typeface="Times New Roman"/>
                </a:rPr>
                <a:t>produ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820600" y="4519440"/>
              <a:ext cx="1843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rules how to decom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pose nontermi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079240" y="4545000"/>
              <a:ext cx="30398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ement = Designator "=" Expr ";"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Designator = ident ["." ident]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36920" y="5256360"/>
              <a:ext cx="125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ff0000"/>
                  </a:solidFill>
                  <a:latin typeface="Times New Roman"/>
                </a:rPr>
                <a:t>start symb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821320" y="5256360"/>
              <a:ext cx="186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opmost nontermi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090400" y="5281560"/>
              <a:ext cx="78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Shar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D4B5-B217-490C-A53B-003A3720CDCA}" type="slidenum">
              <a:t>6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/>
          <p:nvPr/>
        </p:nvSpPr>
        <p:spPr>
          <a:xfrm>
            <a:off x="711360" y="1359000"/>
            <a:ext cx="1295280" cy="52704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Instructions of the Taste VM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742320" y="1382760"/>
            <a:ext cx="737532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63640"/>
                <a:tab algn="l" pos="1714680"/>
                <a:tab algn="l" pos="3911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ONST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Load constant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ush(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3640"/>
                <a:tab algn="l" pos="1714680"/>
                <a:tab algn="l" pos="3911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LOAD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Load local variable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ush(stack[bp+a]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3640"/>
                <a:tab algn="l" pos="1714680"/>
                <a:tab algn="l" pos="3911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LOADG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Load global variable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ush(globals[a]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3640"/>
                <a:tab algn="l" pos="1714680"/>
                <a:tab algn="l" pos="3911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TO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tore local variable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tack[bp+a] = Pop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3640"/>
                <a:tab algn="l" pos="1714680"/>
                <a:tab algn="l" pos="3911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TOG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tore global variable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globals[a] = Pop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3640"/>
                <a:tab algn="l" pos="1714680"/>
                <a:tab algn="l" pos="3911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ush(Pop() + Pop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3640"/>
                <a:tab algn="l" pos="1714680"/>
                <a:tab algn="l" pos="3911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UB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ubtract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ush(-Pop() + Pop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3640"/>
                <a:tab algn="l" pos="1714680"/>
                <a:tab algn="l" pos="3911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MUL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Multiply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ush(Pop() * Pop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3640"/>
                <a:tab algn="l" pos="1714680"/>
                <a:tab algn="l" pos="3911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DIV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Divide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x = Pop(); Push(Pop() / 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3640"/>
                <a:tab algn="l" pos="1714680"/>
                <a:tab algn="l" pos="3911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NEG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Negate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ush(-Pop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3640"/>
                <a:tab algn="l" pos="1714680"/>
                <a:tab algn="l" pos="3911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EQL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heck if equal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f (Pop()==Pop()) Push(1); else Push(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3640"/>
                <a:tab algn="l" pos="1714680"/>
                <a:tab algn="l" pos="3911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LSS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heck if less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f (Pop()&gt;Pop()) Push(1); else Push(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3640"/>
                <a:tab algn="l" pos="1714680"/>
                <a:tab algn="l" pos="3911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GTR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heck if greater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f (Pop()&lt;Pop()) Push(1); else Push(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3640"/>
                <a:tab algn="l" pos="1714680"/>
                <a:tab algn="l" pos="3911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JMP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Jump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c = 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3640"/>
                <a:tab algn="l" pos="1714680"/>
                <a:tab algn="l" pos="3911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FJMP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Jump if false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f (Pop() == 0) pc = 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3640"/>
                <a:tab algn="l" pos="1714680"/>
                <a:tab algn="l" pos="3911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READ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Read integer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x = ReadInt(); Push(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3640"/>
                <a:tab algn="l" pos="1714680"/>
                <a:tab algn="l" pos="3911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WRITE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Write integer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WriteInt(Pop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3640"/>
                <a:tab algn="l" pos="1714680"/>
                <a:tab algn="l" pos="3911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ALL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all method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ush(pc+2); pc = 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3640"/>
                <a:tab algn="l" pos="1714680"/>
                <a:tab algn="l" pos="3911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RET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Return from method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c = Pop(); if (pc == 0) retur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3640"/>
                <a:tab algn="l" pos="1714680"/>
                <a:tab algn="l" pos="3911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ENTER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Enter method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ush(bp); bp = top; top += 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3640"/>
                <a:tab algn="l" pos="1714680"/>
                <a:tab algn="l" pos="3911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LEAVE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Leave method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op = bp; bp = Pop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D4FA-588A-4BD7-92D5-11DA370A1B56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Sample Translation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83640" y="132084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Source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786240" y="1852560"/>
            <a:ext cx="2891880" cy="1372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void Foo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 a, b, max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ead a; read b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a &gt; b) max = a; else max = b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write max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379040" y="1320840"/>
            <a:ext cx="13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Object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4492080" y="1870200"/>
            <a:ext cx="1325160" cy="3940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NTER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r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4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5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O  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8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9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O  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r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2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OAD 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5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OAD 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8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GT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9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JMP  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r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22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OAD 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25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O  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28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JMP   3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r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31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OAD 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34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O  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r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37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OAD 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40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r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41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EA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42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5753160" y="3670200"/>
            <a:ext cx="279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032520" y="36702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 flipH="1">
            <a:off x="5689080" y="453384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5715000" y="4292640"/>
            <a:ext cx="48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6197760" y="4292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 flipH="1">
            <a:off x="5702400" y="4978440"/>
            <a:ext cx="49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EEC6-5EF3-4C2C-8870-2B9EBA666D94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Scanner Specification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781200" y="1484280"/>
            <a:ext cx="3455640" cy="3420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MPILER Ta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HARAC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etter = 'A'..'Z' + 'a'..'z'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digit = '0'..'9'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OKE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dent  = letter {letter | digit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number = digit {digit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MMENTS FROM "/*" TO "*/" NES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MMENTS FROM "//" TO '\r' '\n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GNORE '\r' + '\n' + '\t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RODU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ND Tas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CA50-35A7-436B-BAD5-D1EA17BA1199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Symbol Table Clas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769680" y="1255680"/>
            <a:ext cx="4527000" cy="1998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class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SymbolTabl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Obj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topScop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90440"/>
                <a:tab algn="l" pos="3808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SymbolTabl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Parser parser) {...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90440"/>
                <a:tab algn="l" pos="3808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Obj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Inser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string name, int kind, int type) {...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Obj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Fin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string name) {...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90440"/>
                <a:tab algn="l" pos="3808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voi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OpenScop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) {...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voi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CloseScop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) {...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6282360" y="1255680"/>
            <a:ext cx="1981440" cy="2012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class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Obj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string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i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kin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i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i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ad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i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level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Obj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local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Obj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nex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1" name=""/>
          <p:cNvGrpSpPr/>
          <p:nvPr/>
        </p:nvGrpSpPr>
        <p:grpSpPr>
          <a:xfrm>
            <a:off x="696600" y="3746520"/>
            <a:ext cx="5678640" cy="2706120"/>
            <a:chOff x="696600" y="3746520"/>
            <a:chExt cx="5678640" cy="2706120"/>
          </a:xfrm>
        </p:grpSpPr>
        <p:sp>
          <p:nvSpPr>
            <p:cNvPr id="902" name=""/>
            <p:cNvSpPr/>
            <p:nvPr/>
          </p:nvSpPr>
          <p:spPr>
            <a:xfrm>
              <a:off x="696600" y="3746520"/>
              <a:ext cx="220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Sample symbol ta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94880" y="4227480"/>
              <a:ext cx="1284120" cy="2225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rogram P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nt a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ool b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void Foo(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nt c, d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343400" y="4432320"/>
              <a:ext cx="457200" cy="3556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392360" y="4456080"/>
              <a:ext cx="226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"a"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130720" y="4432320"/>
              <a:ext cx="457200" cy="3556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179320" y="4456080"/>
              <a:ext cx="236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"b"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918040" y="4432320"/>
              <a:ext cx="457200" cy="3556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940360" y="4456080"/>
              <a:ext cx="425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"Foo"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238560" y="4432320"/>
              <a:ext cx="457200" cy="35568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800600" y="4597560"/>
              <a:ext cx="33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600880" y="4597560"/>
              <a:ext cx="33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695760" y="4699080"/>
              <a:ext cx="66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730320" y="4468680"/>
              <a:ext cx="419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loca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343400" y="5194440"/>
              <a:ext cx="457200" cy="355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392360" y="5218200"/>
              <a:ext cx="226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"c"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130720" y="5194440"/>
              <a:ext cx="457200" cy="355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179320" y="5218200"/>
              <a:ext cx="236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"d"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238560" y="5194440"/>
              <a:ext cx="457200" cy="35532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800600" y="5359320"/>
              <a:ext cx="33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695760" y="5460840"/>
              <a:ext cx="66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730320" y="5230800"/>
              <a:ext cx="419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loca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flipV="1">
              <a:off x="3454560" y="4787640"/>
              <a:ext cx="0" cy="40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022560" y="519444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306880" y="5065560"/>
              <a:ext cx="668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topScop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ED6D-281F-498A-A3EC-51A6DDFB958E}" type="slidenum">
              <a:t>63</a:t>
            </a:fld>
          </a:p>
        </p:txBody>
      </p:sp>
    </p:spTree>
  </p:cSld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Code Generator Clas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88760" y="1370160"/>
            <a:ext cx="3312360" cy="2211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class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CodeGenerato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i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i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progStar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9044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CodeGenerato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) {...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9044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voi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Emi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int op) {...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voi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Emi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int op, int val) {...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voi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Patch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int adr, int val) {...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9044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C3ED-A8C7-4A0B-91F4-E0872B132815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Parser Specification -- Declaration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726480" y="1387440"/>
            <a:ext cx="4076280" cy="1626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RODU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Tast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 string name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program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dent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&lt;out name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 tab.OpenScope()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'{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 VarDecl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 ProcDecl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'}'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 tab.CloseScope(); .)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722520" y="3063960"/>
            <a:ext cx="4862520" cy="1051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VarDecl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 string name; int type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&lt;out 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dent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&lt;out name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 tab.Insert(name, VAR, type)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 ',' Ident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&lt;out name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 tab.Insert(name, VAR, type)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 ';'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735120" y="4156200"/>
            <a:ext cx="7691400" cy="2200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ProcDecl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string name; Obj obj; int adr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void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dent&lt;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out name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obj = tab.Insert(name, PROC, UNDEF); obj.adr = gen.pc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if (name == "Main") gen.progStart = gen.pc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tab.OpenScope()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'(' ')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'{'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gen.Emit(ENTER, 0); adr = gen.pc - 2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 VarDecl | Stat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'}'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gen.Emit(LEAVE); gen.Emit(RE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gen.Patch(adr, tab.topScope.ad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tab.CloseScope(); .)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5657400" y="3063960"/>
            <a:ext cx="2758680" cy="1051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&lt;out int 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 type = UNDEF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 "int"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 type = INT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 "bool"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 type = BOOL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089680" y="1395360"/>
            <a:ext cx="234432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SymbolTabl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ab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CodeGenerato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ge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379A-AB1B-461A-8757-42A810C41748}" type="slidenum">
              <a:t>65</a:t>
            </a:fld>
          </a:p>
        </p:txBody>
      </p:sp>
    </p:spTree>
  </p:cSld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Parser Specification -- Expression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760320" y="1197000"/>
            <a:ext cx="7110360" cy="1243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Expr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&lt;out int type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int type1, op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imExpr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&lt;out 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elOp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&lt;out op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imExpr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&lt;out type1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if (type != type1) SemErr("incompatible types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gen.Emit(op); type = BOOL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]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760320" y="2479680"/>
            <a:ext cx="7118280" cy="1434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SimExpr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&lt;out int type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int type1, op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erm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&lt;out 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ddOp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&lt;out op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erm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&lt;out type1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if (type != INT || type1 != INT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SemErr("integer type expected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gen.Emit(op)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760320" y="3965400"/>
            <a:ext cx="7128000" cy="1434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Term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&lt;out int type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int type1, op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actor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&lt;out 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MulOp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&lt;out op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actor&lt;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out type1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if (type != INT || type1 != INT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SemErr("integer type expected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gen.Emit(op)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8" name=""/>
          <p:cNvGrpSpPr/>
          <p:nvPr/>
        </p:nvGrpSpPr>
        <p:grpSpPr>
          <a:xfrm>
            <a:off x="756000" y="5451480"/>
            <a:ext cx="7130520" cy="1243080"/>
            <a:chOff x="756000" y="5451480"/>
            <a:chExt cx="7130520" cy="1243080"/>
          </a:xfrm>
        </p:grpSpPr>
        <p:sp>
          <p:nvSpPr>
            <p:cNvPr id="939" name=""/>
            <p:cNvSpPr/>
            <p:nvPr/>
          </p:nvSpPr>
          <p:spPr>
            <a:xfrm>
              <a:off x="756000" y="5451480"/>
              <a:ext cx="2428200" cy="12430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90440"/>
                  <a:tab algn="l" pos="380880"/>
                  <a:tab algn="l" pos="863640"/>
                  <a:tab algn="l" pos="228600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RelOp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&lt;out int op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90440"/>
                  <a:tab algn="l" pos="380880"/>
                  <a:tab algn="l" pos="863640"/>
                  <a:tab algn="l" pos="228600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(. op = UNDEF;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90440"/>
                  <a:tab algn="l" pos="380880"/>
                  <a:tab algn="l" pos="863640"/>
                  <a:tab algn="l" pos="228600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=="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(. op = EQU;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90440"/>
                  <a:tab algn="l" pos="380880"/>
                  <a:tab algn="l" pos="863640"/>
                  <a:tab algn="l" pos="228600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'&lt;'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(. op = LSS;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90440"/>
                  <a:tab algn="l" pos="380880"/>
                  <a:tab algn="l" pos="863640"/>
                  <a:tab algn="l" pos="228600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'&gt;'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(. op = GTR;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90440"/>
                  <a:tab algn="l" pos="380880"/>
                  <a:tab algn="l" pos="863640"/>
                  <a:tab algn="l" pos="228600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)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3207240" y="5451480"/>
              <a:ext cx="2326680" cy="12430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90440"/>
                  <a:tab algn="l" pos="380880"/>
                  <a:tab algn="l" pos="762120"/>
                  <a:tab algn="l" pos="228600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AddOp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&lt;out int op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90440"/>
                  <a:tab algn="l" pos="380880"/>
                  <a:tab algn="l" pos="762120"/>
                  <a:tab algn="l" pos="228600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(. op = UNDEF;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90440"/>
                  <a:tab algn="l" pos="380880"/>
                  <a:tab algn="l" pos="762120"/>
                  <a:tab algn="l" pos="228600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'+'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(. op = PLUS;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90440"/>
                  <a:tab algn="l" pos="380880"/>
                  <a:tab algn="l" pos="762120"/>
                  <a:tab algn="l" pos="228600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'-'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(. op = MINUS;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90440"/>
                  <a:tab algn="l" pos="380880"/>
                  <a:tab algn="l" pos="762120"/>
                  <a:tab algn="l" pos="228600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)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90440"/>
                  <a:tab algn="l" pos="380880"/>
                  <a:tab algn="l" pos="762120"/>
                  <a:tab algn="l" pos="228600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559840" y="5451480"/>
              <a:ext cx="2326680" cy="12430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90440"/>
                  <a:tab algn="l" pos="380880"/>
                  <a:tab algn="l" pos="762120"/>
                  <a:tab algn="l" pos="228600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MulOp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&lt;out int op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90440"/>
                  <a:tab algn="l" pos="380880"/>
                  <a:tab algn="l" pos="762120"/>
                  <a:tab algn="l" pos="228600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(. op = UNDEF;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90440"/>
                  <a:tab algn="l" pos="380880"/>
                  <a:tab algn="l" pos="762120"/>
                  <a:tab algn="l" pos="228600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'*'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(. op = TIMES;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90440"/>
                  <a:tab algn="l" pos="380880"/>
                  <a:tab algn="l" pos="762120"/>
                  <a:tab algn="l" pos="228600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'/'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(. op = SLASH;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90440"/>
                  <a:tab algn="l" pos="380880"/>
                  <a:tab algn="l" pos="762120"/>
                  <a:tab algn="l" pos="228600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)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90440"/>
                  <a:tab algn="l" pos="380880"/>
                  <a:tab algn="l" pos="762120"/>
                  <a:tab algn="l" pos="228600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2749-A9E7-47FD-8E57-F2B06324C805}" type="slidenum">
              <a:t>66</a:t>
            </a:fld>
          </a:p>
        </p:txBody>
      </p:sp>
    </p:spTree>
  </p:cSld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Parser Specification -- Factor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760320" y="1324080"/>
            <a:ext cx="6653160" cy="4115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Factor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&lt;out int type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int n; Obj obj; string name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type = UNDEF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dent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&lt;out name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obj = tab.Find(name); type = obj.typ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if (obj.kind == VAR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if (obj.level == 0) gen.Emit(LOADG, obj.ad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else gen.Emit(LOAD, obj.ad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} else SemErr("variable expected")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numbe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n = Convert.ToInt32(t.val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gen.Emit(CONST, n); type = INT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'-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actor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&lt;out type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if (type != INT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SemErr("integer type expected"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type = IN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gen.Emit(NEG)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true"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gen.Emit(CONST, 1); type = BOOL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false"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gen.Emit(CONST, 0); type = BOOL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760320" y="5514840"/>
            <a:ext cx="6653160" cy="477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Ident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&lt;out string na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de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 name = t.val; .)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AD33-8E39-4A31-88E6-FEC99FE32859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Parser Specification -- Statement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760320" y="1324080"/>
            <a:ext cx="7338960" cy="5208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Sta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int type; string name; Obj obj; int adr, adr2, loopstart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dent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&lt;out name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obj = tab.Find(name)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'='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if (obj.kind != VAR) SemErr("can only assign to variables")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xpr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&lt;out type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';'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if (type != obj.type) SemErr("incompatible types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if (obj.level == 0) gen.Emit(STOG, obj.ad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else gen.Emit(STO, obj.adr)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'(' ')' ';'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if (obj.kind != PROC) SemErr("object is not a procedure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gen.Emit(CALL, obj.adr)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read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dent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&lt;out name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';'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obj = tab.Find(name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if (obj.type != INT) SemErr("integer type expected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gen.Emit(REA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if (obj.level == 0) gen.Emit(STOG, obj.ad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else gen.Emit(STO, obj.adr)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write"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xpr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&lt;out type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';'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if (type != INT) SemErr("integer type expected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gen.Emit(WRITE)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'{' { Stat | VarDecl } '}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EAE0-826D-4894-81E1-F2E6923C124B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Parser Specification -- Statement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760320" y="1324080"/>
            <a:ext cx="7338960" cy="4143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Sta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int type; string name; Obj obj; int adr, adr2, loopstart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if"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'(' Expr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&lt;out type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')'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if (type != BOOL) SemErr("boolean type expected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gen.Emit(FJMP, 0); adr = gen.pc - 2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else"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gen.Emit(JMP, 0); adr2 = gen.pc - 2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gen.Patch(adr, gen.pc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adr = adr2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gen.Patch(adr, gen.pc)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while"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loopstart = gen.pc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'(' Expr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&lt;out type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')'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if (type != BOOL) SemErr("boolean type expected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gen.Emit(FJMP, 0); adr = gen.pc - 2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gen.Emit(JMP, loopstart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gen.Patch(adr, gen.pc); .)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D2E6-C853-45EF-A337-CABB3626EDA7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343160" y="2629080"/>
            <a:ext cx="5267160" cy="4284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EBNF Notation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96960" y="1244520"/>
            <a:ext cx="30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Extended Backus-Naur 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for writing gramm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798800" y="1255680"/>
            <a:ext cx="3772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400" spc="-1" strike="noStrike">
                <a:solidFill>
                  <a:srgbClr val="000000"/>
                </a:solidFill>
                <a:latin typeface="Times New Roman"/>
              </a:rPr>
              <a:t>John Backus</a:t>
            </a: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: developed the first Fortran compi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400" spc="-1" strike="noStrike">
                <a:solidFill>
                  <a:srgbClr val="000000"/>
                </a:solidFill>
                <a:latin typeface="Times New Roman"/>
              </a:rPr>
              <a:t>Peter Naur</a:t>
            </a: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: edited the Algol60 re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86360" y="2670120"/>
            <a:ext cx="516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Statement    =    "write"    ident    ","    Expression    ";" 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69720" y="2173320"/>
            <a:ext cx="59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lite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40840" y="1992240"/>
            <a:ext cx="777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term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839480" y="1992240"/>
            <a:ext cx="1047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nonterm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3267000" y="2448000"/>
            <a:ext cx="85680" cy="285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4067280" y="2448000"/>
            <a:ext cx="85680" cy="285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5266800" y="2448000"/>
            <a:ext cx="86040" cy="285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6486480" y="2448000"/>
            <a:ext cx="85680" cy="285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77600" y="1992240"/>
            <a:ext cx="1082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termin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a p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5400000">
            <a:off x="1895040" y="2657520"/>
            <a:ext cx="88920" cy="904680"/>
          </a:xfrm>
          <a:custGeom>
            <a:avLst/>
            <a:gdLst>
              <a:gd name="textAreaLeft" fmla="*/ 0 w 88920"/>
              <a:gd name="textAreaRight" fmla="*/ 32040 w 88920"/>
              <a:gd name="textAreaTop" fmla="*/ 23400 h 904680"/>
              <a:gd name="textAreaBottom" fmla="*/ 881280 h 90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4585680" y="1452240"/>
            <a:ext cx="79560" cy="3305160"/>
          </a:xfrm>
          <a:custGeom>
            <a:avLst/>
            <a:gdLst>
              <a:gd name="textAreaLeft" fmla="*/ 0 w 79560"/>
              <a:gd name="textAreaRight" fmla="*/ 28800 w 79560"/>
              <a:gd name="textAreaTop" fmla="*/ 86040 h 3305160"/>
              <a:gd name="textAreaBottom" fmla="*/ 3219120 h 3305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382040" y="311616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left-hand s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086000" y="3116160"/>
            <a:ext cx="126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right-hand s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96960" y="2178000"/>
            <a:ext cx="13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Produ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696960" y="4673520"/>
            <a:ext cx="7041240" cy="1718280"/>
            <a:chOff x="696960" y="4673520"/>
            <a:chExt cx="7041240" cy="1718280"/>
          </a:xfrm>
        </p:grpSpPr>
        <p:sp>
          <p:nvSpPr>
            <p:cNvPr id="223" name=""/>
            <p:cNvSpPr/>
            <p:nvPr/>
          </p:nvSpPr>
          <p:spPr>
            <a:xfrm>
              <a:off x="696960" y="4673520"/>
              <a:ext cx="14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Metasymb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22160" y="5164200"/>
              <a:ext cx="526680" cy="121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0000"/>
                  </a:solidFill>
                  <a:latin typeface="Times New Roman"/>
                </a:rPr>
                <a:t>|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r>
                <a:rPr b="0" lang="de-AT" sz="16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0000"/>
                  </a:solidFill>
                  <a:latin typeface="Times New Roman"/>
                </a:rPr>
                <a:t>[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r>
                <a:rPr b="0" lang="de-AT" sz="1600" spc="-1" strike="noStrike">
                  <a:solidFill>
                    <a:srgbClr val="ff0000"/>
                  </a:solidFill>
                  <a:latin typeface="Times New Roman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0000"/>
                  </a:solidFill>
                  <a:latin typeface="Times New Roman"/>
                </a:rPr>
                <a:t>{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r>
                <a:rPr b="0" lang="de-AT" sz="1600" spc="-1" strike="noStrike">
                  <a:solidFill>
                    <a:srgbClr val="ff0000"/>
                  </a:solidFill>
                  <a:latin typeface="Times New Roman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819440" y="5164200"/>
              <a:ext cx="1910520" cy="121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separates alternativ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groups alternativ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optional p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terative p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816080" y="5172120"/>
              <a:ext cx="2922120" cy="121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863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 | b | c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a  or  b  or  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863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 (b | c) 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ab | a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863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[a] b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ab |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863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{a}b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b | ab | aab | aaab | 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1300680" y="3605040"/>
            <a:ext cx="4357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1080" indent="-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by conven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erminal symbols start with lower-case let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nonterminal symbols start with upper-case let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0985-813A-476F-A768-D732D6C80086}" type="slidenum">
              <a:t>7</a:t>
            </a:fld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Main Program of Taste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736920" y="1268280"/>
            <a:ext cx="5520960" cy="3717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using System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class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Tast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static 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Main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(string[] arg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arg.Length &gt; 0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canner scanner = new Scanner(arg[0]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arser parser = new Parser(scanne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arser.tab = new SymbolTable(parse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arser.gen = new CodeGenerator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parser.Parse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parser.errors.count == 0) parser.gen.Interpret("Taste.IN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 e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nsole.WriteLine("-- No source file specified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1" name=""/>
          <p:cNvGrpSpPr/>
          <p:nvPr/>
        </p:nvGrpSpPr>
        <p:grpSpPr>
          <a:xfrm>
            <a:off x="683640" y="5181480"/>
            <a:ext cx="6493680" cy="1214280"/>
            <a:chOff x="683640" y="5181480"/>
            <a:chExt cx="6493680" cy="1214280"/>
          </a:xfrm>
        </p:grpSpPr>
        <p:sp>
          <p:nvSpPr>
            <p:cNvPr id="952" name=""/>
            <p:cNvSpPr/>
            <p:nvPr/>
          </p:nvSpPr>
          <p:spPr>
            <a:xfrm>
              <a:off x="683640" y="5181480"/>
              <a:ext cx="25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Building the whole th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766440" y="5662440"/>
              <a:ext cx="6410880" cy="73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ffffff"/>
                  </a:solidFill>
                  <a:latin typeface="Arial"/>
                </a:rPr>
                <a:t>c:&gt; coco Taste.at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ffffff"/>
                  </a:solidFill>
                  <a:latin typeface="Arial"/>
                </a:rPr>
                <a:t>c:&gt; csc Taste.cs Scanner.cs Parser.cs SymbolTable.cs CodeGenerator.c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ffffff"/>
                  </a:solidFill>
                  <a:latin typeface="Arial"/>
                </a:rPr>
                <a:t>c:&gt; Taste Sample.t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CECA-9CF8-410E-BC5C-AD64D310F535}" type="slidenum">
              <a:t>70</a:t>
            </a:fld>
          </a:p>
        </p:txBody>
      </p:sp>
    </p:spTree>
  </p:cSld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Summary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726840" y="1319040"/>
            <a:ext cx="7399800" cy="48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oco/R generates a scanner and a recursive descent parser from an attributed gramm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LL(1) conflicts can be handled with resolvers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Grammars for C# and Java are available in Coco/R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oco/R is open source software (Gnu GPL)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http://ssw.jku.at/Coco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oco/R has been used by us to build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 white-box test tool for C#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 profiler for C#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 static program analyzer for C#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 metrics tool for Java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ompilers for domain-specific languages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 log file analyzer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Many companies and projects use Coco/R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harpDevelop: a C# IDE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www.icsharpcode.net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oftware Tomography: Static Analysis Tool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www.software-tomography.com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Sharp2Html: HTML viewer for C# sources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www.charp2html.net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urrently 39000 hits for Coco/R in Goog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8F3D-0246-4654-A87D-042E1FC1FA99}" type="slidenum">
              <a:t>71</a:t>
            </a:fld>
          </a:p>
        </p:txBody>
      </p:sp>
    </p:spTree>
  </p:cSld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Example: </a:t>
            </a:r>
            <a:r>
              <a:rPr b="0" i="1" lang="de-AT" sz="2400" spc="-1" strike="noStrike">
                <a:solidFill>
                  <a:srgbClr val="3333cc"/>
                </a:solidFill>
                <a:latin typeface="Times New Roman"/>
              </a:rPr>
              <a:t>Grammar for Arithmetic Expressions</a:t>
            </a:r>
            <a:endParaRPr b="0" i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96960" y="1371600"/>
            <a:ext cx="13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Produ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129320" y="1789200"/>
            <a:ext cx="3405600" cy="821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xp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 ["+" | "-"] Term {("+" | "-") Term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erm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 Factor {("*" | "/") Factor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acto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 ident | number | "(" Expr ")"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33680" y="28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Picture 1" descr=""/>
          <p:cNvPicPr/>
          <p:nvPr/>
        </p:nvPicPr>
        <p:blipFill>
          <a:blip r:embed="rId1"/>
          <a:stretch/>
        </p:blipFill>
        <p:spPr>
          <a:xfrm>
            <a:off x="6265800" y="1446120"/>
            <a:ext cx="2276640" cy="124776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379584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Picture 3" descr=""/>
          <p:cNvPicPr/>
          <p:nvPr/>
        </p:nvPicPr>
        <p:blipFill>
          <a:blip r:embed="rId2"/>
          <a:stretch/>
        </p:blipFill>
        <p:spPr>
          <a:xfrm>
            <a:off x="6259680" y="2668680"/>
            <a:ext cx="1552320" cy="103824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335772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Picture 4" descr=""/>
          <p:cNvPicPr/>
          <p:nvPr/>
        </p:nvPicPr>
        <p:blipFill>
          <a:blip r:embed="rId3"/>
          <a:stretch/>
        </p:blipFill>
        <p:spPr>
          <a:xfrm>
            <a:off x="6278400" y="3706920"/>
            <a:ext cx="2428920" cy="10191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5739120" y="20559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Exp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700960" y="326232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Te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625000" y="4316400"/>
            <a:ext cx="73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Fa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696600" y="2882880"/>
            <a:ext cx="4145400" cy="1573920"/>
            <a:chOff x="696600" y="2882880"/>
            <a:chExt cx="4145400" cy="1573920"/>
          </a:xfrm>
        </p:grpSpPr>
        <p:sp>
          <p:nvSpPr>
            <p:cNvPr id="241" name=""/>
            <p:cNvSpPr/>
            <p:nvPr/>
          </p:nvSpPr>
          <p:spPr>
            <a:xfrm>
              <a:off x="696600" y="2882880"/>
              <a:ext cx="194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Terminal symb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032120" y="3287880"/>
              <a:ext cx="1526400" cy="92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3333cc"/>
                  </a:solidFill>
                  <a:latin typeface="Times New Roman"/>
                </a:rPr>
                <a:t>simple TS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600"/>
              </a:br>
              <a:r>
                <a:rPr b="0" lang="de-AT" sz="1600" spc="-1" strike="noStrike">
                  <a:solidFill>
                    <a:srgbClr val="3333cc"/>
                  </a:solidFill>
                  <a:latin typeface="Times New Roman"/>
                </a:rPr>
                <a:t>terminal classes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696760" y="3287880"/>
              <a:ext cx="2145240" cy="11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"+", "-", "*", "/", "(", ")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de-AT" sz="1600" spc="-1" strike="noStrike">
                  <a:solidFill>
                    <a:srgbClr val="3333cc"/>
                  </a:solidFill>
                  <a:latin typeface="Times New Roman"/>
                </a:rPr>
                <a:t>just 1 instance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dent, numb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de-AT" sz="1600" spc="-1" strike="noStrike">
                  <a:solidFill>
                    <a:srgbClr val="3333cc"/>
                  </a:solidFill>
                  <a:latin typeface="Times New Roman"/>
                </a:rPr>
                <a:t>multiple instances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696960" y="4699080"/>
            <a:ext cx="2270160" cy="716760"/>
            <a:chOff x="696960" y="4699080"/>
            <a:chExt cx="2270160" cy="716760"/>
          </a:xfrm>
        </p:grpSpPr>
        <p:sp>
          <p:nvSpPr>
            <p:cNvPr id="245" name=""/>
            <p:cNvSpPr/>
            <p:nvPr/>
          </p:nvSpPr>
          <p:spPr>
            <a:xfrm>
              <a:off x="696960" y="4699080"/>
              <a:ext cx="227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Nonterminal symb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031760" y="5078520"/>
              <a:ext cx="173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Expr, Term, Fac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696960" y="5638680"/>
            <a:ext cx="1432080" cy="716760"/>
            <a:chOff x="696960" y="5638680"/>
            <a:chExt cx="1432080" cy="716760"/>
          </a:xfrm>
        </p:grpSpPr>
        <p:sp>
          <p:nvSpPr>
            <p:cNvPr id="248" name=""/>
            <p:cNvSpPr/>
            <p:nvPr/>
          </p:nvSpPr>
          <p:spPr>
            <a:xfrm>
              <a:off x="696960" y="5638680"/>
              <a:ext cx="143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Start symb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027440" y="6018120"/>
              <a:ext cx="57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Exp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F551-97E1-451C-9A17-1563DA45536B}" type="slidenum">
              <a:t>8</a:t>
            </a:fld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736560" y="3213000"/>
            <a:ext cx="7137360" cy="4190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1295280" y="3048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14960" y="1568520"/>
            <a:ext cx="596592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599"/>
              </a:spcAft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Generating Compilers with Coco/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Compil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Gramm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Coco/R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Scanner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Parser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LL(1) Confli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Case S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72D9-542B-43B4-AA8C-9C1A35E7B3E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2T09:29:13Z</dcterms:created>
  <dc:creator>Mössenböck</dc:creator>
  <dc:description/>
  <dc:language>en-US</dc:language>
  <cp:lastModifiedBy>Hanspeter Mössenböck</cp:lastModifiedBy>
  <cp:lastPrinted>2001-09-28T08:52:55Z</cp:lastPrinted>
  <dcterms:modified xsi:type="dcterms:W3CDTF">2007-10-17T13:57:52Z</dcterms:modified>
  <cp:revision>468</cp:revision>
  <dc:subject/>
  <dc:title>Javascript-Anweisungen</dc:title>
</cp:coreProperties>
</file>