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996-84B8-4E61-A551-32F0A24C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B45-99CD-4819-ACAB-E751E314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0FB-3FE8-416D-9313-B1942613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01C-E712-4C79-9910-42F7089D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1E0-F997-41BC-8B66-C8FD632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58A-6126-4D0C-9D3E-C08328F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898-9D17-4930-AC46-FD5A94C5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FB9-32B0-4DB4-A363-C53055CE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D79-00B8-4F00-B0BB-053F54D9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413-5103-4C18-B5E0-4EB6B12B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447-9DAC-4581-B601-7BC7430F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70F-7C7C-409F-B8B8-6D4A9211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FB142-33FB-4DE0-B49D-1F541FE31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4E934-DF5A-4621-BD6B-DDB35B33E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23:58:46Z</dcterms:created>
  <dc:creator>Gray Watson</dc:creator>
  <dc:description/>
  <dc:language>en-US</dc:language>
  <cp:lastModifiedBy>Gray Watson</cp:lastModifiedBy>
  <dcterms:modified xsi:type="dcterms:W3CDTF">2014-01-04T00:05:31Z</dcterms:modified>
  <cp:revision>2</cp:revision>
  <dc:subject/>
  <dc:title>Test</dc:title>
</cp:coreProperties>
</file>