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754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4506B-551B-4258-BEE7-B300A736E77E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8226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3689640"/>
            <a:ext cx="8226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68964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440" y="368964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8200" y="160812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9560" y="160812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368964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8200" y="368964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9560" y="368964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608120"/>
            <a:ext cx="8226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8226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4014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440" y="1608120"/>
            <a:ext cx="4014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822636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1608120"/>
            <a:ext cx="4014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368964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4014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440" y="368964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689640"/>
            <a:ext cx="8226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8120"/>
            <a:ext cx="8226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134915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8" name=""/>
          <p:cNvSpPr/>
          <p:nvPr/>
        </p:nvSpPr>
        <p:spPr>
          <a:xfrm>
            <a:off x="1619280" y="1714680"/>
            <a:ext cx="5715000" cy="28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0320" bIns="4032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e06b20"/>
                </a:solidFill>
                <a:latin typeface="Calibri"/>
              </a:rPr>
              <a:t>Thank you for using PHPPowerPoint!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9:59:52Z</dcterms:created>
  <dc:creator>PHPOffice</dc:creator>
  <dc:description>Sample 01 Description</dc:description>
  <cp:keywords>office 2007 openxml libreoffice odt php</cp:keywords>
  <dc:language>en-US</dc:language>
  <cp:lastModifiedBy>PHPPowerPoint Team</cp:lastModifiedBy>
  <dcterms:modified xsi:type="dcterms:W3CDTF">2014-07-22T09:59:52Z</dcterms:modified>
  <cp:revision>0</cp:revision>
  <dc:subject>Sample 01 Subject</dc:subject>
  <dc:title>Sample 01 Title</dc:title>
</cp:coreProperties>
</file>