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6352-EDA5-4045-B3FC-E9782246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3409-4A6A-47F0-AD1F-C9C7246A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8192-3103-4ACF-AA79-5DE4CE4F0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D8E4-C718-4997-8B35-77317592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9862-7117-4B53-9540-A4126A88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602B-6AED-4850-9A68-7282636F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2DF2-8431-4DD4-8B45-27EDDD2E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A4FC-FCFF-4F2E-A562-8AA7A6EC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A7A7-6A70-474B-B19C-54E74E6A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F8A9-E293-4576-95CC-6F883D8E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D4A6-056A-43E4-948B-D10E7C8A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E275-9700-4D1D-B619-B493A702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A941-F42D-4D66-8BEC-ADD4EE16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F9EB-C350-4054-9562-4288F6DE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24FB-A930-4C6D-AD9B-87C6560F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0322-4D14-4187-8872-B13162B63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29D8-4332-436B-8124-5AFFDBD2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80F6-BE41-4AB5-B155-3391A9BC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E66D-E484-411F-89A3-1210681D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F392-B225-4348-872B-D293B9EA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9960-A287-4547-B60B-F6A423EB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FFAF-45FF-41B3-813F-3017EBE7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8A99-798A-4FD2-85FD-B3827F6A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2938-BEB3-4D1F-A36C-4DC922F3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52280" y="313920"/>
            <a:ext cx="847440" cy="6543720"/>
            <a:chOff x="152280" y="313920"/>
            <a:chExt cx="847440" cy="6543720"/>
          </a:xfrm>
        </p:grpSpPr>
        <p:sp>
          <p:nvSpPr>
            <p:cNvPr id="1" name="AutoShape 8"/>
            <p:cNvSpPr/>
            <p:nvPr/>
          </p:nvSpPr>
          <p:spPr>
            <a:xfrm flipH="1" rot="5400000">
              <a:off x="131040" y="3157560"/>
              <a:ext cx="892440" cy="844560"/>
            </a:xfrm>
            <a:prstGeom prst="parallelogram">
              <a:avLst>
                <a:gd name="adj" fmla="val 5595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9"/>
            <p:cNvSpPr/>
            <p:nvPr/>
          </p:nvSpPr>
          <p:spPr>
            <a:xfrm flipH="1" rot="5400000">
              <a:off x="131040" y="4097880"/>
              <a:ext cx="892440" cy="844560"/>
            </a:xfrm>
            <a:prstGeom prst="parallelogram">
              <a:avLst>
                <a:gd name="adj" fmla="val 5595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10"/>
            <p:cNvSpPr/>
            <p:nvPr/>
          </p:nvSpPr>
          <p:spPr>
            <a:xfrm flipH="1" rot="5400000">
              <a:off x="128520" y="5034600"/>
              <a:ext cx="892440" cy="844920"/>
            </a:xfrm>
            <a:prstGeom prst="parallelogram">
              <a:avLst>
                <a:gd name="adj" fmla="val 5593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11"/>
            <p:cNvSpPr/>
            <p:nvPr/>
          </p:nvSpPr>
          <p:spPr>
            <a:xfrm flipH="1" rot="5400000">
              <a:off x="132840" y="5994000"/>
              <a:ext cx="882720" cy="844560"/>
            </a:xfrm>
            <a:prstGeom prst="parallelogram">
              <a:avLst>
                <a:gd name="adj" fmla="val 5534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12"/>
            <p:cNvSpPr/>
            <p:nvPr/>
          </p:nvSpPr>
          <p:spPr>
            <a:xfrm flipH="1" rot="5400000">
              <a:off x="131040" y="337680"/>
              <a:ext cx="892440" cy="844560"/>
            </a:xfrm>
            <a:prstGeom prst="parallelogram">
              <a:avLst>
                <a:gd name="adj" fmla="val 5595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13"/>
            <p:cNvSpPr/>
            <p:nvPr/>
          </p:nvSpPr>
          <p:spPr>
            <a:xfrm flipH="1" rot="5400000">
              <a:off x="128520" y="1271160"/>
              <a:ext cx="892440" cy="844920"/>
            </a:xfrm>
            <a:prstGeom prst="parallelogram">
              <a:avLst>
                <a:gd name="adj" fmla="val 5593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14"/>
            <p:cNvSpPr/>
            <p:nvPr/>
          </p:nvSpPr>
          <p:spPr>
            <a:xfrm flipH="1" rot="5400000">
              <a:off x="128520" y="2214360"/>
              <a:ext cx="892440" cy="844920"/>
            </a:xfrm>
            <a:prstGeom prst="parallelogram">
              <a:avLst>
                <a:gd name="adj" fmla="val 5593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C934-DDB1-480F-BBED-4E78C4D66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10"/>
          <p:cNvGrpSpPr/>
          <p:nvPr/>
        </p:nvGrpSpPr>
        <p:grpSpPr>
          <a:xfrm>
            <a:off x="152280" y="313920"/>
            <a:ext cx="847440" cy="6543720"/>
            <a:chOff x="152280" y="313920"/>
            <a:chExt cx="847440" cy="6543720"/>
          </a:xfrm>
        </p:grpSpPr>
        <p:sp>
          <p:nvSpPr>
            <p:cNvPr id="68" name="AutoShape 11"/>
            <p:cNvSpPr/>
            <p:nvPr/>
          </p:nvSpPr>
          <p:spPr>
            <a:xfrm flipH="1" rot="5400000">
              <a:off x="131040" y="3157560"/>
              <a:ext cx="892440" cy="844560"/>
            </a:xfrm>
            <a:prstGeom prst="parallelogram">
              <a:avLst>
                <a:gd name="adj" fmla="val 5595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2"/>
            <p:cNvSpPr/>
            <p:nvPr/>
          </p:nvSpPr>
          <p:spPr>
            <a:xfrm flipH="1" rot="5400000">
              <a:off x="131040" y="4097880"/>
              <a:ext cx="892440" cy="844560"/>
            </a:xfrm>
            <a:prstGeom prst="parallelogram">
              <a:avLst>
                <a:gd name="adj" fmla="val 5595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3"/>
            <p:cNvSpPr/>
            <p:nvPr/>
          </p:nvSpPr>
          <p:spPr>
            <a:xfrm flipH="1" rot="5400000">
              <a:off x="128520" y="5034600"/>
              <a:ext cx="892440" cy="844920"/>
            </a:xfrm>
            <a:prstGeom prst="parallelogram">
              <a:avLst>
                <a:gd name="adj" fmla="val 5593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14"/>
            <p:cNvSpPr/>
            <p:nvPr/>
          </p:nvSpPr>
          <p:spPr>
            <a:xfrm flipH="1" rot="5400000">
              <a:off x="132840" y="5994000"/>
              <a:ext cx="882720" cy="844560"/>
            </a:xfrm>
            <a:prstGeom prst="parallelogram">
              <a:avLst>
                <a:gd name="adj" fmla="val 5534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5"/>
            <p:cNvSpPr/>
            <p:nvPr/>
          </p:nvSpPr>
          <p:spPr>
            <a:xfrm flipH="1" rot="5400000">
              <a:off x="131040" y="337680"/>
              <a:ext cx="892440" cy="844560"/>
            </a:xfrm>
            <a:prstGeom prst="parallelogram">
              <a:avLst>
                <a:gd name="adj" fmla="val 5595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6"/>
            <p:cNvSpPr/>
            <p:nvPr/>
          </p:nvSpPr>
          <p:spPr>
            <a:xfrm flipH="1" rot="5400000">
              <a:off x="128520" y="1271160"/>
              <a:ext cx="892440" cy="844920"/>
            </a:xfrm>
            <a:prstGeom prst="parallelogram">
              <a:avLst>
                <a:gd name="adj" fmla="val 5593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7"/>
            <p:cNvSpPr/>
            <p:nvPr/>
          </p:nvSpPr>
          <p:spPr>
            <a:xfrm flipH="1" rot="5400000">
              <a:off x="128520" y="2214360"/>
              <a:ext cx="892440" cy="844920"/>
            </a:xfrm>
            <a:prstGeom prst="parallelogram">
              <a:avLst>
                <a:gd name="adj" fmla="val 5593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8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9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20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22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24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5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6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7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8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9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30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31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2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EBCC-3320-44E6-99F5-2F1E85EE1D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4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safasdfsadf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67000" y="198108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asdfsadfsadf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144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3848400" cy="41148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67000" y="198108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Asdfasdfsdsdf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Sooooope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11T21:32:50Z</dcterms:created>
  <dc:creator>Employee</dc:creator>
  <dc:description/>
  <dc:language>en-US</dc:language>
  <cp:lastModifiedBy>Toby Allen</cp:lastModifiedBy>
  <dcterms:modified xsi:type="dcterms:W3CDTF">2020-06-20T16:59:47Z</dcterms:modified>
  <cp:revision>1</cp:revision>
  <dc:subject/>
  <dc:title> </dc:title>
</cp:coreProperties>
</file>