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4EE-98AA-40AF-BE20-E844E490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B1B-4A4D-48C3-B2DD-A43A950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795-4EBA-401B-8EEE-77ECD2C1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464-F12E-43A9-BACE-34DD541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E11F-F454-4574-A6E7-764482D9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AD79-563E-46C4-ABA5-B6BE646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B92-B1AF-4563-89C6-5D938676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2066-8AEB-43F6-963F-2248B11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3BB0-BAF2-43D5-B1A7-4905453C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E7CE-4ACC-4ADB-8265-D18D5508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22B1-DB21-4B6E-B663-EB6BF8B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E0E-9243-4626-8D2A-011FA921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2A3-7FDE-4FB3-8415-7B9298C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F18F-C65C-4952-BFDB-4ABDA40A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26AD-2118-479A-BE53-740DC608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C43A-0CAA-4282-8A3F-00334121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E078-8FE0-4DD2-99F0-A7399ACE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D22-AD22-4EBD-9F47-44C4F03C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D63-A5FD-4660-89BE-489FC25C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69E-C33D-4015-9B3B-25791096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C0B-EDBB-49CA-ACC9-A4E1966F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773-BB3F-46E2-8386-3923FA0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6A9-CCB8-4DBB-8042-71CD2D85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452-3E1C-4036-B466-0E43C67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33560" y="3139200"/>
              <a:ext cx="887040" cy="844560"/>
            </a:xfrm>
            <a:prstGeom prst="parallelogram">
              <a:avLst>
                <a:gd name="adj" fmla="val 556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33560" y="4073760"/>
              <a:ext cx="887040" cy="844560"/>
            </a:xfrm>
            <a:prstGeom prst="parallelogram">
              <a:avLst>
                <a:gd name="adj" fmla="val 556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31400" y="5004720"/>
              <a:ext cx="887040" cy="844920"/>
            </a:xfrm>
            <a:prstGeom prst="parallelogram">
              <a:avLst>
                <a:gd name="adj" fmla="val 5559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5360" y="5996520"/>
              <a:ext cx="877680" cy="844560"/>
            </a:xfrm>
            <a:prstGeom prst="parallelogram">
              <a:avLst>
                <a:gd name="adj" fmla="val 5503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33560" y="335520"/>
              <a:ext cx="887040" cy="844560"/>
            </a:xfrm>
            <a:prstGeom prst="parallelogram">
              <a:avLst>
                <a:gd name="adj" fmla="val 556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31400" y="1263240"/>
              <a:ext cx="887040" cy="844920"/>
            </a:xfrm>
            <a:prstGeom prst="parallelogram">
              <a:avLst>
                <a:gd name="adj" fmla="val 5559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31400" y="2201040"/>
              <a:ext cx="887040" cy="844920"/>
            </a:xfrm>
            <a:prstGeom prst="parallelogram">
              <a:avLst>
                <a:gd name="adj" fmla="val 5559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C539-F619-4D9E-837D-EED0B2E0D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33560" y="3139200"/>
              <a:ext cx="887040" cy="844560"/>
            </a:xfrm>
            <a:prstGeom prst="parallelogram">
              <a:avLst>
                <a:gd name="adj" fmla="val 556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33560" y="4073760"/>
              <a:ext cx="887040" cy="844560"/>
            </a:xfrm>
            <a:prstGeom prst="parallelogram">
              <a:avLst>
                <a:gd name="adj" fmla="val 556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31400" y="5004720"/>
              <a:ext cx="887040" cy="844920"/>
            </a:xfrm>
            <a:prstGeom prst="parallelogram">
              <a:avLst>
                <a:gd name="adj" fmla="val 5559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5360" y="5996520"/>
              <a:ext cx="877680" cy="844560"/>
            </a:xfrm>
            <a:prstGeom prst="parallelogram">
              <a:avLst>
                <a:gd name="adj" fmla="val 5503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33560" y="335520"/>
              <a:ext cx="887040" cy="844560"/>
            </a:xfrm>
            <a:prstGeom prst="parallelogram">
              <a:avLst>
                <a:gd name="adj" fmla="val 556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31400" y="1263240"/>
              <a:ext cx="887040" cy="844920"/>
            </a:xfrm>
            <a:prstGeom prst="parallelogram">
              <a:avLst>
                <a:gd name="adj" fmla="val 5559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31400" y="2201040"/>
              <a:ext cx="887040" cy="844920"/>
            </a:xfrm>
            <a:prstGeom prst="parallelogram">
              <a:avLst>
                <a:gd name="adj" fmla="val 5559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7721-E166-4BDE-9F0D-07455D353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afasdfsad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dfsadfsad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84840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dfasdfsdsd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Sooooop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1T21:32:50Z</dcterms:created>
  <dc:creator>Employee</dc:creator>
  <dc:description/>
  <dc:language>en-US</dc:language>
  <cp:lastModifiedBy>Toby Allen</cp:lastModifiedBy>
  <dcterms:modified xsi:type="dcterms:W3CDTF">2020-06-21T09:00:37Z</dcterms:modified>
  <cp:revision>1</cp:revision>
  <dc:subject/>
  <dc:title> </dc:title>
</cp:coreProperties>
</file>