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2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23.png" ContentType="image/png"/>
  <Override PartName="/ppt/media/image22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wmf" ContentType="image/x-wmf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A955-3BC8-4BFD-9E01-C8798B62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3A49-8BA3-46DE-8DA1-2D17B08F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2684-2500-4894-AFCA-F364DF06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FAF2-248D-43A4-9071-DAB4FC8B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D398-D147-4229-9D3C-87C7EFCC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46F0-167D-4049-B8C1-0CE1B52B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0D05-6616-4228-A115-F9B459BB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B907-9C11-4F50-A198-6081C775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AE66-3A35-4865-B094-77544BE7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3702-3EC9-4F98-A6F3-AF71E330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F5A1-0A84-48D0-9587-1BCB1F60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F4AF-5CC6-4E14-BC77-83EBF1AD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5B33-583C-49B9-8B22-8DCD22F3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F1DF-6B5D-4D03-8111-1B7C35EA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13F8-E741-4CE0-9973-40AA3818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7654-E5BF-45A8-8F53-DF466DC9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B618-7638-47CF-94A5-BC198E55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D670-8595-4F92-943B-D1941FDB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4B1D-BB0E-4423-9C3C-91787C63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7E97-38FC-4AE8-A22D-1338418F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B11B-6A83-4CD3-9645-DC836B7E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F6C4-9E65-414D-B926-D2A84A99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E721-023A-4EC2-B8E4-1AC8EAA6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D74F-3D23-4992-93C0-9360B687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BE42-F116-4BF3-BD9D-9BA561CB52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0936-E637-42EF-B9AE-99CFD1456E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bining real imagery with computer generated imag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rtual reality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gmented reality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eorobo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 in teleconferenc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4800600" cy="3610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638680" y="2133720"/>
            <a:ext cx="312444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person works at real 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mote collaborator represented by picture or video or “talking hea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objects of discussion; e.g. a patient’s brain image, might also be fused into visual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HOW IS THIS ACHIE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6019920"/>
            <a:ext cx="5029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rom University of Washington HIT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agine the virtual bo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 book with empty identifiable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 head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y and download a s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presents new stereo images when the pages are turn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his better than a .pdf fil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his better than stereo .pdf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uman operating with 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6781680" cy="2253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447920" y="4648320"/>
            <a:ext cx="6705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Think of a heads up display on your auto windshield, or on the instrument panel. What could be there to help you navig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(Vectors to nearby eating places? Blinking objects we might collide with? Congestion of nearby intersections? Web pages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pecial devices needed to fuse/register real and generated imag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990960" cy="3595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28600" y="2286000"/>
            <a:ext cx="44197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Human sees real environment – optics desig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Human sees graphics generated from 3D/2D models – computer graphics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Graphics system needs to know how the human is viewing the 3D environment – difficult pose sensin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563868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From University of Washington HIT L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ices that support 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to fuse imagery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to compute pose of user relative to the re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using CAD models with real env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618160" cy="3959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295280" y="57913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umber marks the wall where the CAD blueprint shows the pipe to 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wo types of HM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5799240" cy="41799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01028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696080" y="26665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00992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ifficult augmentation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es computer system know where to place the graphic overla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very sensitive to misregist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OK – such as circuit board insp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trackers on HMD to give approximate head 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ugh calibration procedures for individuals (see Charles Owens’ wor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leop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6172200" cy="2125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219320" y="4648320"/>
            <a:ext cx="6705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motely guided police robot moves a suspected bo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teleoperated robot cleans up nuclear reactor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urgeon in US performs surgery on a patient in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Dr in Lansing does breast exam on woman in Escanaba (work of Mutka, Xi, Mukergee, et al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leoperation on power li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828800" y="2038320"/>
            <a:ext cx="586584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bining real imagery with computer generated imag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ot-assisted surg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rtual real estate tou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rtual medical tou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ban 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p-assisted navi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er ga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ce2face mobile telecommun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09480" y="2185920"/>
            <a:ext cx="7925040" cy="2995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62120" y="5410080"/>
            <a:ext cx="769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cept HMD at left; actual images from our prototype HMD at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blem is to communicate the face to a remote communic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ddy/Stockman used geometric transformation and mosaick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2406600" cy="2394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2362320" cy="2351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971800" y="4267080"/>
            <a:ext cx="2354400" cy="2343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553080" y="4267080"/>
            <a:ext cx="2344680" cy="2368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7200" y="4419720"/>
            <a:ext cx="213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ich 2 are real video frames and which are composed of 2 transformed and mosaicked view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guel Figueroa’s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886200" y="1752480"/>
            <a:ext cx="5029200" cy="49262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80880" y="2286000"/>
            <a:ext cx="3048120" cy="43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ce image is fit as a blend of basis faces from training im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1F1+c2F2+ … cn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efficients [c1, c2, …, cn] sent to receiver embedded in the voice enco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r already has the basis vectors F1, F2, …, Fn and a mapping from side view to frontal view and can reconstruct the current fr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tual prototype in op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5867640" cy="2706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219320" y="5181480"/>
            <a:ext cx="6248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rror size is exaggerated in these images by perspective; however they are larger than desired. Consider using the Motorola headsets that football coaches use – with tiny camera on the microphone bo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ptured side view projected onto basis of training sam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70572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ntal views contructed by mapping from side view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019920" cy="3833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90720" y="579132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approach avoids geometrical reconstruction of distorted left and right face parts by using AAM methods -- training and mapping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systems (VR,AR,TO) require sensing of human actions or robot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systems need models of objects or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registration accuracy problem for AR, especially for see-through displays, where the fusion is done in the human’s visu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rtual image of real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3733560" cy="3139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95280" y="5310360"/>
            <a:ext cx="7010640" cy="545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257800" y="2057400"/>
            <a:ext cx="31240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3D sensed data can be studied for surgical paths to be followed by a surgeon or a robo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In the future, real-time sensing and registration can be used for feedback i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uman operating in a real environment: brain surgery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6705720" cy="131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371600" y="49528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ll objects are real; we cook food, chop wood, do brain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st computer games / videos are entirely virtu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3813120" cy="3129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3520" y="2286000"/>
            <a:ext cx="388620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IMMERSION, or engagement, can be very high, however,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Quality spatial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e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mooth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Little time delay between user interactions and visual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ynchronized audio and force feedback are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53341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rtesy of University of Washington HIT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irtual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immersive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environmen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16292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rtual environment schemat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5870520" cy="2543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76520" y="5257800"/>
            <a:ext cx="57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xample: nurse gets training on giving injections using a system with stereo imagery and haptic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rtual dextrous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4848480" cy="3589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219320" y="5410080"/>
            <a:ext cx="7162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edical personnel practice surgery or injection, etc. Artist can carve a virtual 3D object. Haptic system pushes back on tool appropriate to its penetration (intersection) of the model space. User’s free hand grabs a physical arm model under the table in injection tra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190512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sensable.com/products-haptic-device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ugmented reality: views of real objects + aug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85800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4:53:54Z</dcterms:created>
  <dc:creator>George C. Stockman</dc:creator>
  <dc:description/>
  <dc:language>en-US</dc:language>
  <cp:lastModifiedBy>George Stockman</cp:lastModifiedBy>
  <dcterms:modified xsi:type="dcterms:W3CDTF">2008-12-02T14:36:19Z</dcterms:modified>
  <cp:revision>18</cp:revision>
  <dc:subject/>
  <dc:title>Augmented and virtual rea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