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BFDF-3E2D-4B07-AFDC-98B6221C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59F-3D47-4FE6-A83B-91A1492C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F3B7-8756-4F76-8AED-66EEB23A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B7CA-1A34-4467-85AC-7FF07726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8EBF-D676-42CE-89CA-6282D2D2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4D6F-BF0C-47FB-AAE5-CB03972C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46AF-50E7-439D-92BE-F8446777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2C9-9B55-4772-8D23-E4C230BF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D7B6-C86F-4DC3-9EC3-57680D07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221D-EF94-4BCE-8C7E-9022D19B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D4EF-A669-499D-A79D-C387E930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418-C83D-4CE1-A375-3CFD1890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7025-7030-441C-A02F-74B7A120DC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800" spc="-1" strike="noStrike">
                <a:solidFill>
                  <a:srgbClr val="ff9900"/>
                </a:solidFill>
                <a:latin typeface="Arial"/>
              </a:rPr>
              <a:t>Virtual</a:t>
            </a:r>
            <a:r>
              <a:rPr b="1" lang="en-AU" sz="8800" spc="-1" strike="noStrike">
                <a:solidFill>
                  <a:srgbClr val="ccffff"/>
                </a:solidFill>
                <a:latin typeface="Book Antiqua"/>
              </a:rPr>
              <a:t> </a:t>
            </a:r>
            <a:r>
              <a:rPr b="1" lang="en-AU" sz="8800" spc="-1" strike="noStrike">
                <a:solidFill>
                  <a:srgbClr val="ff0000"/>
                </a:solidFill>
                <a:latin typeface="Arial"/>
              </a:rPr>
              <a:t>Reality</a:t>
            </a:r>
            <a:endParaRPr b="0" lang="en-US" sz="8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9933"/>
                </a:solidFill>
                <a:latin typeface="Tahoma"/>
              </a:rPr>
              <a:t>Definition:</a:t>
            </a:r>
            <a:r>
              <a:rPr b="1" lang="en-A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AU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AU" sz="1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AU" sz="10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2852640"/>
            <a:ext cx="8351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99"/>
                </a:solidFill>
                <a:latin typeface="Verdana"/>
              </a:rPr>
              <a:t>A computer generated,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99"/>
                </a:solidFill>
                <a:latin typeface="Verdana"/>
              </a:rPr>
              <a:t>‘</a:t>
            </a:r>
            <a:r>
              <a:rPr b="1" lang="en-AU" sz="4000" spc="-1" strike="noStrike">
                <a:solidFill>
                  <a:srgbClr val="ffff99"/>
                </a:solidFill>
                <a:latin typeface="Verdana"/>
              </a:rPr>
              <a:t>immersive’ (or wide field),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99"/>
                </a:solidFill>
                <a:latin typeface="Verdana"/>
              </a:rPr>
              <a:t>multi-sensory informat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99"/>
                </a:solidFill>
                <a:latin typeface="Verdana"/>
              </a:rPr>
              <a:t>program which tracks a user in real time.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64360" y="638172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© www.ozedweb.com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0000"/>
                </a:solidFill>
                <a:latin typeface="Tahoma"/>
              </a:rPr>
              <a:t>…</a:t>
            </a:r>
            <a:r>
              <a:rPr b="1" lang="en-AU" sz="5400" spc="-1" strike="noStrike">
                <a:solidFill>
                  <a:srgbClr val="ff0000"/>
                </a:solidFill>
                <a:latin typeface="Tahoma"/>
              </a:rPr>
              <a:t>now I’m sure I am.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219640" y="2708280"/>
            <a:ext cx="3384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in our virtu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hospital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9900"/>
                </a:solidFill>
                <a:latin typeface="Tahoma"/>
              </a:rPr>
              <a:t>Why not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2658960"/>
            <a:ext cx="3809880" cy="2757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164360" y="638172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© www.ozedweb.com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2012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0000"/>
                </a:solidFill>
                <a:latin typeface="Tahoma"/>
              </a:rPr>
              <a:t>Hey, that wasn’t there a moment ago...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27280" y="2349000"/>
            <a:ext cx="45320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Tahoma"/>
              </a:rPr>
              <a:t>Things are easy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Tahoma"/>
              </a:rPr>
              <a:t>with VR. 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Tahoma"/>
              </a:rPr>
              <a:t>Real Estate Agent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Tahoma"/>
              </a:rPr>
              <a:t>use it every day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3809880" cy="2789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164360" y="638172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© www.ozedweb.com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0000"/>
                </a:solidFill>
                <a:latin typeface="Tahoma"/>
              </a:rPr>
              <a:t>And Architects love it!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59280" y="2637000"/>
            <a:ext cx="4100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ffff"/>
                </a:solidFill>
                <a:latin typeface="Tahoma"/>
              </a:rPr>
              <a:t>Wait till you</a:t>
            </a:r>
            <a:endParaRPr b="0" lang="en-US" sz="4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ffff"/>
                </a:solidFill>
                <a:latin typeface="Tahoma"/>
              </a:rPr>
              <a:t>Walk</a:t>
            </a:r>
            <a:endParaRPr b="0" lang="en-US" sz="4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ffff"/>
                </a:solidFill>
                <a:latin typeface="Tahoma"/>
              </a:rPr>
              <a:t>through!</a:t>
            </a:r>
            <a:endParaRPr b="0" lang="en-US" sz="4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3809880" cy="2822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164360" y="638172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© www.ozedweb.com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0000"/>
                </a:solidFill>
                <a:latin typeface="Tahoma"/>
              </a:rPr>
              <a:t>At last… something real.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92720" y="2565360"/>
            <a:ext cx="3238560" cy="25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Tahoma"/>
              </a:rPr>
              <a:t>Sorry… 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Tahoma"/>
              </a:rPr>
              <a:t>That’s VR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Tahoma"/>
              </a:rPr>
              <a:t>too.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781360"/>
            <a:ext cx="3809880" cy="2278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164360" y="638172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© www.ozedweb.com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9140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ff0000"/>
                </a:solidFill>
                <a:latin typeface="Tahoma"/>
              </a:rPr>
              <a:t>Ahh...</a:t>
            </a:r>
            <a:endParaRPr b="0" lang="en-US" sz="9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16360" y="3644640"/>
            <a:ext cx="417672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ffff"/>
                </a:solidFill>
                <a:latin typeface="Tahoma"/>
              </a:rPr>
              <a:t>It goes here.</a:t>
            </a:r>
            <a:endParaRPr b="0" lang="en-US" sz="4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3809880" cy="2563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164360" y="638172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© www.ozedweb.com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8375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0000"/>
                </a:solidFill>
                <a:latin typeface="Tahoma"/>
              </a:rPr>
              <a:t>Well, that ship is not…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4360" y="2924280"/>
            <a:ext cx="3809880" cy="2290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8900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0000"/>
                </a:solidFill>
                <a:latin typeface="Verdana"/>
              </a:rPr>
              <a:t>Reality.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4360" y="638172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© www.ozedweb.com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path" presetID="5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44444E-006 -0.00046 C 0.01129 -0.00578 0.0533 -0.00901 0.06771 -0.00901 C 0.16059 -0.00901 0.25625 0.06844 0.25625 0.14798 C 0.25625 0.10729 0.30382 0.06844 0.34896 0.06844 C 0.39671 0.06844 0.44184 0.10798 0.44184 0.14798 C 0.44184 0.1274 0.46598 0.10729 0.48959 0.10729 C 0.51355 0.10729 0.5375 0.12694 0.5375 0.14798 C 0.5375 0.13665 0.54931 0.1274 0.56094 0.1274 C 0.57309 0.1274 0.5849 0.13757 0.5849 0.14798 C 0.5849 0.14197 0.59115 0.13665 0.59688 0.13665 C 0.60018 0.13665 0.60921 0.14197 0.60921 0.14798 C 0.60921 0.14451 0.61216 0.14197 0.61511 0.14197 C 0.61511 0.14266 0.62136 0.14451 0.62136 0.14798 C 0.62136 0.14613 0.62136 0.14451 0.62448 0.14451 C 0.62448 0.14544 0.62778 0.14613 0.62778 0.14798 C 0.62778 0.14659 0.62778 0.14613 0.62778 0.14544 C 0.63091 0.14544 0.63091 0.14613 0.63091 0.14682 C 0.63369 0.14682 0.63369 0.14613 0.63369 0.14544 C 0.63785 0.14544 0.63785 0.14613 0.63785 0.14682 E">
                                      <p:cBhvr>
                                        <p:cTn id="240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44704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ff0000"/>
                </a:solidFill>
                <a:latin typeface="Tahoma"/>
              </a:rPr>
              <a:t>Ohh...</a:t>
            </a:r>
            <a:endParaRPr b="0" lang="en-US" sz="9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16000" y="2636640"/>
            <a:ext cx="4172040" cy="28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But none the less,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Professor Bryant i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inspecting it. </a:t>
            </a: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or he thinks he i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809880" cy="3062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164360" y="638172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© www.ozedweb.com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44704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800" spc="-1" strike="noStrike">
                <a:solidFill>
                  <a:srgbClr val="ff0000"/>
                </a:solidFill>
                <a:latin typeface="Tahoma"/>
              </a:rPr>
              <a:t>What the ???</a:t>
            </a:r>
            <a:endParaRPr b="0" lang="en-US" sz="8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03640" y="2349000"/>
            <a:ext cx="381024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Tahoma"/>
              </a:rPr>
              <a:t>30 year 11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Tahoma"/>
              </a:rPr>
              <a:t>students went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Tahoma"/>
              </a:rPr>
              <a:t>through thi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Tahoma"/>
              </a:rPr>
              <a:t>door to do their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Tahoma"/>
              </a:rPr>
              <a:t>senior history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5800" y="2622600"/>
            <a:ext cx="3809880" cy="2830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164360" y="638172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© www.ozedweb.com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7200" spc="-1" strike="noStrike">
                <a:solidFill>
                  <a:srgbClr val="ff0000"/>
                </a:solidFill>
                <a:latin typeface="Tahoma"/>
              </a:rPr>
              <a:t>VR is looming...</a:t>
            </a:r>
            <a:endParaRPr b="0" lang="en-US" sz="7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92360" y="2060640"/>
            <a:ext cx="345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... yes that is a loom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It is inside a house i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Ancient Greece. </a:t>
            </a: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It’ is part of a V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course in Ancien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History at a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American secondary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school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5800" y="2619360"/>
            <a:ext cx="3809880" cy="2838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164360" y="638172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© www.ozedweb.com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188640"/>
            <a:ext cx="87361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0000"/>
                </a:solidFill>
                <a:latin typeface="Tahoma"/>
              </a:rPr>
              <a:t>The End of the Beginning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53440" cy="23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VR is in its early stages, but is us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commercially, globally. There ar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61,400 international commercial compan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producing VR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3573360"/>
            <a:ext cx="8389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While VR is at an early stage, it is us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educationally throughout the world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There are approximately  3,600 educational institutions which use VR.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9900"/>
                </a:solidFill>
                <a:latin typeface="Tahoma"/>
              </a:rPr>
              <a:t>How many are in Australia?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64360" y="638172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© www.ozedweb.com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7200" spc="-1" strike="noStrike">
                <a:solidFill>
                  <a:srgbClr val="ff0000"/>
                </a:solidFill>
                <a:latin typeface="Tahoma"/>
              </a:rPr>
              <a:t>What use is VR?</a:t>
            </a:r>
            <a:endParaRPr b="0" lang="en-US" sz="7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76360" y="2708280"/>
            <a:ext cx="37450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Tahoma"/>
              </a:rPr>
              <a:t>VR provides: 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66"/>
                </a:solidFill>
                <a:latin typeface="Tahoma"/>
              </a:rPr>
              <a:t>Augmented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66"/>
                </a:solidFill>
                <a:latin typeface="Tahoma"/>
              </a:rPr>
              <a:t>Reality</a:t>
            </a:r>
            <a:r>
              <a:rPr b="1" lang="en-A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AU" sz="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2595600"/>
            <a:ext cx="3809880" cy="2884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164360" y="638172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© www.ozedweb.com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6520" y="188640"/>
            <a:ext cx="8566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Tahoma"/>
              </a:rPr>
              <a:t>OK, OK, the Military use it.</a:t>
            </a:r>
            <a:r>
              <a:rPr b="1" lang="en-AU" sz="32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3200"/>
            </a:br>
            <a:br>
              <a:rPr sz="1000"/>
            </a:br>
            <a:r>
              <a:rPr b="1" lang="en-AU" sz="4400" spc="-1" strike="noStrike">
                <a:solidFill>
                  <a:srgbClr val="ffff66"/>
                </a:solidFill>
                <a:latin typeface="Tahoma"/>
              </a:rPr>
              <a:t>So...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32360" y="1988640"/>
            <a:ext cx="37432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Many organisat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do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On the left is a V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view of earth with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satellites. This i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used in the spa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shuttle simulator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3809880" cy="2587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164360" y="638172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© www.ozedweb.com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0000"/>
                </a:solidFill>
                <a:latin typeface="Tahoma"/>
              </a:rPr>
              <a:t>Military…Space… what about normal people…?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716000" y="2276280"/>
            <a:ext cx="424836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Tahoma"/>
              </a:rPr>
              <a:t>Normal? Well…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Tahoma"/>
              </a:rPr>
              <a:t>how about trade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Tahoma"/>
              </a:rPr>
              <a:t>people? </a:t>
            </a:r>
            <a:r>
              <a:rPr b="1" lang="en-A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Tahoma"/>
              </a:rPr>
              <a:t>This is a virtual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Tahoma"/>
              </a:rPr>
              <a:t>lathe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3809880" cy="3092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164360" y="638172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© www.ozedweb.com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0000"/>
                </a:solidFill>
                <a:latin typeface="Tahoma"/>
              </a:rPr>
              <a:t>Well that’s better..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59280" y="198900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This lathe i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to tr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apprentic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Unlimited fre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material and n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clean up!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3809880" cy="2817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164360" y="638172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© www.ozedweb.com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7200" spc="-1" strike="noStrike">
                <a:solidFill>
                  <a:srgbClr val="ff0000"/>
                </a:solidFill>
                <a:latin typeface="Tahoma"/>
              </a:rPr>
              <a:t>Anything else?</a:t>
            </a:r>
            <a:endParaRPr b="0" lang="en-US" sz="7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3809880" cy="30924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27640" y="2781000"/>
            <a:ext cx="4387680" cy="28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ffff"/>
                </a:solidFill>
                <a:latin typeface="Tahoma"/>
              </a:rPr>
              <a:t>How about… learning to hang-glide?</a:t>
            </a:r>
            <a:endParaRPr b="0" lang="en-US" sz="4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638172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© www.ozedweb.com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ff0000"/>
                </a:solidFill>
                <a:latin typeface="Tahoma"/>
              </a:rPr>
              <a:t>Umm...</a:t>
            </a:r>
            <a:endParaRPr b="0" lang="en-US" sz="9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59280" y="2421000"/>
            <a:ext cx="40276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ff"/>
                </a:solidFill>
                <a:latin typeface="Tahoma"/>
              </a:rPr>
              <a:t>Is it as</a:t>
            </a:r>
            <a:endParaRPr b="0" lang="en-US" sz="6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ff"/>
                </a:solidFill>
                <a:latin typeface="Tahoma"/>
              </a:rPr>
              <a:t>easy as it</a:t>
            </a:r>
            <a:endParaRPr b="0" lang="en-US" sz="6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ff"/>
                </a:solidFill>
                <a:latin typeface="Tahoma"/>
              </a:rPr>
              <a:t>looks?</a:t>
            </a:r>
            <a:endParaRPr b="0" lang="en-US" sz="6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3809880" cy="3062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164360" y="638172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© www.ozedweb.com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0000"/>
                </a:solidFill>
                <a:latin typeface="Tahoma"/>
              </a:rPr>
              <a:t>I’m more of the down to earth type...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03640" y="2565360"/>
            <a:ext cx="38102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Tahoma"/>
              </a:rPr>
              <a:t>How abou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Tahoma"/>
              </a:rPr>
              <a:t>learning to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Tahoma"/>
              </a:rPr>
              <a:t>drive a car?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2770200"/>
            <a:ext cx="3809880" cy="2536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164360" y="638172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© www.ozedweb.com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0000"/>
                </a:solidFill>
                <a:latin typeface="Tahoma"/>
              </a:rPr>
              <a:t>I think I’m feeling ill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03640" y="1988640"/>
            <a:ext cx="38102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Tahoma"/>
              </a:rPr>
              <a:t>Well, that’s not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Tahoma"/>
              </a:rPr>
              <a:t>a problem.</a:t>
            </a:r>
            <a:r>
              <a:rPr b="1" lang="en-A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9933"/>
                </a:solidFill>
                <a:latin typeface="Tahoma"/>
              </a:rPr>
              <a:t>We’ll find a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9933"/>
                </a:solidFill>
                <a:latin typeface="Tahoma"/>
              </a:rPr>
              <a:t>cure with the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9933"/>
                </a:solidFill>
                <a:latin typeface="Tahoma"/>
              </a:rPr>
              <a:t>Virtual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9933"/>
                </a:solidFill>
                <a:latin typeface="Tahoma"/>
              </a:rPr>
              <a:t>patient..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2658960"/>
            <a:ext cx="3809880" cy="2757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164360" y="638172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© www.ozedweb.com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5T13:06:59Z</dcterms:created>
  <dc:creator>Stephen Lane</dc:creator>
  <dc:description/>
  <dc:language>en-US</dc:language>
  <cp:lastModifiedBy>Stephen</cp:lastModifiedBy>
  <dcterms:modified xsi:type="dcterms:W3CDTF">2002-04-08T11:35:32Z</dcterms:modified>
  <cp:revision>45</cp:revision>
  <dc:subject/>
  <dc:title>Virtual Reality Power 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tegories">
    <vt:lpwstr>PP Slide Shows</vt:lpwstr>
  </property>
</Properties>
</file>