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3F1-BBC7-4C92-9FED-E0F28986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ABA-E299-46AD-A769-8A6DB2E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0E50-8F5A-4136-9AA0-FC24BE91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726-1246-459B-AB9D-2C602C9F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A638-42EA-46AA-B948-75B07DD8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96FA-EE29-414E-8987-3DBED2E0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C53A-B96A-4B96-975B-AC9A24EF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8443-9A47-4BEB-8065-2B9F834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BBB9-03D6-4D50-95EF-8F6ACED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5EB9-57EE-408C-90C5-B7AD14EE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994-7EC2-4C1D-9B59-B9AC9F4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D39-4BE7-4209-8C5E-8876602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D99E-8ADD-4C8D-A5CE-795FA5D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13CB-A6A6-41B8-8259-A1E57F2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8D84-5C61-46CA-B7CB-DDAFFF4A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E1E1-4523-47BD-ABA0-C549A948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46A-5CDA-48D9-9FF3-50097A95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500-510B-4CDB-840B-D2B125F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001-03EF-4AA1-A237-5AA7B447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45A-3088-4404-AD84-588F74F0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3F0-D0C6-4C35-B6A1-2CD845B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5D6-537A-4C99-8E19-6E38A6A8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684-3B22-49B4-A6C3-B064F6A1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E68-F916-41B2-92BC-3694B0A4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2C8-FC57-49F7-B604-ACD52C977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C14-D8C6-475F-B652-AEDC29315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-vrl.umich.edu/project/automotive/neon_2_webpage.gif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-vrl.umich.edu/project/automotive/neon9_webpage.gif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r.isdale.com/WhatIsVR/frames/WhatIsVR4.1.html" TargetMode="External"/><Relationship Id="rId2" Type="http://schemas.openxmlformats.org/officeDocument/2006/relationships/hyperlink" Target="http://www.mic.atr.co.jp/~poup/research/ar/" TargetMode="External"/><Relationship Id="rId3" Type="http://schemas.openxmlformats.org/officeDocument/2006/relationships/hyperlink" Target="http://vresources.jump-gate.com/applications/applications.shtml" TargetMode="External"/><Relationship Id="rId4" Type="http://schemas.openxmlformats.org/officeDocument/2006/relationships/hyperlink" Target="http://vresources.jump-gate.com/applications/applications.shtml" TargetMode="External"/><Relationship Id="rId5" Type="http://schemas.openxmlformats.org/officeDocument/2006/relationships/hyperlink" Target="http://www-vrl.umich.edu/intro/" TargetMode="Externa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Virtual Rea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2514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S60-52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Instructor: Dr.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ggarw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tudent: 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Yang Ga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mester: Winter 200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ABBD-3295-4C90-80C2-79B23145A9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R Examples</a:t>
            </a:r>
            <a:r>
              <a:rPr b="0" lang="en-CA" sz="4000" spc="-1" strike="noStrike">
                <a:solidFill>
                  <a:srgbClr val="ffcc66"/>
                </a:solidFill>
                <a:latin typeface="Arial"/>
              </a:rPr>
              <a:t> (Cont’d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46280" y="1235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AR scene: Assembly instructions are inserted into the user's field of view via a head mounted display."/>
          <p:cNvPicPr/>
          <p:nvPr/>
        </p:nvPicPr>
        <p:blipFill>
          <a:blip r:embed="rId1"/>
          <a:stretch/>
        </p:blipFill>
        <p:spPr>
          <a:xfrm>
            <a:off x="1981080" y="2971800"/>
            <a:ext cx="4953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F9A-A010-4CA6-B0FC-1ABFA4375C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R Examples</a:t>
            </a:r>
            <a:r>
              <a:rPr b="0" lang="en-CA" sz="4000" spc="-1" strike="noStrike">
                <a:solidFill>
                  <a:srgbClr val="ffcc66"/>
                </a:solidFill>
                <a:latin typeface="Arial"/>
              </a:rPr>
              <a:t> (Cont’d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7057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27F-9834-44E8-AE36-A3E2175E41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ad-Mounted Display (HMD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A Helmet or a face mask providing the visual and auditory display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Use LCD or CRT t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display stereo images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 built-in head-tracker and stereo headpho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312408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5105520" y="4195800"/>
          <a:ext cx="2666880" cy="22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4195800"/>
                    <a:ext cx="26668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C1F-1803-4C77-B56D-C0AC3AEB9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inocular Omni-Orientation Monitor (BO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Head-coupled stereoscopic display devic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ses CRT to provide high-resolution display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venient  to use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ast and accurate built-in tracking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35304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60F-AC94-4256-B52E-E4333D10A2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Cave Automatic Virtual Environment (CAVE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Provides the illusion of immersion by projecting stereo images on the walls and floor of a room-sized cub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A head tracking system continuously adjust the stereo projection to the current position of the leading viewe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85D-F180-47C1-9D61-CB2646E089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G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Outfitted with sensors on the fingers as well as an overall position/orientation tracking equipment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nables natural interaction with virtual objects by hand gesture recognition</a:t>
            </a:r>
            <a:r>
              <a:rPr b="0" lang="en-CA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350496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029200" y="3759120"/>
          <a:ext cx="2743200" cy="26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3759120"/>
                    <a:ext cx="27432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440-8F0E-4506-A250-565E57E210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De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trol virtual objects in 3 dimensions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337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spacemouse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3376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371-EE3C-4B8D-A250-F3E80C17AC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olk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ming libraries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 function libraries (C &amp; C++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uthoring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programs with graphical interfaces for creating worlds without resorting to detailed programming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8F1-6EBC-4A69-9291-DFEE7D9E67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packages available in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Multiverse (Freeware)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Virtual Reality Studi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($100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ense8 World Tool Kit (WTK)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(over $1000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utodesk Cyberspace Development k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(over $1000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B67-11B8-48C6-ADDB-458417747C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ies of VR--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RM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(Virtual Reality Modeling Languag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andard language for interactive simulation within the World Wide Web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lows to create "virtual worlds" networked via the Internet and hyperlinked with the World Wide Web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spect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f virtual world display, interaction and internetworking can be specified using VRML without being dependent on special gear like HM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 models can be viewed by Netscape or I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a browser plug-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01B-52FE-4A74-9B99-FD8322C21A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of 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ies of 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rchitec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VR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of 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urrent problems &amp; Futur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D7D-55B1-43F8-B45B-A271E34512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Architectur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 of VR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Input Process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or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imulation 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sor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ndering Process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or and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World Database</a:t>
            </a: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5960" y="4159080"/>
            <a:ext cx="901440" cy="470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put</a:t>
            </a:r>
            <a:br>
              <a:rPr sz="1100"/>
            </a:b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49960" y="4159080"/>
            <a:ext cx="939600" cy="470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nd</a:t>
            </a:r>
            <a:r>
              <a:rPr b="1" lang="en-CA" sz="11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g</a:t>
            </a:r>
            <a:br>
              <a:rPr sz="1100"/>
            </a:b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715000"/>
            <a:ext cx="3489480" cy="9414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ld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70240" y="4629240"/>
            <a:ext cx="274680" cy="1176120"/>
          </a:xfrm>
          <a:prstGeom prst="upDownArrow">
            <a:avLst>
              <a:gd name="adj1" fmla="val 50000"/>
              <a:gd name="adj2" fmla="val 852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0560" y="4629240"/>
            <a:ext cx="274320" cy="1176120"/>
          </a:xfrm>
          <a:prstGeom prst="upDownArrow">
            <a:avLst>
              <a:gd name="adj1" fmla="val 50000"/>
              <a:gd name="adj2" fmla="val 8535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6520" y="5218200"/>
            <a:ext cx="274320" cy="469800"/>
          </a:xfrm>
          <a:prstGeom prst="upDownArrow">
            <a:avLst>
              <a:gd name="adj1" fmla="val 50000"/>
              <a:gd name="adj2" fmla="val 340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09840" y="3570120"/>
            <a:ext cx="235080" cy="471600"/>
          </a:xfrm>
          <a:prstGeom prst="downArrow">
            <a:avLst>
              <a:gd name="adj1" fmla="val 50000"/>
              <a:gd name="adj2" fmla="val 501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97520" y="3570120"/>
            <a:ext cx="235080" cy="471600"/>
          </a:xfrm>
          <a:prstGeom prst="upArrow">
            <a:avLst>
              <a:gd name="adj1" fmla="val 50000"/>
              <a:gd name="adj2" fmla="val 501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4746600"/>
            <a:ext cx="1216080" cy="4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mulati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2878920" y="4512600"/>
            <a:ext cx="588960" cy="822240"/>
          </a:xfrm>
          <a:custGeom>
            <a:avLst/>
            <a:gdLst>
              <a:gd name="textAreaLeft" fmla="*/ 196200 w 588960"/>
              <a:gd name="textAreaRight" fmla="*/ 504720 w 588960"/>
              <a:gd name="textAreaTop" fmla="*/ 572400 h 822240"/>
              <a:gd name="textAreaBottom" fmla="*/ 704520 h 822240"/>
            </a:gdLst>
            <a:ahLst/>
            <a:rect l="textAreaLeft" t="textAreaTop" r="textAreaRight" b="textAreaBottom"/>
            <a:pathLst>
              <a:path w="21600" h="21600">
                <a:moveTo>
                  <a:pt x="0" y="18139"/>
                </a:moveTo>
                <a:lnTo>
                  <a:pt x="15039" y="18139"/>
                </a:lnTo>
                <a:lnTo>
                  <a:pt x="15039" y="7200"/>
                </a:lnTo>
                <a:lnTo>
                  <a:pt x="11939" y="7200"/>
                </a:lnTo>
                <a:lnTo>
                  <a:pt x="167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17960" y="4629240"/>
            <a:ext cx="704880" cy="471240"/>
          </a:xfrm>
          <a:custGeom>
            <a:avLst/>
            <a:gdLst>
              <a:gd name="textAreaLeft" fmla="*/ 235080 w 704880"/>
              <a:gd name="textAreaRight" fmla="*/ 603720 w 704880"/>
              <a:gd name="textAreaTop" fmla="*/ 316800 h 471240"/>
              <a:gd name="textAreaBottom" fmla="*/ 403560 h 471240"/>
            </a:gdLst>
            <a:ahLst/>
            <a:rect l="textAreaLeft" t="textAreaTop" r="textAreaRight" b="textAreaBottom"/>
            <a:pathLst>
              <a:path w="21600" h="21600">
                <a:moveTo>
                  <a:pt x="0" y="17626"/>
                </a:moveTo>
                <a:lnTo>
                  <a:pt x="14526" y="17626"/>
                </a:lnTo>
                <a:lnTo>
                  <a:pt x="14526" y="7200"/>
                </a:lnTo>
                <a:lnTo>
                  <a:pt x="11426" y="7200"/>
                </a:lnTo>
                <a:lnTo>
                  <a:pt x="1651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13560" y="2971800"/>
            <a:ext cx="930240" cy="1155600"/>
          </a:xfrm>
          <a:prstGeom prst="wedgeRoundRectCallout">
            <a:avLst>
              <a:gd name="adj1" fmla="val -104268"/>
              <a:gd name="adj2" fmla="val 2438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, auditory, haptic, touc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352680"/>
            <a:ext cx="1137960" cy="642960"/>
          </a:xfrm>
          <a:prstGeom prst="wedgeRoundRectCallout">
            <a:avLst>
              <a:gd name="adj1" fmla="val 96046"/>
              <a:gd name="adj2" fmla="val 52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&amp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C7C-0050-40E8-9153-7CD71642DB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Components</a:t>
            </a:r>
            <a:r>
              <a:rPr b="0" lang="en-US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of VR System</a:t>
            </a: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(Cont’d)</a:t>
            </a:r>
            <a:endParaRPr b="0" lang="en-US" sz="37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put 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 devices used to input information to the compute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object is to get the coordinate data to the rest of the system with minimal lag tim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yboard, mouse, 3D position tracker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voice recognition system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04D-F700-4D77-BA53-CD0939602C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Components</a:t>
            </a:r>
            <a:r>
              <a:rPr b="0" lang="en-US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of VR System</a:t>
            </a: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(Cont’d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imulation 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e of a VR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akes the user inputs along with any tasks programmed into the world and determine the actions that will take place in the virtual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F67-888A-460C-B739-A396419FDF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Components</a:t>
            </a:r>
            <a:r>
              <a:rPr b="0" lang="en-US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of VR System</a:t>
            </a: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(Cont’d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ndering Proces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reate the sensations that are output to the use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te rendering processes are used for  visual, auditory, haptic and other sensory systems. Each renderer take a description of the world stat from the simulation process or derive it directly from the World Database for each time ste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EA2-FA9B-430C-9CFA-45D1CAAEA0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Components</a:t>
            </a:r>
            <a:r>
              <a:rPr b="0" lang="en-US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of VR System</a:t>
            </a:r>
            <a:r>
              <a:rPr b="0" lang="en-CA" sz="3700" spc="-1" strike="noStrike">
                <a:solidFill>
                  <a:srgbClr val="ffcc66"/>
                </a:solidFill>
                <a:latin typeface="Arial"/>
                <a:ea typeface="Times New Roman"/>
              </a:rPr>
              <a:t> (Cont’d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orld Database (World Description Fi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 objects that inhabit the world, scripts that describe actions of those object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F29-C48F-4EEF-BE63-DC3AD7E012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4648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tertain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vi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exc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ttr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10080" y="1371600"/>
          <a:ext cx="24098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371600"/>
                    <a:ext cx="24098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905120" y="4191120"/>
          <a:ext cx="476244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191120"/>
                    <a:ext cx="47624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F12-E291-4F0D-BCBB-4460A0A2BC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ications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edic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erforming surgery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surgery on a remote patient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 new skills in a safe, controlled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0" y="3276720"/>
          <a:ext cx="34290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34290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DB1-E2E1-48DB-9B2A-A0BA74EE0A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ications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modi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43200" y="2057400"/>
            <a:ext cx="5537160" cy="360"/>
            <a:chOff x="2743200" y="2057400"/>
            <a:chExt cx="5537160" cy="360"/>
          </a:xfrm>
        </p:grpSpPr>
        <p:sp>
          <p:nvSpPr>
            <p:cNvPr id="182" name=""/>
            <p:cNvSpPr/>
            <p:nvPr/>
          </p:nvSpPr>
          <p:spPr>
            <a:xfrm>
              <a:off x="2743200" y="205740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743200" y="2057400"/>
              <a:ext cx="3795840" cy="360"/>
              <a:chOff x="2743200" y="2057400"/>
              <a:chExt cx="3795840" cy="360"/>
            </a:xfrm>
          </p:grpSpPr>
          <p:sp>
            <p:nvSpPr>
              <p:cNvPr id="184" name=""/>
              <p:cNvSpPr/>
              <p:nvPr/>
            </p:nvSpPr>
            <p:spPr>
              <a:xfrm>
                <a:off x="2743200" y="2057400"/>
                <a:ext cx="37958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43200" y="2057400"/>
                <a:ext cx="37958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2743200" y="2057400"/>
            <a:ext cx="5537160" cy="360"/>
            <a:chOff x="2743200" y="2057400"/>
            <a:chExt cx="5537160" cy="360"/>
          </a:xfrm>
        </p:grpSpPr>
        <p:sp>
          <p:nvSpPr>
            <p:cNvPr id="187" name=""/>
            <p:cNvSpPr/>
            <p:nvPr/>
          </p:nvSpPr>
          <p:spPr>
            <a:xfrm>
              <a:off x="2743200" y="205740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743200" y="2057400"/>
              <a:ext cx="3795840" cy="360"/>
              <a:chOff x="2743200" y="2057400"/>
              <a:chExt cx="3795840" cy="360"/>
            </a:xfrm>
          </p:grpSpPr>
          <p:sp>
            <p:nvSpPr>
              <p:cNvPr id="189" name=""/>
              <p:cNvSpPr/>
              <p:nvPr/>
            </p:nvSpPr>
            <p:spPr>
              <a:xfrm>
                <a:off x="2743200" y="2057400"/>
                <a:ext cx="37958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43200" y="2057400"/>
                <a:ext cx="37958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2743200" y="2057400"/>
            <a:ext cx="5537160" cy="360"/>
            <a:chOff x="2743200" y="2057400"/>
            <a:chExt cx="5537160" cy="360"/>
          </a:xfrm>
        </p:grpSpPr>
        <p:sp>
          <p:nvSpPr>
            <p:cNvPr id="192" name=""/>
            <p:cNvSpPr/>
            <p:nvPr/>
          </p:nvSpPr>
          <p:spPr>
            <a:xfrm>
              <a:off x="2743200" y="205740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743200" y="2057400"/>
              <a:ext cx="3795840" cy="360"/>
              <a:chOff x="2743200" y="2057400"/>
              <a:chExt cx="3795840" cy="360"/>
            </a:xfrm>
          </p:grpSpPr>
          <p:sp>
            <p:nvSpPr>
              <p:cNvPr id="194" name=""/>
              <p:cNvSpPr/>
              <p:nvPr/>
            </p:nvSpPr>
            <p:spPr>
              <a:xfrm>
                <a:off x="2743200" y="2057400"/>
                <a:ext cx="37958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43200" y="2057400"/>
                <a:ext cx="37958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2096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316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4419720"/>
            <a:ext cx="3047760" cy="198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D66-A15C-40D9-A745-42F1518288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ications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ducation &amp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ing simulators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simulators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simulators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nk simulators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272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35280" y="1901880"/>
            <a:ext cx="6697440" cy="3054240"/>
            <a:chOff x="1835280" y="1901880"/>
            <a:chExt cx="6697440" cy="3054240"/>
          </a:xfrm>
        </p:grpSpPr>
        <p:sp>
          <p:nvSpPr>
            <p:cNvPr id="203" name=""/>
            <p:cNvSpPr/>
            <p:nvPr/>
          </p:nvSpPr>
          <p:spPr>
            <a:xfrm>
              <a:off x="1835280" y="1901880"/>
              <a:ext cx="6697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835280" y="1901880"/>
              <a:ext cx="5536800" cy="3054240"/>
              <a:chOff x="1835280" y="1901880"/>
              <a:chExt cx="5536800" cy="3054240"/>
            </a:xfrm>
          </p:grpSpPr>
          <p:sp>
            <p:nvSpPr>
              <p:cNvPr id="205" name=""/>
              <p:cNvSpPr/>
              <p:nvPr/>
            </p:nvSpPr>
            <p:spPr>
              <a:xfrm>
                <a:off x="1835280" y="1901880"/>
                <a:ext cx="5536800" cy="30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35280" y="1901880"/>
                <a:ext cx="5536800" cy="30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61272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835280" y="1901880"/>
            <a:ext cx="6697440" cy="3054240"/>
            <a:chOff x="1835280" y="1901880"/>
            <a:chExt cx="6697440" cy="3054240"/>
          </a:xfrm>
        </p:grpSpPr>
        <p:sp>
          <p:nvSpPr>
            <p:cNvPr id="209" name=""/>
            <p:cNvSpPr/>
            <p:nvPr/>
          </p:nvSpPr>
          <p:spPr>
            <a:xfrm>
              <a:off x="1835280" y="1901880"/>
              <a:ext cx="6697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835280" y="1901880"/>
              <a:ext cx="5536800" cy="3054240"/>
              <a:chOff x="1835280" y="1901880"/>
              <a:chExt cx="5536800" cy="3054240"/>
            </a:xfrm>
          </p:grpSpPr>
          <p:sp>
            <p:nvSpPr>
              <p:cNvPr id="211" name=""/>
              <p:cNvSpPr/>
              <p:nvPr/>
            </p:nvSpPr>
            <p:spPr>
              <a:xfrm>
                <a:off x="1835280" y="1901880"/>
                <a:ext cx="5536800" cy="30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5280" y="1901880"/>
                <a:ext cx="5536800" cy="30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13" name=""/>
          <p:cNvGraphicFramePr/>
          <p:nvPr/>
        </p:nvGraphicFramePr>
        <p:xfrm>
          <a:off x="5334120" y="4038480"/>
          <a:ext cx="304776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038480"/>
                    <a:ext cx="30477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5334120" y="1981080"/>
          <a:ext cx="30477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981080"/>
                    <a:ext cx="30477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77D-554B-4DA3-BFA3-E866A32601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ffcc66"/>
                </a:solidFill>
                <a:latin typeface="Arial"/>
              </a:rPr>
              <a:t>Current problems &amp; </a:t>
            </a:r>
            <a:r>
              <a:rPr b="0" lang="en-US" sz="3900" spc="-1" strike="noStrike">
                <a:solidFill>
                  <a:srgbClr val="ffcc66"/>
                </a:solidFill>
                <a:latin typeface="Arial"/>
              </a:rPr>
              <a:t>Future </a:t>
            </a:r>
            <a:r>
              <a:rPr b="0" lang="en-CA" sz="3900" spc="-1" strike="noStrike">
                <a:solidFill>
                  <a:srgbClr val="ffcc66"/>
                </a:solidFill>
                <a:latin typeface="Arial"/>
              </a:rPr>
              <a:t>work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ybersickness / simulator sicknes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Low-fidelit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Expensiv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Lack of integration between application packag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gh-fidelity syste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st-sav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llaborativ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gh-level contact between participants in distributed V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9B9-4679-4899-A96D-89B8B52910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Virtual Reality(VR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rtual Reality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fers to  a high-end user interf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al-time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mulation and interactions through multiple sensorial chann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00800" y="304920"/>
          <a:ext cx="2438280" cy="19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04920"/>
                    <a:ext cx="2438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A2A-74BB-409D-B9C7-CFE2C2383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ation of complicated, large data is helpful for understanding and analysi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R offers us a new way to interact with compute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R enables us to experience the virtual world that is impossible in real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R is changing our life, eventually VR will increasingly become a part of our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E35-57E0-4D6D-9AFA-FD8471E0B2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[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1] </a:t>
            </a:r>
            <a:r>
              <a:rPr b="0" i="1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What is Virtual Reality?,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1"/>
              </a:rPr>
              <a:t>http://vr.isdale.com/WhatIsVR/frames/WhatIsVR4.1.html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[2] </a:t>
            </a:r>
            <a:r>
              <a:rPr b="0" i="1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Augumented and Mixed Reality,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http://www.mic.atr.co.jp/~poup/research/ar/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[3] </a:t>
            </a:r>
            <a:r>
              <a:rPr b="0" i="1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Virtual Reality Applications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3"/>
              </a:rPr>
              <a:t>http://vresources.jump-gate.com/applications/applications.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4"/>
              </a:rPr>
              <a:t>shtm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[4] 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K.-P. Bei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r>
              <a:rPr b="0" i="1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Virtual Reality: A short Introduc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5"/>
              </a:rPr>
              <a:t>http://www-vrl.umich.edu/intro/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  <a:ea typeface="宋体"/>
              </a:rPr>
              <a:t>[5] Franchi,J. Vertual Reality: An Overview. ERIC Digest, June 199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750-6044-432C-997E-76B5199E5E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ents &amp; 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4A4-4955-4D0C-B6C2-11DC91454B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(</a:t>
            </a:r>
            <a:r>
              <a:rPr b="0" lang="en-CA" sz="4400" spc="-1" strike="noStrike">
                <a:solidFill>
                  <a:srgbClr val="ffcc66"/>
                </a:solidFill>
                <a:latin typeface="Arial"/>
                <a:ea typeface="宋体"/>
              </a:rPr>
              <a:t>C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宋体"/>
              </a:rPr>
              <a:t>ont’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V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 is able to immerse you in a computer-generated world of your own making: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om, a city, the interior of human body. With VR, you can explore any uncharted territory of the human imagination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BBB-8EDB-4A2F-8A0A-F57E8D69AF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ief Hi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50s, flight simulators were built by US Air Force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in student pil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65, a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sear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for computer graphic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“The Ultimate Display”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ai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88, commercial development of VR beg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91, first commercial entertainment VR syst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Virtuality"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relea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A90-35D7-408F-A599-F7AECD864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ypes of VR Syste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 on World(WoW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Also called Desktop V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ffffff"/>
                </a:solidFill>
                <a:latin typeface="Arial"/>
              </a:rPr>
              <a:t>Using a conventional computer monitor to display the 3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 virtual world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rsive 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mpletely immerse the user's personal viewpoint inside the virtual 3D world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The user has no visual contact with the physical word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fte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equipped with a Head Mounted Display (HMD)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3BA-5210-41D7-B652-3FC7605F7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ypes of VR System(Cont’d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lepres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A variation of visualizing complete computer generated world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nks remote sensors in the real world with the senses of a human operator. The remote sensors might be located on a robot.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seful for performing operations in 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us environment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206-1C40-48CD-BEC4-1AD8B19109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ypes of VR System(Cont’d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ed Reality(Augment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a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The seamless merging of real space and virtual spac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tegrat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 the c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mputer-generated virtual objects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into the physical world which become in a sense an equal part of our natural environment</a:t>
            </a:r>
            <a:r>
              <a:rPr b="0" lang="en-CA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 simulated world runs on several computers which are connected over network and the people are able to interact in real time, sharing the same virtual world.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A1D-1964-4056-835B-4F22ADE7C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R Examples</a:t>
            </a:r>
            <a:r>
              <a:rPr b="0" lang="en-CA" sz="4000" spc="-1" strike="noStrike">
                <a:solidFill>
                  <a:srgbClr val="ffcc66"/>
                </a:solidFill>
                <a:latin typeface="Arial"/>
              </a:rPr>
              <a:t> (Cont’d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presence 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50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508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6553080" cy="41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2E7-4727-4A49-96A7-0C83725FA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shai Aggarwal</cp:lastModifiedBy>
  <dcterms:modified xsi:type="dcterms:W3CDTF">2004-03-14T21:39:09Z</dcterms:modified>
  <cp:revision>105</cp:revision>
  <dc:subject/>
  <dc:title>PowerPoint Presentation</dc:title>
</cp:coreProperties>
</file>