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09B-33F2-41A8-BEC1-44DE7D5F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B87-4F3A-46BD-A5A9-4C6AE730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707-9CE7-4081-84F9-17F3B6D5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BAA-7C00-4F27-8231-6907B51A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8759-76C6-4ED2-8BB7-AF9A71E4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96AB-6938-403C-8F40-34B43F4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F25-1E06-49F1-85F0-4B4C217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467A-80D0-4CA9-8E40-2C1763A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7760-0B3D-44C8-9F98-C68E54D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EB6C-4832-4962-BF5D-5C1C852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546-AF58-4EE4-9A2F-DAEBFEFC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B0C-FE64-4B44-813D-C7BA317C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4ADE-6379-4F4D-A2AE-7DDFE2E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862E-7400-4E6B-ADF6-0DAFDC6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20F0-B1FC-4821-A482-6460C1C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D477-6CE9-4A24-8DBC-7B10544B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7BBB-4A26-4EF1-958A-E5095F90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DF1-BAEF-4DDE-AD4A-B144AB2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CDB-10BA-46FE-8611-BD80C82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9C6-868E-4958-9EB5-415AD14D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337-362A-47DC-B481-8A5AFB34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ECB-FD1B-4581-9273-27C6FC8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357-146B-4579-97BA-E267220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8FD-F54D-4ECF-802D-6967E85E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39D-E04F-46A7-B901-DA9897286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3CF4-E372-4722-BE2D-A149EDA3BC1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search.networkworld.com/demo08/query.html?qt=totel+immersion&amp;col=demo08&amp;searchButton=Go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hyperlink" Target="http://search.networkworld.com/demo08/query.html?qt=totel+immersion&amp;col=demo08&amp;searchButton=Go" TargetMode="Externa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hyperlink" Target="http://search.networkworld.com/demo08/query.html?qt=totel+immersion&amp;col=demo08&amp;searchButton=Go" TargetMode="Externa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Augmented Reality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Bobby Phimmasane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What is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6095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gmented rea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is a field of computer research which deals with the combination of real-world and computer-generated data. At present, most AR research is concerned with the use of live video imagery which is digitally processed and "augmented" by the addition of computer-generated graphics. Advanced research includes the use of motion-tracking data, fiducial marker recognition using machine vision, and the construction of controlled environments containing any number of sensors and actuators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What are benefits of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0492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bines real-world environments and virtual 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-world environments can interact with virtual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rtual objects will respond to real-world physical  a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90920" y="5791320"/>
            <a:ext cx="56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find Video Demonstrations of Augmented 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1584d"/>
                </a:solidFill>
                <a:uFillTx/>
                <a:latin typeface="Times New Roman"/>
                <a:hlinkClick r:id="rId3"/>
              </a:rPr>
              <a:t>Click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What are benefits of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0492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active in real-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 tim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can be generated in real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38480" y="1371600"/>
            <a:ext cx="3276720" cy="2443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90920" y="5791320"/>
            <a:ext cx="56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find Video Demonstrations of Augmented 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1584d"/>
                </a:solidFill>
                <a:uFillTx/>
                <a:latin typeface="Times New Roman"/>
                <a:hlinkClick r:id="rId3"/>
              </a:rPr>
              <a:t>Click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What are benefits of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92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ered in three dimens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ry is in 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phics and Models are created by Desig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67080" y="1454040"/>
            <a:ext cx="3353040" cy="2351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90920" y="5791320"/>
            <a:ext cx="56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find Video Demonstrations of Augmented Re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1584d"/>
                </a:solidFill>
                <a:uFillTx/>
                <a:latin typeface="Times New Roman"/>
                <a:hlinkClick r:id="rId3"/>
              </a:rPr>
              <a:t>Click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What are uses of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04920"/>
            <a:ext cx="6095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deo Ga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 interactions with 3D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w be more inter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will be able to watch TV in 3D any w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me P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des can now be even more real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iving, Flying, Etc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2840" y="4114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c5b5"/>
                </a:solidFill>
                <a:latin typeface="Verdana"/>
              </a:rPr>
              <a:t>Limitations of Augmented Reality?</a:t>
            </a:r>
            <a:endParaRPr b="0" lang="en-US" sz="36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04920"/>
            <a:ext cx="609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ming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mer must be able to write code based on physical input and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ly you can only partner or license with companies like Total Imm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der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esearch is still under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ph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including more detailed graphics, processing can be more int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8:22:52Z</dcterms:created>
  <dc:creator>Administrator</dc:creator>
  <dc:description/>
  <cp:keywords/>
  <dc:language>en-US</dc:language>
  <cp:lastModifiedBy>Administrator</cp:lastModifiedBy>
  <dcterms:modified xsi:type="dcterms:W3CDTF">2008-03-17T20:06:58Z</dcterms:modified>
  <cp:revision>30</cp:revision>
  <dc:subject/>
  <dc:title>Augmented Re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33</vt:lpwstr>
  </property>
</Properties>
</file>