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81D9D-CC78-42EE-8627-F03C6197E6A6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5C2A0-02EC-45A1-AC11-F4CE18FBE11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0F92-05CD-4E51-B769-32EFAFD8D8E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D61BC-D3F6-4728-BE07-C30173B2078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87502-83C3-4BD0-A8C7-08CA478812C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5E2DB-7898-4FDB-9F10-F411E3015DC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2637F-E2B9-46B2-9561-80E99A70B16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DB7A3-EF1B-4CBA-9E89-DC01826F4DB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D7421-B442-4B5F-8072-77EEE869F66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5323A-A9FF-4011-B1AD-944620F0E57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0CA5-80C4-4F26-AA67-3F443726084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99A8F-B761-4CC9-BBD9-8F71244653D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1244-6AF6-4A5E-B3F9-238FC0F306D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E3EE7-EA22-4910-9368-57CCF47931D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486C3-5A3B-4F8C-97FA-2DA08D1CBB35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0C46-E0A5-461A-A75D-E9BD76239974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223E8-6536-480C-B920-A7D0E14247B9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8080B-0A31-4224-9104-9DB5755E767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17457-B8E1-4894-9AD4-10A413E5017F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C9904-1275-4FB5-A315-DF90B4551DE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73F93-19AA-4624-9196-DAD7F432E70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982AC-04B5-46DB-8CE0-C029F370FE7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57A54-289B-46BA-8108-4DF910CAAFE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0C88-BBA4-4AA5-91E3-AC4F99D41908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99D8-92D7-4DB3-A4A7-04B5E9B35182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40F39-E530-4E49-A9B0-8DB83521AE0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CC70C-ACD7-424C-97B6-C85721919B2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CC3D2-17AC-4B10-8BF1-102334AC3440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BECE5-3815-4BB2-BF76-053525A22401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9514-64D5-4D4C-9481-900ACE0C2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7507-2BD0-43BB-A8ED-B5808C374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760-531D-4F1E-9022-27F028885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4227-EA02-4DDE-8B55-8723BEDD4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2596-30A8-4E1D-97F1-747B3FAAE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78F5-FBEF-43CB-9219-12E947618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1EB2-49A3-427D-AC90-CEA34710A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9042-4EB1-4A97-89E0-42834E773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EB18-C516-4421-B58E-F1D7B0508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38EC-5007-4652-9065-096ABD877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0165-E0A8-44F1-A753-4889C1F0E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AAFD-47CB-4699-B797-71738F921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i-FI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0FF0-EFC5-481A-9EC6-CB1B20327DD2}" type="slidenum">
              <a:rPr b="0" lang="fi-FI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eveloper.apple.com/library/io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developer.apple.com/programs/ios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77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7200" spc="-1" strike="noStrike">
                <a:solidFill>
                  <a:srgbClr val="000000"/>
                </a:solidFill>
                <a:latin typeface="Arial"/>
              </a:rPr>
              <a:t>LAMA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573360"/>
            <a:ext cx="64008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Arial"/>
              </a:rPr>
              <a:t>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25.03.20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82560"/>
            <a:ext cx="7772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S debug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79640" y="2990880"/>
            <a:ext cx="901440" cy="1341360"/>
            <a:chOff x="1079640" y="2990880"/>
            <a:chExt cx="901440" cy="1341360"/>
          </a:xfrm>
        </p:grpSpPr>
        <p:grpSp>
          <p:nvGrpSpPr>
            <p:cNvPr id="108" name=""/>
            <p:cNvGrpSpPr/>
            <p:nvPr/>
          </p:nvGrpSpPr>
          <p:grpSpPr>
            <a:xfrm>
              <a:off x="1084320" y="2990880"/>
              <a:ext cx="866880" cy="892080"/>
              <a:chOff x="1084320" y="2990880"/>
              <a:chExt cx="866880" cy="8920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4320" y="2990880"/>
                <a:ext cx="866880" cy="89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300000">
                <a:off x="1549080" y="3246120"/>
                <a:ext cx="3301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079640" y="4002120"/>
              <a:ext cx="901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325600" y="2484360"/>
            <a:ext cx="5962680" cy="927000"/>
            <a:chOff x="2325600" y="2484360"/>
            <a:chExt cx="5962680" cy="9270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325600" y="2963880"/>
              <a:ext cx="709560" cy="3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3722760" y="2484360"/>
              <a:ext cx="873000" cy="927000"/>
              <a:chOff x="3722760" y="2484360"/>
              <a:chExt cx="873000" cy="9270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22760" y="2484360"/>
                <a:ext cx="873000" cy="92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300000">
                <a:off x="4188960" y="2751120"/>
                <a:ext cx="33192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381640" y="2738520"/>
              <a:ext cx="29066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ulato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oes not requ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developer progr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145040" y="2654280"/>
              <a:ext cx="43956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2286000" y="3414600"/>
            <a:ext cx="5952240" cy="1793880"/>
            <a:chOff x="2286000" y="3414600"/>
            <a:chExt cx="5952240" cy="1793880"/>
          </a:xfrm>
        </p:grpSpPr>
        <p:sp>
          <p:nvSpPr>
            <p:cNvPr id="120" name=""/>
            <p:cNvSpPr/>
            <p:nvPr/>
          </p:nvSpPr>
          <p:spPr>
            <a:xfrm>
              <a:off x="3639960" y="4430880"/>
              <a:ext cx="893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646440" y="3414600"/>
              <a:ext cx="1487160" cy="1258920"/>
              <a:chOff x="3646440" y="3414600"/>
              <a:chExt cx="1487160" cy="1258920"/>
            </a:xfrm>
          </p:grpSpPr>
          <p:cxnSp>
            <p:nvCxnSpPr>
              <p:cNvPr id="122" name=""/>
              <p:cNvCxnSpPr/>
              <p:nvPr/>
            </p:nvCxnSpPr>
            <p:spPr>
              <a:xfrm>
                <a:off x="4343040" y="4248000"/>
                <a:ext cx="564120" cy="177120"/>
              </a:xfrm>
              <a:prstGeom prst="curvedConnector5">
                <a:avLst>
                  <a:gd name="adj1" fmla="val 50000"/>
                  <a:gd name="adj2" fmla="val 49898"/>
                  <a:gd name="adj3" fmla="val 50000"/>
                </a:avLst>
              </a:prstGeom>
              <a:ln cap="sq" w="38160">
                <a:solidFill>
                  <a:srgbClr val="000000"/>
                </a:solidFill>
                <a:miter/>
              </a:ln>
            </p:spPr>
          </p:cxnSp>
          <p:grpSp>
            <p:nvGrpSpPr>
              <p:cNvPr id="123" name=""/>
              <p:cNvGrpSpPr/>
              <p:nvPr/>
            </p:nvGrpSpPr>
            <p:grpSpPr>
              <a:xfrm>
                <a:off x="3646440" y="3414600"/>
                <a:ext cx="1487160" cy="1258920"/>
                <a:chOff x="3646440" y="3414600"/>
                <a:chExt cx="1487160" cy="1258920"/>
              </a:xfrm>
            </p:grpSpPr>
            <p:pic>
              <p:nvPicPr>
                <p:cNvPr id="1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46440" y="3414600"/>
                  <a:ext cx="873720" cy="89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300000">
                  <a:off x="4113360" y="3670200"/>
                  <a:ext cx="331560" cy="37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ts val="1074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10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ts val="1074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10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777920" y="4143240"/>
                  <a:ext cx="35568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2286000" y="3600360"/>
              <a:ext cx="70956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5333040" y="3814920"/>
              <a:ext cx="2905200" cy="1393560"/>
              <a:chOff x="5333040" y="3814920"/>
              <a:chExt cx="2905200" cy="1393560"/>
            </a:xfrm>
          </p:grpSpPr>
          <p:sp>
            <p:nvSpPr>
              <p:cNvPr id="129" name=""/>
              <p:cNvSpPr/>
              <p:nvPr/>
            </p:nvSpPr>
            <p:spPr>
              <a:xfrm>
                <a:off x="5333040" y="3814920"/>
                <a:ext cx="2905200" cy="69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evic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requires a Develope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visioning Profile – 99$/yea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34840" y="4437000"/>
                <a:ext cx="622440" cy="77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1120" y="68256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 Store / Marketplace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6280" y="2805120"/>
          <a:ext cx="7943760" cy="2727360"/>
        </p:xfrm>
        <a:graphic>
          <a:graphicData uri="http://schemas.openxmlformats.org/drawingml/2006/table">
            <a:tbl>
              <a:tblPr/>
              <a:tblGrid>
                <a:gridCol w="2800440"/>
                <a:gridCol w="1398600"/>
                <a:gridCol w="1778040"/>
                <a:gridCol w="1966680"/>
              </a:tblGrid>
              <a:tr h="70308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Andro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Arial Unicode MS"/>
                        </a:rPr>
                        <a:t>Windows Ph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692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Approval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10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Distribution outside the st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528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Frag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Very Lit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8104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Multiple stores / Marketpla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 Unicode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268280"/>
            <a:ext cx="8785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-C is an object oriented langu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s ANSI C style coding with methods from Smalltalk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because almost everything is done at runtim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Ty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used for both iOS and Mac OS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file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eader file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oco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like interfaces in Java they specify a number of methods a class must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Objective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63600" y="1197000"/>
            <a:ext cx="87804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every object manipulation is done by sending objects a mes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words within a set of brackets, the object identifier and the message to sen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.</a:t>
            </a:r>
            <a:r>
              <a:rPr b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Lab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2e0d6e"/>
                </a:solidFill>
                <a:latin typeface="Courier New"/>
                <a:ea typeface="Courier New"/>
              </a:rPr>
              <a:t>setT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[</a:t>
            </a: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TextInp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5c2699"/>
                </a:solidFill>
                <a:latin typeface="Courier New"/>
                <a:ea typeface="Courier New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Dot syntax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.</a:t>
            </a:r>
            <a:r>
              <a:rPr b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Label.</a:t>
            </a:r>
            <a:r>
              <a:rPr b="1" lang="en-US" sz="2000" spc="-1" strike="noStrike">
                <a:solidFill>
                  <a:srgbClr val="2e0d6e"/>
                </a:solidFill>
                <a:latin typeface="Courier New"/>
                <a:ea typeface="Courier New"/>
              </a:rPr>
              <a:t>tex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TextInp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2000" spc="-1" strike="noStrike">
                <a:solidFill>
                  <a:srgbClr val="5c2699"/>
                </a:solidFill>
                <a:latin typeface="Courier New"/>
                <a:ea typeface="Courier New"/>
              </a:rPr>
              <a:t>tex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C++ or Java’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this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i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Labe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i="1" lang="en-US" sz="2000" spc="-1" strike="noStrike">
                <a:solidFill>
                  <a:srgbClr val="2e0d6e"/>
                </a:solidFill>
                <a:latin typeface="Courier New"/>
                <a:ea typeface="Courier New"/>
              </a:rPr>
              <a:t>setTex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i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this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i="1" lang="en-US" sz="20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TextInpu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i="1" lang="en-US" sz="2000" spc="-1" strike="noStrike">
                <a:solidFill>
                  <a:srgbClr val="2e0d6e"/>
                </a:solidFill>
                <a:latin typeface="Courier New"/>
                <a:ea typeface="Courier New"/>
              </a:rPr>
              <a:t>tex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methods start with +, instance methods with -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(</a:t>
            </a: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defaultControll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(</a:t>
            </a:r>
            <a:r>
              <a:rPr b="1" lang="en-US" sz="20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initLocationManag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2160" y="1600200"/>
            <a:ext cx="8943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libraries developed by Apple to aid GUI development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et of predefined classes and types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S stand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-sun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oot cla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keywords lik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Human Interface Guidelines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eveloper.apple.com/library/ios/#documentation/UserExperience/Conceptual/MobileHIG/Introduction/Introduction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Cocoa AP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1600200"/>
            <a:ext cx="87138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are created dynamically us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o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are automatically deallocated in latest Objective-C throug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matic reference counting (ARC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keeps an internal count of how many times an Object is 'needed'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makes sure that objects that are needed are not deleted, and when an object is not needed it is del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30320"/>
            <a:ext cx="74674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++ vs. Objective-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9280" y="1700280"/>
          <a:ext cx="8713800" cy="4259160"/>
        </p:xfrm>
        <a:graphic>
          <a:graphicData uri="http://schemas.openxmlformats.org/drawingml/2006/table">
            <a:tbl>
              <a:tblPr/>
              <a:tblGrid>
                <a:gridCol w="4356360"/>
                <a:gridCol w="4357440"/>
              </a:tblGrid>
              <a:tr h="5587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+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 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0964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s OOP, metaprogramming and generic programming to 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adds OOP to 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637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s with a std librar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no standard library; is dependant on other librari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633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numerous us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used for application build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637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and complex code for OO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r way of handling classes and objec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170028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lo world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413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Change a label’s text using a button and an input box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empty proj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0388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5878440" cy="3960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the project and check “Use Core Data” and “User Automatic Reference Count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70028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latform and SD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the project and also create local git repository for sourc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468792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eate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storyboar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ty storyboard will be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135240" y="2801880"/>
            <a:ext cx="5829480" cy="394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33352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eating main sc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on the story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avigation controller from the storyboard designer by drag and dr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300640" cy="208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42040" y="3645000"/>
            <a:ext cx="3693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lete default sc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68280"/>
            <a:ext cx="82281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ete the default Table View Controller and add your ow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Controll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drag and 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click from the navigation controller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ch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 view controll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616720" cy="3546360"/>
          </a:xfrm>
          <a:prstGeom prst="rect">
            <a:avLst/>
          </a:prstGeom>
          <a:ln w="0">
            <a:noFill/>
          </a:ln>
        </p:spPr>
      </p:pic>
      <p:cxnSp>
        <p:nvCxnSpPr>
          <p:cNvPr id="164" name=""/>
          <p:cNvCxnSpPr/>
          <p:nvPr/>
        </p:nvCxnSpPr>
        <p:spPr>
          <a:xfrm flipV="1">
            <a:off x="3634920" y="4682520"/>
            <a:ext cx="1802520" cy="7380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 items to sc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items to screen by using drag and drop: label, button and text 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5032440" cy="3789360"/>
          </a:xfrm>
          <a:prstGeom prst="rect">
            <a:avLst/>
          </a:prstGeom>
          <a:ln w="0">
            <a:noFill/>
          </a:ln>
        </p:spPr>
      </p:pic>
      <p:cxnSp>
        <p:nvCxnSpPr>
          <p:cNvPr id="168" name=""/>
          <p:cNvCxnSpPr/>
          <p:nvPr/>
        </p:nvCxnSpPr>
        <p:spPr>
          <a:xfrm flipH="1" flipV="1">
            <a:off x="1476000" y="4436280"/>
            <a:ext cx="2375280" cy="136908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56360" y="4162320"/>
            <a:ext cx="2352600" cy="1714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64000" y="2637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“Use Autolayout” from View Controller properties if you want application to work in iOS 5 and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5640" y="5013360"/>
            <a:ext cx="1225440" cy="216000"/>
          </a:xfrm>
          <a:prstGeom prst="ellipse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673280" cy="2665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eate a class for the scre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4624560" cy="3122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680000" y="3716280"/>
            <a:ext cx="4429080" cy="302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52840" y="292428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s should subclass UiView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5580000" y="3284640"/>
            <a:ext cx="1008720" cy="180072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nect your class to the story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524320" cy="971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885760" cy="742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55640" y="4003560"/>
            <a:ext cx="7010280" cy="2854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3120" y="1835280"/>
            <a:ext cx="60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View Controller in the storyboard to be you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83560" y="26370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ssistant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120" y="3500280"/>
            <a:ext cx="741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nd drop interface objects to you class h file to create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>
            <a:off x="1763640" y="5516280"/>
            <a:ext cx="3169440" cy="21672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 an action to the but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70040"/>
            <a:ext cx="440208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ght click on the butt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hoose “Touch Up Inside” and drag and drop to the h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ame the method that will be executed when button is touch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28739" t="17239" r="23226" b="8423"/>
          <a:stretch/>
        </p:blipFill>
        <p:spPr>
          <a:xfrm>
            <a:off x="4788000" y="1989000"/>
            <a:ext cx="439236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d an action to the but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670040"/>
            <a:ext cx="829152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ame the method that will be executed when button is touch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24000" y="2905200"/>
            <a:ext cx="493236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4360" y="1700280"/>
            <a:ext cx="7200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file will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Courier New"/>
              </a:rPr>
              <a:t>#import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&lt;UIKit/UIKit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interf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ViewController :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UIView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tro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BOutle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UIButt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mainButt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tro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BOutle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UIText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mainTextInpu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tro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BOutle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UILabe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mainLabe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BAc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changeLabel: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end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4797360"/>
            <a:ext cx="7343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label tex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BAc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changeLabel: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ender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Change the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Labe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setT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mainText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text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urce fi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6440" y="1365120"/>
            <a:ext cx="815004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3633" t="0" r="22050" b="0"/>
          <a:stretch/>
        </p:blipFill>
        <p:spPr>
          <a:xfrm>
            <a:off x="34920" y="2852640"/>
            <a:ext cx="1657440" cy="340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18904" t="4766" r="19678" b="4276"/>
          <a:stretch/>
        </p:blipFill>
        <p:spPr>
          <a:xfrm>
            <a:off x="1835280" y="2924280"/>
            <a:ext cx="2139840" cy="31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067280" y="3068640"/>
            <a:ext cx="5076720" cy="295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9760" y="61657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h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7560" y="6165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ad M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8680" y="60213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epare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1981080"/>
            <a:ext cx="6829200" cy="1952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8000" y="4443480"/>
            <a:ext cx="86407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application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UIAppli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application didFinishLaunchingWithOptions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NSDictio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launchOp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self.window = [[UIWindow alloc] initWithFrame:[[UIScreen mainScreen] bounds]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// Override point for customization after application launc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self.window.backgroundColor = [UIColor whiteColor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2a373d"/>
                </a:solidFill>
                <a:latin typeface="Courier New"/>
                <a:ea typeface="Courier New"/>
              </a:rPr>
              <a:t>[self.window makeKeyAndVisible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7720" y="407664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gray bold text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dFinishLaunchingWithO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7800" y="141300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the auto-generated AppDelegate file and include your own Ui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un the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5829480" cy="2305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0320" y="1341360"/>
            <a:ext cx="70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project properties and set your storyboard as Main Story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3753000" cy="72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2400" y="450864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run in sim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372360" y="1693800"/>
            <a:ext cx="273204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un the application on 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8960" y="134136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organ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809800"/>
            <a:ext cx="277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 with your developer 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be enroller in developer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phone to the 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vice to your provisioning por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2714760" cy="68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843280" y="2589120"/>
            <a:ext cx="6121440" cy="4268880"/>
          </a:xfrm>
          <a:prstGeom prst="rect">
            <a:avLst/>
          </a:prstGeom>
          <a:ln w="0">
            <a:noFill/>
          </a:ln>
        </p:spPr>
      </p:pic>
      <p:cxnSp>
        <p:nvCxnSpPr>
          <p:cNvPr id="211" name=""/>
          <p:cNvCxnSpPr>
            <a:stCxn id="208" idx="2"/>
          </p:cNvCxnSpPr>
          <p:nvPr/>
        </p:nvCxnSpPr>
        <p:spPr>
          <a:xfrm>
            <a:off x="1385640" y="5921280"/>
            <a:ext cx="2610360" cy="70524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70028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ps and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Include CoreLocation and MapK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827440" cy="31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3254400"/>
            <a:ext cx="2881440" cy="324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1484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your project properties, libraries and press to 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ocation and map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they are not added to your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Adding a Map 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871880" cy="4162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47640" y="162864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Map View to you main screen from the desig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splaying location on the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543040" cy="3962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2394000" cy="4664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4880" y="1436760"/>
            <a:ext cx="77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“Shows User Location” from Map View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"/>
          <p:cNvCxnSpPr/>
          <p:nvPr/>
        </p:nvCxnSpPr>
        <p:spPr>
          <a:xfrm flipH="1">
            <a:off x="2555280" y="1844280"/>
            <a:ext cx="1440360" cy="1369080"/>
          </a:xfrm>
          <a:prstGeom prst="straightConnector1">
            <a:avLst/>
          </a:prstGeom>
          <a:ln cap="sq" w="38160">
            <a:solidFill>
              <a:srgbClr val="d19049"/>
            </a:solidFill>
            <a:miter/>
            <a:tailEnd len="med" type="triangle" w="med"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520" y="1646280"/>
            <a:ext cx="896472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.h fi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Menlo-Regular"/>
              </a:rPr>
              <a:t>#import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Menlo-Regular"/>
              </a:rPr>
              <a:t>&lt;UIKit/UIKit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Menlo-Regular"/>
              </a:rPr>
              <a:t>#import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Menlo-Regular"/>
              </a:rPr>
              <a:t>&lt;MapKit/MapKit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interf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UEFPin :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NSObje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&lt;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Anno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assig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CLLocationCoordinate2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coordina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tro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NSStr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*tit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propert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nonatom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,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tro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NSStr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*subtit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-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initWithCoordinate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CLLocationCoordinate2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location andTitle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NSStr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*)aTit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m Fil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Menlo-Regular"/>
              </a:rPr>
              <a:t>#import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Menlo-Regular"/>
              </a:rPr>
              <a:t>"UEFPin.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implemen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UEFP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@synthe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title, subtitle, coordina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-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initWithCoordinate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CLLocationCoordinate2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location andTitle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NSStr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*)aTitle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ini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coordin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locati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aTit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how a pin on the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116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lass which implements </a:t>
            </a:r>
            <a:r>
              <a:rPr b="0" lang="en-US" sz="2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An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0920" y="1952640"/>
            <a:ext cx="89643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viewDidAppear: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)animated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viewDidAppea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animated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CLLocationCoordinate2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locati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locat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latit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Menlo-Regular"/>
              </a:rPr>
              <a:t>62.59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locat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longit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Menlo-Regular"/>
              </a:rPr>
              <a:t>29.7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CoordinateReg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regi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CoordinateSpa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sp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spa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latitudeDel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Menlo-Regular"/>
              </a:rPr>
              <a:t>0.0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spa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longitudeDel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Menlo-Regular"/>
              </a:rPr>
              <a:t>0.0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reg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spa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sp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reg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c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locatio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[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map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setDeleg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[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map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addAnno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[[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UEFP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allo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Menlo-Regular"/>
              </a:rPr>
              <a:t>initWithCoordin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location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Menlo-Regular"/>
              </a:rPr>
              <a:t>andTit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Menlo-Regular"/>
              </a:rPr>
              <a:t>@"Joensuu Science Park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[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map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setReg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region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animat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TRU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[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Menlo-Regular"/>
              </a:rPr>
              <a:t>map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regionThatFit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region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how a pin on the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16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view controll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enlo-Regular"/>
              </a:rPr>
              <a:t>viewDidApp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ate the pin and zoom t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560680"/>
            <a:ext cx="25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475080"/>
            <a:ext cx="338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region centered on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68920" y="5578560"/>
            <a:ext cx="3382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p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to th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4040" y="4843440"/>
            <a:ext cx="35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elf as map deleg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2560680"/>
            <a:ext cx="6835680" cy="59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- 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Annotation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*) mapView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Map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*)mapView viewForAnnotation: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&lt;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Anno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&gt;) annota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PinAnnotation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*annView=[[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PinAnnotationVi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allo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initWithAnno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annotation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reuseIdentifi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: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Menlo-Regular"/>
              </a:rPr>
              <a:t>@"MapPin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annView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pinCol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=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Menlo-Regular"/>
              </a:rPr>
              <a:t>MKPinAnnotationColorGre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annView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animatesDro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annView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Menlo-Regular"/>
              </a:rPr>
              <a:t>showsCallo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=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Menlo-Regular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Menlo-Regular"/>
              </a:rPr>
              <a:t> annView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how a pin on the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16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view controller implement </a:t>
            </a:r>
            <a:r>
              <a:rPr b="0" lang="en-US" sz="2400" spc="-1" strike="noStrike">
                <a:solidFill>
                  <a:srgbClr val="5c2699"/>
                </a:solidFill>
                <a:latin typeface="Courier New"/>
                <a:ea typeface="Menlo-Regular"/>
              </a:rPr>
              <a:t>MKAn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ocol and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enlo-Regular"/>
              </a:rPr>
              <a:t>viewForAnno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35680" y="1900080"/>
            <a:ext cx="2286000" cy="44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64160" y="2236680"/>
            <a:ext cx="4340160" cy="280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11800" y="51181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hare 2012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2852640"/>
            <a:ext cx="474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bile OS in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bile OS in 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bile OS in internet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3429000"/>
            <a:ext cx="867420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@interfa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Controller : </a:t>
            </a:r>
            <a:r>
              <a:rPr b="0" lang="en-US" sz="1600" spc="-1" strike="noStrike">
                <a:solidFill>
                  <a:srgbClr val="5c2699"/>
                </a:solidFill>
                <a:latin typeface="Courier New"/>
                <a:ea typeface="Courier New"/>
              </a:rPr>
              <a:t>NSObje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1" lang="en-US" sz="16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Deleg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7400"/>
                </a:solidFill>
                <a:latin typeface="Courier New"/>
                <a:ea typeface="Courier New"/>
              </a:rPr>
              <a:t>// Class members: Location manager and current location contai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@proper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nonatom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ret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6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*locationManag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@propert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nonatom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ret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0" lang="en-US" sz="16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*currentLocatio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defaultController; </a:t>
            </a:r>
            <a:r>
              <a:rPr b="0" lang="en-US" sz="1600" spc="-1" strike="noStrike">
                <a:solidFill>
                  <a:srgbClr val="007400"/>
                </a:solidFill>
                <a:latin typeface="Courier New"/>
                <a:ea typeface="Courier New"/>
              </a:rPr>
              <a:t>// Static singl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7400"/>
                </a:solidFill>
                <a:latin typeface="Courier New"/>
                <a:ea typeface="Courier New"/>
              </a:rPr>
              <a:t>// Init, start and stop Location 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initLocationManag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startLocationManager:(</a:t>
            </a:r>
            <a:r>
              <a:rPr b="0" lang="en-US" sz="16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Accurac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accurac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stopLocationManag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aa0d91"/>
                </a:solidFill>
                <a:latin typeface="Courier New"/>
                <a:ea typeface="Courier New"/>
              </a:rPr>
              <a:t>@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andling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134136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lass which implements </a:t>
            </a:r>
            <a:r>
              <a:rPr b="1" lang="en-US" sz="2400" spc="-1" strike="noStrike">
                <a:solidFill>
                  <a:srgbClr val="5c2699"/>
                </a:solidFill>
                <a:latin typeface="Menlo-Regular"/>
              </a:rPr>
              <a:t>CLLocationManagerDelegate</a:t>
            </a:r>
            <a:r>
              <a:rPr b="0" lang="en-US" sz="2400" spc="-1" strike="noStrike">
                <a:solidFill>
                  <a:srgbClr val="5c2699"/>
                </a:solidFill>
                <a:latin typeface="Menlo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and has a </a:t>
            </a:r>
            <a:r>
              <a:rPr b="1" lang="en-US" sz="2400" spc="-1" strike="noStrike">
                <a:solidFill>
                  <a:srgbClr val="5c2699"/>
                </a:solidFill>
                <a:latin typeface="Menlo-Regular"/>
              </a:rPr>
              <a:t>CLLocation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f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1160640"/>
            <a:ext cx="896436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Courier New"/>
              </a:rPr>
              <a:t>#import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"LocationController.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implement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synthes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tionManager, currentLocation;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Autogenerate getters and set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defaultController {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Static single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Contro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sharedController =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tat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dispatch_once_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nceToke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643820"/>
                </a:solidFill>
                <a:latin typeface="Courier New"/>
                <a:ea typeface="Courier New"/>
              </a:rPr>
              <a:t>dispatch_o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onceToken, ^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haredController = [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allo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ini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haredControll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init {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This will be called when instantiating 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u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ini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Courier New"/>
              </a:rPr>
              <a:t>init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Custom init co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dealloc {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Called when deleting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stopUpdating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Make sure all objects are nil so Automatic Reference Count will delete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Courier New"/>
              </a:rPr>
              <a:t>set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Courier New"/>
              </a:rPr>
              <a:t>setCurrent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andling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413000"/>
            <a:ext cx="9205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initLocationManager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[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allo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ini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deleg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send loc updates to mysel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current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[[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allo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initWithLatit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longit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start 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6474b"/>
                </a:solidFill>
                <a:latin typeface="Courier New"/>
                <a:ea typeface="Courier New"/>
              </a:rPr>
              <a:t>start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kCLLocationAccuracyBestForNavig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startLocationManager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Accurac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accurac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!=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ni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desiredAccurac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accurac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distanceFil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headingFil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Courier New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Start location upd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[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locationServicesEnabl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startUpdating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stopLocationManager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el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stopUpdating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andling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76640"/>
            <a:ext cx="9036000" cy="32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This is called when location is upd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locationManager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manager didUpdateToLocation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newLocation fromLocation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oldLo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NSD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eventDate = newLocat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timestam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NSTimeInter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howRecent = [eventDate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timeIntervalSinceNo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ab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owRecent) &lt; </a:t>
            </a:r>
            <a:r>
              <a:rPr b="0" lang="en-US" sz="1400" spc="-1" strike="noStrike">
                <a:solidFill>
                  <a:srgbClr val="1c00cf"/>
                </a:solidFill>
                <a:latin typeface="Courier New"/>
                <a:ea typeface="Courier New"/>
              </a:rPr>
              <a:t>60.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Location timestamp is within the last 60.0 seconds, let's use it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ewLocation.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horizontalAccurac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kMaxGpsAccurac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3f6e74"/>
                </a:solidFill>
                <a:latin typeface="Courier New"/>
                <a:ea typeface="Courier New"/>
              </a:rPr>
              <a:t>currentLoc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Location;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andling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268280"/>
            <a:ext cx="903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Error hand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(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locationManager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CLLocationManag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manager didFailWithError:(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NSErr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)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5c2699"/>
                </a:solidFill>
                <a:latin typeface="Courier New"/>
                <a:ea typeface="Courier New"/>
              </a:rPr>
              <a:t>NSStr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*errorString;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switc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[error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c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]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kCLErrorDeni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Access denied by u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tring =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@"Access to Location Services denied by user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break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kCLErrorLocationUnknow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Probably temporary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tring =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@"Location data unavailable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break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defaul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String = 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@"An unknown error has occurred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break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2e0d6e"/>
                </a:solidFill>
                <a:latin typeface="Courier New"/>
                <a:ea typeface="Courier New"/>
              </a:rPr>
              <a:t>NS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41a16"/>
                </a:solidFill>
                <a:latin typeface="Courier New"/>
                <a:ea typeface="Courier New"/>
              </a:rPr>
              <a:t>@"Error: %@“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errorString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a0d91"/>
                </a:solidFill>
                <a:latin typeface="Courier New"/>
                <a:ea typeface="Courier New"/>
              </a:rPr>
              <a:t>@end  </a:t>
            </a:r>
            <a:r>
              <a:rPr b="0" lang="en-US" sz="1400" spc="-1" strike="noStrike">
                <a:solidFill>
                  <a:srgbClr val="007400"/>
                </a:solidFill>
                <a:latin typeface="Courier New"/>
                <a:ea typeface="Courier New"/>
              </a:rPr>
              <a:t>// End of class imple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Handling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884240"/>
            <a:ext cx="843588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Highest revenue for mobile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Little fragmentation (just iPhone and iP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Runs on high-end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ig developer community and excell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Many open-source librarie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rictly controlled by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velopment only possible in Mac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bjective C is the main programm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iOS: Advantages and disadvant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463760"/>
            <a:ext cx="80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development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language that adds Smalltalk-style messaging to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54831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don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 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and running on phone done also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2368440"/>
            <a:ext cx="271476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Installing development k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741320"/>
            <a:ext cx="7488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Xcode IDE – newest version 4.6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Xcode automatically installs iOS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ode is free to download from Mac App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520" y="4487760"/>
            <a:ext cx="874224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Apple developer pr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34136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develop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develop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free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$/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done fro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eveloper.apple.com/programs/ios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process takes 3-5 day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1200" y="3270240"/>
            <a:ext cx="779148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82560"/>
            <a:ext cx="7772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S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5040" y="2806560"/>
            <a:ext cx="903240" cy="1675080"/>
            <a:chOff x="635040" y="2806560"/>
            <a:chExt cx="903240" cy="1675080"/>
          </a:xfrm>
        </p:grpSpPr>
        <p:grpSp>
          <p:nvGrpSpPr>
            <p:cNvPr id="79" name=""/>
            <p:cNvGrpSpPr/>
            <p:nvPr/>
          </p:nvGrpSpPr>
          <p:grpSpPr>
            <a:xfrm>
              <a:off x="641520" y="2806560"/>
              <a:ext cx="868320" cy="892440"/>
              <a:chOff x="641520" y="2806560"/>
              <a:chExt cx="868320" cy="89244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520" y="2806560"/>
                <a:ext cx="868320" cy="89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 rot="300000">
                <a:off x="1106280" y="3060720"/>
                <a:ext cx="33156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ts val="1074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635040" y="3994200"/>
              <a:ext cx="903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el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5400" y="4197240"/>
              <a:ext cx="696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No co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541520" y="2736720"/>
            <a:ext cx="2328840" cy="1770120"/>
            <a:chOff x="1541520" y="2736720"/>
            <a:chExt cx="2328840" cy="1770120"/>
          </a:xfrm>
        </p:grpSpPr>
        <p:sp>
          <p:nvSpPr>
            <p:cNvPr id="85" name=""/>
            <p:cNvSpPr/>
            <p:nvPr/>
          </p:nvSpPr>
          <p:spPr>
            <a:xfrm>
              <a:off x="2646360" y="3997440"/>
              <a:ext cx="887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11280" y="4222800"/>
              <a:ext cx="12765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Potential co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541520" y="3328920"/>
              <a:ext cx="704880" cy="3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2392200" y="2736720"/>
              <a:ext cx="1478160" cy="1258920"/>
              <a:chOff x="2392200" y="2736720"/>
              <a:chExt cx="1478160" cy="1258920"/>
            </a:xfrm>
          </p:grpSpPr>
          <p:cxnSp>
            <p:nvCxnSpPr>
              <p:cNvPr id="89" name=""/>
              <p:cNvCxnSpPr/>
              <p:nvPr/>
            </p:nvCxnSpPr>
            <p:spPr>
              <a:xfrm>
                <a:off x="3086280" y="3570120"/>
                <a:ext cx="560880" cy="177120"/>
              </a:xfrm>
              <a:prstGeom prst="curvedConnector5">
                <a:avLst>
                  <a:gd name="adj1" fmla="val 49967"/>
                  <a:gd name="adj2" fmla="val 49898"/>
                  <a:gd name="adj3" fmla="val 49967"/>
                </a:avLst>
              </a:prstGeom>
              <a:ln cap="sq" w="38160">
                <a:solidFill>
                  <a:srgbClr val="000000"/>
                </a:solidFill>
                <a:miter/>
              </a:ln>
            </p:spPr>
          </p:cxnSp>
          <p:grpSp>
            <p:nvGrpSpPr>
              <p:cNvPr id="90" name=""/>
              <p:cNvGrpSpPr/>
              <p:nvPr/>
            </p:nvGrpSpPr>
            <p:grpSpPr>
              <a:xfrm>
                <a:off x="2392200" y="2736720"/>
                <a:ext cx="1478160" cy="1258920"/>
                <a:chOff x="2392200" y="2736720"/>
                <a:chExt cx="1478160" cy="1258920"/>
              </a:xfrm>
            </p:grpSpPr>
            <p:pic>
              <p:nvPicPr>
                <p:cNvPr id="9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92200" y="2736720"/>
                  <a:ext cx="868680" cy="89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 rot="300000">
                  <a:off x="2857320" y="2990520"/>
                  <a:ext cx="330120" cy="37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ts val="1074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10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ts val="1074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10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16480" y="3465360"/>
                  <a:ext cx="35388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4" name=""/>
          <p:cNvGrpSpPr/>
          <p:nvPr/>
        </p:nvGrpSpPr>
        <p:grpSpPr>
          <a:xfrm>
            <a:off x="5889600" y="2954160"/>
            <a:ext cx="2641680" cy="1552680"/>
            <a:chOff x="5889600" y="2954160"/>
            <a:chExt cx="2641680" cy="1552680"/>
          </a:xfrm>
        </p:grpSpPr>
        <p:sp>
          <p:nvSpPr>
            <p:cNvPr id="95" name=""/>
            <p:cNvSpPr/>
            <p:nvPr/>
          </p:nvSpPr>
          <p:spPr>
            <a:xfrm>
              <a:off x="7203960" y="3998880"/>
              <a:ext cx="887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plo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32720" y="4222800"/>
              <a:ext cx="17985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Requires Develop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6754680" y="2954160"/>
              <a:ext cx="6750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7693200" y="2979720"/>
              <a:ext cx="6746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5889600" y="3328920"/>
              <a:ext cx="70488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037040" y="2736720"/>
            <a:ext cx="2405160" cy="1768680"/>
            <a:chOff x="4037040" y="2736720"/>
            <a:chExt cx="2405160" cy="1768680"/>
          </a:xfrm>
        </p:grpSpPr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4844880" y="2736720"/>
              <a:ext cx="8445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4037040" y="3328920"/>
              <a:ext cx="704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57720" y="3997440"/>
              <a:ext cx="887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88000" y="4221000"/>
              <a:ext cx="1654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Requires Develop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0"/>
            <a:stretch/>
          </p:blipFill>
          <p:spPr>
            <a:xfrm>
              <a:off x="5072040" y="3244680"/>
              <a:ext cx="35388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8:37:58Z</dcterms:created>
  <dc:creator>radum</dc:creator>
  <dc:description/>
  <dc:language>en-US</dc:language>
  <cp:lastModifiedBy>Mopsi</cp:lastModifiedBy>
  <dcterms:modified xsi:type="dcterms:W3CDTF">2013-03-25T10:03:01Z</dcterms:modified>
  <cp:revision>247</cp:revision>
  <dc:subject/>
  <dc:title>LAMAD</dc:title>
</cp:coreProperties>
</file>