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FE9-BEBE-4035-A53E-AFEA5590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AF9-E0DD-4B28-A386-C805AAB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4DD-BFF6-4CEE-BA71-012C76A5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BA9-5E7E-46A9-B3A2-F15483FC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592-465C-4109-8A63-19884F32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54A-090F-42DD-9DCA-FE09E810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6B5-D6D9-49F1-9566-3A252C2B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997-9E42-4035-808C-3728E4C7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322-2346-4A47-B2D1-3BAD32C1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EDF-1B2A-462B-95B6-6C700D6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62D-F9F7-488E-9FC5-13EF1656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4C0-0C68-4478-8B6D-A01914EB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6AFE-DA3B-4CDA-A0FC-F0C9FF2C9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Introduction To the Spring M.V.C.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From Websit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Kochanowi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pring_80x15"/>
          <p:cNvPicPr/>
          <p:nvPr/>
        </p:nvPicPr>
        <p:blipFill>
          <a:blip r:embed="rId1"/>
          <a:stretch/>
        </p:blipFill>
        <p:spPr>
          <a:xfrm>
            <a:off x="0" y="0"/>
            <a:ext cx="10159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s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mature as other frameworks (but very stab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share is small at this time, but rapidly g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cy-injection (Inversion-of-control) is a different way of thinking (This is actually a pl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-lot of tool support for Spring yet. A plug-in for Eclipse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who you 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is not jus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.V.C.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ce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also supports A JDBC Framework that makes it easier to create JDBC Ap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O/R mapping Frameworks making it easier to use O/R tools like Hibernate &amp; J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offe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nection Poo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y PO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ac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good support for aspect-oriented-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much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ependency-injection &amp; why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cy-injection (a type of IoC) is when you let your framework control your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links objects together instead of the objects linking themselve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object linking is defined in XML files, allowing easy changes for different application configurations thus working as a plug in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cy injection is where the control of the application is inverted to the framework. This control is configured in the framework with an XML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pendency-Injection/I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3276720" y="2057040"/>
            <a:ext cx="243828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3200400" y="3352680"/>
            <a:ext cx="25146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1828800" y="2209680"/>
            <a:ext cx="1523880" cy="1524240"/>
          </a:xfrm>
          <a:prstGeom prst="ellipse">
            <a:avLst/>
          </a:prstGeom>
          <a:solidFill>
            <a:srgbClr val="cc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5715000" y="1371600"/>
            <a:ext cx="1523880" cy="15238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5715000" y="3505320"/>
            <a:ext cx="1523880" cy="15238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809880" y="1712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809880" y="1905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809880" y="3886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990720" y="5715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bject creating its dependencies without IoC leads to tight object coup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00400" y="2438280"/>
            <a:ext cx="274320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V="1">
            <a:off x="3200400" y="3429000"/>
            <a:ext cx="274320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5943600" y="2438280"/>
            <a:ext cx="1523880" cy="1524240"/>
          </a:xfrm>
          <a:prstGeom prst="ellipse">
            <a:avLst/>
          </a:prstGeom>
          <a:solidFill>
            <a:srgbClr val="cc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1676520" y="1676520"/>
            <a:ext cx="1523880" cy="15238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676520" y="3733920"/>
            <a:ext cx="1523880" cy="15238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962520" y="209376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57200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B(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64832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(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990720" y="54100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 A contains setter methods that accept interfaces to objects B and C. This could have also been achieved with constructors in object A that accepts objects B and 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ependency-Injection/IoC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objects to be created at higher levels and passed into object so they can use the implementation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supports two types of dependency inj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setter-based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constructor based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Exampl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er based inj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name="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class="examples.spring.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email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y@email.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 beans are accessed by there “bean na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the above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ew Pers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.setEmail(“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y@email.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de creates a Person object and calls the setEmail() meth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ng in the string defined as a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or based 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s&gt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name="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ileData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 class="examples.spring.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ata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ton="true"&gt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nstructor-arg&gt;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f bean="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ileDataR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/&gt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constructor-arg&gt;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name="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leDataR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class="examples.spring.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leDataRe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singleton="true"&gt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nstructor-arg&gt;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alue&gt;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/data/file1.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alue&gt;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constructor-arg&gt;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the above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ileDataRea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fileDataReade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= new FileDataReader(“/data/file1.data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Process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fileDataProcess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= new DataProcessor(fileDataRea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3352680" y="297180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provides a JDBC Template that manages your connections for yo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** Simple example of connecting to a datasou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ductManagerDaoJdb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ProductManagerDa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tDataSource(DataSource d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ds = d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*** No need to change java code when changing datasource; change in ‘Spring bean’ XML file be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name=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class="com.mysql.jdbc.jdbc2.optional.MysqlDataSource" destroy-method="clos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url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alue&gt;jdbc:mysql://localhost/test&lt;/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id="prodManDao" class="d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ManagerDaoJd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f bean=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4419720" y="5257800"/>
            <a:ext cx="441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8839080" y="12949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>
            <a:off x="5638680" y="1295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982880" y="2514600"/>
            <a:ext cx="47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pring We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ing Web Controll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MVC architecture your controllers handle all reque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uses a ‘DispatcherServlet” defined in the web.xml file to analyze a request URL pattern and then pass control to the correct Controller by using a URL mapping defined in a “ Spring bean” XML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’ve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V.C.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se Spr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C (Inversion of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pring_80x15"/>
          <p:cNvPicPr/>
          <p:nvPr/>
        </p:nvPicPr>
        <p:blipFill>
          <a:blip r:embed="rId1"/>
          <a:stretch/>
        </p:blipFill>
        <p:spPr>
          <a:xfrm>
            <a:off x="0" y="0"/>
            <a:ext cx="10159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ing Web Containe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your Web Container, the Spring “bean” XML file exists in the same directory as yo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with a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ervlet.x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appended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tradingap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WEB-INF/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adingapp-servlet.xml, web.x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lib (all jar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patcher servlet is mapped to the name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ng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o it knows to look in the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ngapp-servlet.x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ile to look-up a URL-to- Controller m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V="1">
            <a:off x="1828800" y="2590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1828800" y="259092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5791320" y="25909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web.xml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ervlet-name&g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radinga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ervlet-class&g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ispatcherServl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ervlet-mappin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ervlet-name&g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radinga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url-pattern&gt;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*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url-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servlet-mappin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* Any URL ending with an “.htm” pattern is routed to the DispatcherServlet, the DispatcherServlet load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ngapp-servlet.xm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and routes the user to the correct control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H="1" flipV="1">
            <a:off x="2743200" y="3733560"/>
            <a:ext cx="12952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Demo Logon Form at UR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ocalhost/tradingapp/log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62120" y="1371600"/>
          <a:ext cx="7924680" cy="51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92468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ingapp-servlet.xml file a.k.a. Spring beans XML file is where the majority of your configuration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If working with the URL: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/logo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URL end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ispatcherServlet load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ngapp-servlet.x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to determine which controller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dingapp-servlet.xml file uses Springs SimpleUrlHandlerMapping class to map the URL to a controller, in this case the LogonForm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…what the tradingapp-servlet.xml looks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app-servlet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id="urlMapping"           class="org.springframework.SimpleUrlHandlerMapp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urlMa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a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ntry key="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/logon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ef bean="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logon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ntr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ma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id="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ogon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class="com.tradingapp.LogonFormControlle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sessionForm"&gt;&lt;value&gt;true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Name"&gt;&lt;value&gt;credentials&lt;/value&gt;&lt;/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Cla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alue&gt;com.tradingapp.Credentials&lt;/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validator"&gt;&lt;ref bean="logonValidator"/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formView"&gt;&lt;value&gt;logon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successView"&gt;&lt;value&gt;portfolio.htm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 flipH="1">
            <a:off x="1980720" y="2514600"/>
            <a:ext cx="16002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601440" y="2819520"/>
            <a:ext cx="5176440" cy="6426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lass extends Springs SimpleForm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defines a setSuccessView()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5791320" y="3505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6705720" y="3505320"/>
            <a:ext cx="20574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763120" y="4267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8305920" y="6172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447920" y="6324480"/>
            <a:ext cx="746748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passes “validator” then successView, passes to portfolio.htm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the process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goes to this URL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ttp://tradingapp/logo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URL ends with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h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ngapp-servlet.x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le is loaded to determine what controller to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&lt;bean name urlMapping …/&gt; says to refer to the &lt;bean id="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logon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class="com.tradingapp.LogonFormController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LogonFormController extends SimpleFormController we can use the methods defined in the SimpleFormController class to do all kinds of form checking, e.g. valid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ur LogonFormController Look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LogonFormController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extends SimpleFormContr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ModelAndView onSubmit(Object command) throws Servlet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new ModelAndView(new RedirectView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tSuccessView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emember our tradingapp-servler.xml f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id=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n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class="com.tradingapp.LogonFormControlle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sessionForm"&gt;&lt;value&gt;true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Name"&gt;&lt;value&gt;credentials&lt;/value&gt;&lt;/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Cla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alue&gt;com.tradingapp.Credentials&lt;/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validator"&gt;&lt;ref bean="logonValidator"/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formView"&gt;&lt;value&gt;logon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successView"&gt;&lt;value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folio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781680" y="1523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6781680" y="2286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8686800" y="228600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>
            <a:off x="3428640" y="64771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V="1">
            <a:off x="3429000" y="5410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V="1">
            <a:off x="5410080" y="54097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5410080" y="56386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965920" y="5554800"/>
            <a:ext cx="1577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019920" y="5486400"/>
            <a:ext cx="2057400" cy="642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validation errors, g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View /portfolio.h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0" y="1447920"/>
          <a:ext cx="8991720" cy="40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991720" cy="40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I go if there is a validation error in my logon p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radingapp-servler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id=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n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class="com.tradingapp.LogonFormControlle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sessionForm"&gt;&lt;value&gt;true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Name"&gt;&lt;value&gt;credentials&lt;/value&gt;&lt;/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Cla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alue&gt;com.tradingapp.Credentials&lt;/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validator"&gt;&lt;ref bean="logonValidator"/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formView"&gt;&lt;value&gt;logon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successView"&gt;&lt;value&gt;portfolio.htm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id="logonValidator" class="com.devx.tradingapp.web.LogonValidator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*** Your LogonFormController will check the validation “first” without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y additional code because your LogonFormController extends Springs SimpleFormContro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ext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LogonValidator implements Springs Validator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 flipV="1">
            <a:off x="5562720" y="2590920"/>
            <a:ext cx="0" cy="3045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5562720" y="2590920"/>
            <a:ext cx="31240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8686800" y="25909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 flipH="1">
            <a:off x="2437920" y="4114800"/>
            <a:ext cx="624852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2438280" y="4114800"/>
            <a:ext cx="0" cy="228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2286000" y="6095880"/>
            <a:ext cx="0" cy="152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2286000" y="6248520"/>
            <a:ext cx="655308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8839080" y="4571640"/>
            <a:ext cx="0" cy="167652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8229240" y="4572000"/>
            <a:ext cx="60948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80880" y="6324480"/>
            <a:ext cx="617220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rror go back to formView, that is where you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151920" y="6629400"/>
            <a:ext cx="2286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V="1">
            <a:off x="152280" y="3352680"/>
            <a:ext cx="0" cy="3276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52280" y="3352680"/>
            <a:ext cx="3049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on page with error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0" y="1281240"/>
          <a:ext cx="91440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1240"/>
                    <a:ext cx="91440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6"/>
          <p:cNvSpPr/>
          <p:nvPr/>
        </p:nvSpPr>
        <p:spPr>
          <a:xfrm>
            <a:off x="1219320" y="6400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xt: code for LogonValidator implements Springs Valid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e’ve b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based programming “The Servlet W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P or HTML For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to servle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vlet Processes data &amp; Output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ell for small applications but can quickly grow out of control because HTML, scrip-lets, java script, tag-libraries, database access, and business logic makes it difficult to organ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simply, lack of structure can cause a “soup” of different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P’s compile to Serv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code of vali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radingapp-servler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id=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n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class="com.tradingapp.LogonFormControlle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Name"&gt;&lt;value&gt;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redent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alue&gt;&lt;/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Cla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alue&gt;com.tradingapp.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redent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validator"&gt;&lt;ref bean=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nValid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/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formView"&gt;&lt;value&gt;logon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successView"&gt;&lt;value&gt;portfolio.htm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id="logonValidator" class="com.devx.tradingapp.we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nValid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ublic class LogonValidator implements Valida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ublic void validate(Object obj, Errors error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redentials credentials = (Credentials) obj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f (credentials.getPassword().equals("guest") == fals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rrors.rejectValue("password", "error.login.invalid-pas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ull, "Incorrect Password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xt: Command/Form Backing 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H="1">
            <a:off x="5409720" y="5105520"/>
            <a:ext cx="38124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5791320" y="4952880"/>
            <a:ext cx="3352680" cy="3049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/ form backing 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5486400" y="1676160"/>
            <a:ext cx="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5486400" y="1905120"/>
            <a:ext cx="28195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8305920" y="1905120"/>
            <a:ext cx="0" cy="30477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 flipH="1">
            <a:off x="1904760" y="4191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2057400" y="419112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/Form Backing Bean is a 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Credential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tr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tr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ring getPasswor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passw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setPassword(String passwor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password = passwo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ring getUsernam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user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setUsername(String user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username = usernam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600200" y="6095880"/>
            <a:ext cx="685800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xt: Why its called a “command” or “form backing be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/Form Backing Bean is a PO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n.htm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52280" y="1447920"/>
            <a:ext cx="3429000" cy="2209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808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905120" y="1752480"/>
            <a:ext cx="1447560" cy="40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81080" y="2971800"/>
            <a:ext cx="1447920" cy="40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419720" y="838080"/>
            <a:ext cx="4419360" cy="59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class Credentials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String user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String passwo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tring getPassword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passwo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setPassword(String password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.password = passwo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tring getUsernam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user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void setUsername(String usernam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.username = user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52280" y="3733920"/>
            <a:ext cx="3810240" cy="20142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on form is “backed” by the Credentials bean and give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and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“credentials” defined in out springapp-servlet.xml file. “credentials” will be our “command object” we will use to bind the form to the b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 flipV="1">
            <a:off x="3429000" y="12952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3505320" y="1828800"/>
            <a:ext cx="114300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28600" y="6019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xt: another look at springapp-servlet.xm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ringapp-servlet.xml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ean id=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n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class="com.tradingapp.LogonFormController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Name"&gt;&lt;value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dent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alue&gt;&lt;/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commandCla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value&gt;com.tradingapp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dent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validator"&gt;&lt;ref bean="logonValidator"/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formView"&gt;&lt;value&gt;logon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roperty name="successView"&gt;&lt;value&gt;portfolio.htm&lt;/value&gt;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bea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990720" y="4572000"/>
            <a:ext cx="6933960" cy="13737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commandName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with Spring’s tag library, to bind the Credentials bean to the logon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 flipH="1" flipV="1">
            <a:off x="6248160" y="2209680"/>
            <a:ext cx="2361960" cy="1067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8610480" y="3276720"/>
            <a:ext cx="0" cy="19047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7924320" y="5181480"/>
            <a:ext cx="6858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457200" y="6248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: Code that shows logon form binding to command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n form binding to commandName using Springs Tag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%@ taglib prefix="spring" uri="/spring" %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ead&gt;&lt;title&gt;DevX.com Stock-Trading System Logon&lt;/title&gt;&lt;/hea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spring:bind path="credentials.username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put type="text" name="username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spring:bind path="credentials.password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put type="password" name="password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52480" y="5334120"/>
            <a:ext cx="70866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’s taglib has bound the bean to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 flipH="1" flipV="1">
            <a:off x="6705720" y="4571640"/>
            <a:ext cx="914400" cy="7621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 flipH="1" flipV="1">
            <a:off x="6705720" y="3733560"/>
            <a:ext cx="1828800" cy="16002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etter Way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the Data Access, Business Logic and Presentation using a M.V.C. Fra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M.V.C. fra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Work, Spring, Struts, Java-Server-Faces, Tapestry plus “many mo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chan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, by far is the most popular; same creator of Struts (Craig McClanahan) is the co-spec leader of Java Server 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work evolved to Webwork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stry - has been around for awh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– “newer” of the frameworks. Integrates well with any other framework or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Spring Fra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rameworks integrate well with Sp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offers an open yet structured framework, using dependency-injection, a type of inversion-of-control to integrate different technologie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Configuration, open plug-i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well with different O/R Mapping frameworks like Hiber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est applications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plicated then other frame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user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integrate your existing web-app with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middle t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ttp://struts.sourceforge.net/struts-sprin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ttp://wiki.opensymphony.com/space/Spring+Framework+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ttp://www.springframework.org/docs/integration/tapestry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I like Microsoft .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ing Framework 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ttp://sourceforge.net/projects/spring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 chose to learn the Spr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IoC/Dependency Injection you can easily change configu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end-to-end requirements, not just one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is well organized and seems easier to learn then str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across deployment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well with Hiber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t to wet 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tite and note be compr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43:13Z</dcterms:created>
  <dc:creator>Tom &amp; Sharon Kochanowicz</dc:creator>
  <dc:description/>
  <dc:language>en-US</dc:language>
  <cp:lastModifiedBy>CCLEE</cp:lastModifiedBy>
  <dcterms:modified xsi:type="dcterms:W3CDTF">2010-07-27T19:24:32Z</dcterms:modified>
  <cp:revision>249</cp:revision>
  <dc:subject/>
  <dc:title>An Introduction To the Spring M.V.C. Framework</dc:title>
</cp:coreProperties>
</file>