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242A-D146-45B2-BECD-FE4A88B0F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behind Inversion of Control is often expressed in the Hollywood Principle: "Don't call me, I'll call you." IoC moves the responsibility for making things happen into the framework, and away from application code. Where configuration is concerned this means that while in traditional container architectures such as EJB, a component might call the container to say "where's object X, which I need to do my work", with IoC the container figures out that the component needs an X object, and provides it to it at runtime. The container does this figuring out based on method signatures (such as JavaBean properties) and, possibly, configuration data such as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 has several important benefit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ecause components don't need to look up collaborators at runtime, they're much simpler to write and maintain. In Spring's version of IoC, components express their dependency on other components via exposing JavaBean setter methods. The EJB equivalent would be a JNDI lookup, which requires the developer to writ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r the same reasons, application code is much easier to test. JavaBean properties are simple, core Java and easy to test: just write a self-contained JUnit test method that creates the object and sets the relevant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 good IoC implementation preserves strong typing. If you need to use a generic factory to look up collaborators, you have to cast the results to the desired type. This isn't a major problem, but it is inelegant. With IoC you express strongly typed dependencies in your code and the framework is responsible for type casts. This means that type mismatches will be raised as errors when the framework configures the application; you don't have to worry about class cast exceptions in your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ost business objects don't depend on IoC container APIs. This makes it easy to use legacy code, and easy to use objects either inside or outside the IoC container. For example, Spring users often configure the Jakarta Commons DBCP DataSource as a Spring bean: there's no need to write any custom code to do this. We say that an IoC container isn't invasive: using it won't invade your code with dependency on its APIs. Any JavaBean can become a component in a Spring bean 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ast point deserves emphasis. IoC is unlike traditional container architectures, such as EJB, in this minimization of dependency of application code on container. This means that your business objects can potentially be run in different IoC frameworks - or outside any framework - without code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heserverside.com/articles/article.tss?l=Spring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pringframework.org/statement.htm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db.apache.org/oj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ruts.apache.or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C - http://java.sun.com/blueprints/guidelines/designing_enterprise_applications_2e/web-tier/web-tier5.ht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8BC10-5D00-40D3-9EC8-6D359F319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861840" y="2526840"/>
            <a:ext cx="77724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861840" y="4470480"/>
            <a:ext cx="77724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1140B-3E5A-40F0-8FEB-7D1B43628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861840" y="2526840"/>
            <a:ext cx="37926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44520" y="2526840"/>
            <a:ext cx="37926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861840" y="4470480"/>
            <a:ext cx="37926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844520" y="4470480"/>
            <a:ext cx="37926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9848D-A8E7-48B4-A3E4-0D7126B15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861840" y="2526840"/>
            <a:ext cx="250236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489840" y="2526840"/>
            <a:ext cx="250236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117480" y="2526840"/>
            <a:ext cx="250236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861840" y="4470480"/>
            <a:ext cx="250236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489840" y="4470480"/>
            <a:ext cx="250236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117480" y="4470480"/>
            <a:ext cx="250236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CC7BB-2E85-40F9-8909-BAF903065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861840" y="2526840"/>
            <a:ext cx="7772400" cy="3721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C2F97-C1FD-4FF1-BBCC-F17FB5B5C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B9EC1-72EF-40C6-A7BD-A95C2D549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861840" y="2526840"/>
            <a:ext cx="3792600" cy="3721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844520" y="2526840"/>
            <a:ext cx="3792600" cy="3721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49678-1A30-4FDE-9AAA-FFCA35095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8890A-5C4F-4DD1-A427-2A89B2497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12236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3DEE1-6E51-439B-8BA3-E6A0FFB69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861840" y="2526840"/>
            <a:ext cx="37926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844520" y="2526840"/>
            <a:ext cx="3792600" cy="3721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861840" y="4470480"/>
            <a:ext cx="37926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D1499-5192-4767-971C-236C3F5B7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861840" y="2526840"/>
            <a:ext cx="3792600" cy="3721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844520" y="2526840"/>
            <a:ext cx="37926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844520" y="4470480"/>
            <a:ext cx="37926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73EA-5D54-4524-9F9C-49E823074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861840" y="2526840"/>
            <a:ext cx="37926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844520" y="2526840"/>
            <a:ext cx="37926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861840" y="4470480"/>
            <a:ext cx="7772400" cy="177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7A037-9E62-4645-B25B-0987B6E11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95076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Arial"/>
              </a:rPr>
              <a:t>© 2005, Cornell University</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3BAA-7F9D-44BF-A7A9-28964EA98370}"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0"/>
            <a:ext cx="9145440" cy="98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struts.apache.org/" TargetMode="External"/><Relationship Id="rId2" Type="http://schemas.openxmlformats.org/officeDocument/2006/relationships/hyperlink" Target="http://db.apache.org/ojb/"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ring</a:t>
            </a:r>
            <a:endParaRPr b="1" lang="en-US" sz="3200" spc="-1" strike="noStrike">
              <a:solidFill>
                <a:srgbClr val="ffffff"/>
              </a:solidFill>
              <a:latin typeface="Arial"/>
            </a:endParaRPr>
          </a:p>
        </p:txBody>
      </p:sp>
      <p:sp>
        <p:nvSpPr>
          <p:cNvPr id="68"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ms t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J2EE easier to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e good programming pract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existing technologies easier to use (logging, O/R mapping, transactions JT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across application serv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weight Inversion of Control (IoC) Container (Don’t call me, I’ll call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ring Benefits</a:t>
            </a:r>
            <a:endParaRPr b="1" lang="en-US" sz="3200" spc="-1" strike="noStrike">
              <a:solidFill>
                <a:srgbClr val="ffffff"/>
              </a:solidFill>
              <a:latin typeface="Arial"/>
            </a:endParaRPr>
          </a:p>
        </p:txBody>
      </p:sp>
      <p:sp>
        <p:nvSpPr>
          <p:cNvPr id="70"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can be easily provided at runtime based on xml config fi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aps other services (JavaMail, Quartz, OJB) to make them easier to u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 classes are POJOs (plain old java objects) and easier to write, more maintainable and more testable than other J2EE frameworks (EJB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ring Benefits</a:t>
            </a:r>
            <a:endParaRPr b="1" lang="en-US" sz="3200" spc="-1" strike="noStrike">
              <a:solidFill>
                <a:srgbClr val="ffffff"/>
              </a:solidFill>
              <a:latin typeface="Arial"/>
            </a:endParaRPr>
          </a:p>
        </p:txBody>
      </p:sp>
      <p:sp>
        <p:nvSpPr>
          <p:cNvPr id="72"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s Transaction support (without programmer writing any co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Aspect Oriented Programming (AOP) hooks; could be used for things such as caching and instrumentation of code at runtime (again without programmer writing any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sistence Layer</a:t>
            </a:r>
            <a:endParaRPr b="1" lang="en-US" sz="3200" spc="-1" strike="noStrike">
              <a:solidFill>
                <a:srgbClr val="ffffff"/>
              </a:solidFill>
              <a:latin typeface="Arial"/>
            </a:endParaRPr>
          </a:p>
        </p:txBody>
      </p:sp>
      <p:sp>
        <p:nvSpPr>
          <p:cNvPr id="74"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repository for the applic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Data storage, retrieval, and maintena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cess Objects (DAOs) should be employed to encapsulate the data sources using the Spring/OJB (Object Relational Bridge) framework to isolate access to the data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sistence Layer</a:t>
            </a:r>
            <a:endParaRPr b="1" lang="en-US" sz="3200" spc="-1" strike="noStrike">
              <a:solidFill>
                <a:srgbClr val="ffffff"/>
              </a:solidFill>
              <a:latin typeface="Arial"/>
            </a:endParaRPr>
          </a:p>
        </p:txBody>
      </p:sp>
      <p:sp>
        <p:nvSpPr>
          <p:cNvPr id="76"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business logic should be present in the data tie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business object should access the database directly; any need for this should be met through service call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Relational Bridge (OJB) 1.0.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RelationalBridge (OJB)</a:t>
            </a:r>
            <a:endParaRPr b="1" lang="en-US" sz="3200" spc="-1" strike="noStrike">
              <a:solidFill>
                <a:srgbClr val="ffffff"/>
              </a:solidFill>
              <a:latin typeface="Arial"/>
            </a:endParaRPr>
          </a:p>
        </p:txBody>
      </p:sp>
      <p:sp>
        <p:nvSpPr>
          <p:cNvPr id="78"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Relational mapping too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transparent persistence for Java Objects against relational databas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multiple persistence API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for a large range of applica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an XML based Object/Relational Mapp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JB Benefits</a:t>
            </a:r>
            <a:endParaRPr b="1" lang="en-US" sz="3200" spc="-1" strike="noStrike">
              <a:solidFill>
                <a:srgbClr val="ffffff"/>
              </a:solidFill>
              <a:latin typeface="Arial"/>
            </a:endParaRPr>
          </a:p>
        </p:txBody>
      </p:sp>
      <p:sp>
        <p:nvSpPr>
          <p:cNvPr id="80"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need to write SQL co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schema changes are isolated in xml config file (and perhaps Java Bea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nice query facility (easily add ordering, grouping, where clauses based on field names in Java Beans not database colum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chitecture Benefits</a:t>
            </a:r>
            <a:endParaRPr b="1" lang="en-US" sz="3200" spc="-1" strike="noStrike">
              <a:solidFill>
                <a:srgbClr val="ffffff"/>
              </a:solidFill>
              <a:latin typeface="Arial"/>
            </a:endParaRPr>
          </a:p>
        </p:txBody>
      </p:sp>
      <p:sp>
        <p:nvSpPr>
          <p:cNvPr id="82"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n separation of presentation logic, business logic and data access co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able and Extensi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application layers can be removed or replaced without affecting the rest of the ap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S Case Study</a:t>
            </a:r>
            <a:endParaRPr b="1" lang="en-US" sz="3200" spc="-1" strike="noStrike">
              <a:solidFill>
                <a:srgbClr val="ffffff"/>
              </a:solidFill>
              <a:latin typeface="Arial"/>
            </a:endParaRPr>
          </a:p>
        </p:txBody>
      </p:sp>
      <p:sp>
        <p:nvSpPr>
          <p:cNvPr id="84"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nell Asset Transfer Syste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sentially a matchmaking service between Cornell Faculty and staff members who wish to exchange Cornell Ass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S Requirements</a:t>
            </a:r>
            <a:endParaRPr b="1" lang="en-US" sz="3200" spc="-1" strike="noStrike">
              <a:solidFill>
                <a:srgbClr val="ffffff"/>
              </a:solidFill>
              <a:latin typeface="Arial"/>
            </a:endParaRPr>
          </a:p>
        </p:txBody>
      </p:sp>
      <p:sp>
        <p:nvSpPr>
          <p:cNvPr id="86"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must be able to post available assets, post descriptions of assets wanted, and browse available asse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to Cornell Faculty and Staff</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stem will NOT facilitate or track the actual exchange of ass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pid Application Development using the Kuali Architecture </a:t>
            </a:r>
            <a:br>
              <a:rPr sz="3200"/>
            </a:br>
            <a:r>
              <a:rPr b="1" lang="en-US" sz="3200" spc="-1" strike="noStrike">
                <a:solidFill>
                  <a:srgbClr val="ffffff"/>
                </a:solidFill>
                <a:latin typeface="Arial"/>
              </a:rPr>
              <a:t>(Struts, Spring and OJB)</a:t>
            </a:r>
            <a:endParaRPr b="1" lang="en-US" sz="3200" spc="-1" strike="noStrike">
              <a:solidFill>
                <a:srgbClr val="ffffff"/>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ase Stud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yan Hutchinson</a:t>
            </a:r>
            <a:endParaRPr b="0" lang="en-US" sz="2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h79@cornell.e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S Requirements</a:t>
            </a:r>
            <a:endParaRPr b="1" lang="en-US" sz="3200" spc="-1" strike="noStrike">
              <a:solidFill>
                <a:srgbClr val="ffffff"/>
              </a:solidFill>
              <a:latin typeface="Arial"/>
            </a:endParaRPr>
          </a:p>
        </p:txBody>
      </p:sp>
      <p:sp>
        <p:nvSpPr>
          <p:cNvPr id="88"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ability to add picture to asset lis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expiration date of listing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removal of expired listing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feedback to users after their listing expi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S Implementation</a:t>
            </a:r>
            <a:endParaRPr b="1" lang="en-US" sz="3200" spc="-1" strike="noStrike">
              <a:solidFill>
                <a:srgbClr val="ffffff"/>
              </a:solidFill>
              <a:latin typeface="Arial"/>
            </a:endParaRPr>
          </a:p>
        </p:txBody>
      </p:sp>
      <p:sp>
        <p:nvSpPr>
          <p:cNvPr id="90"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cle databa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mcat 5.5 application serv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ache web serv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application using Struts, Spring and OJ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and job scheduling using Spring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S Sequence Diagram</a:t>
            </a:r>
            <a:endParaRPr b="1" lang="en-US" sz="3200" spc="-1" strike="noStrike">
              <a:solidFill>
                <a:srgbClr val="ffffff"/>
              </a:solidFill>
              <a:latin typeface="Arial"/>
            </a:endParaRPr>
          </a:p>
        </p:txBody>
      </p:sp>
      <p:graphicFrame>
        <p:nvGraphicFramePr>
          <p:cNvPr id="92" name=""/>
          <p:cNvGraphicFramePr/>
          <p:nvPr/>
        </p:nvGraphicFramePr>
        <p:xfrm>
          <a:off x="2394000" y="2527200"/>
          <a:ext cx="4708440" cy="3721320"/>
        </p:xfrm>
        <a:graphic>
          <a:graphicData uri="http://schemas.openxmlformats.org/presentationml/2006/ole">
            <p:oleObj r:id="rId1" spid="">
              <p:embed/>
              <p:pic>
                <p:nvPicPr>
                  <p:cNvPr id="93" name="" descr=""/>
                  <p:cNvPicPr/>
                  <p:nvPr/>
                </p:nvPicPr>
                <p:blipFill>
                  <a:blip r:embed="rId2"/>
                  <a:stretch/>
                </p:blipFill>
                <p:spPr>
                  <a:xfrm>
                    <a:off x="2394000" y="2527200"/>
                    <a:ext cx="4708440" cy="372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efits to CATS Project</a:t>
            </a:r>
            <a:endParaRPr b="1" lang="en-US" sz="3200" spc="-1" strike="noStrike">
              <a:solidFill>
                <a:srgbClr val="ffffff"/>
              </a:solidFill>
              <a:latin typeface="Arial"/>
            </a:endParaRPr>
          </a:p>
        </p:txBody>
      </p:sp>
      <p:sp>
        <p:nvSpPr>
          <p:cNvPr id="95"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Development (Approx. 120 hou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hours analysis/design/prototyp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 hours core develop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hours admin enhanc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hours implementation/bug fixe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ble, Maintainable syste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ppy Customer (Phase II already approv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om for Improvement</a:t>
            </a:r>
            <a:endParaRPr b="1" lang="en-US" sz="3200" spc="-1" strike="noStrike">
              <a:solidFill>
                <a:srgbClr val="ffffff"/>
              </a:solidFill>
              <a:latin typeface="Arial"/>
            </a:endParaRPr>
          </a:p>
        </p:txBody>
      </p:sp>
      <p:sp>
        <p:nvSpPr>
          <p:cNvPr id="97"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first project from scratch with these technolog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get better with practi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ts is a weak lin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S Demo</a:t>
            </a:r>
            <a:endParaRPr b="1" lang="en-US" sz="3200" spc="-1" strike="noStrike">
              <a:solidFill>
                <a:srgbClr val="ffffff"/>
              </a:solidFill>
              <a:latin typeface="Arial"/>
            </a:endParaRPr>
          </a:p>
        </p:txBody>
      </p:sp>
      <p:sp>
        <p:nvSpPr>
          <p:cNvPr id="99"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S Source Code</a:t>
            </a:r>
            <a:endParaRPr b="1" lang="en-US" sz="3200" spc="-1" strike="noStrike">
              <a:solidFill>
                <a:srgbClr val="ffffff"/>
              </a:solidFill>
              <a:latin typeface="Arial"/>
            </a:endParaRPr>
          </a:p>
        </p:txBody>
      </p:sp>
      <p:sp>
        <p:nvSpPr>
          <p:cNvPr id="101"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 &amp; A</a:t>
            </a:r>
            <a:endParaRPr b="1" lang="en-US" sz="3200" spc="-1" strike="noStrike">
              <a:solidFill>
                <a:srgbClr val="ffffff"/>
              </a:solidFill>
              <a:latin typeface="Arial"/>
            </a:endParaRPr>
          </a:p>
        </p:txBody>
      </p:sp>
      <p:sp>
        <p:nvSpPr>
          <p:cNvPr id="103"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ources</a:t>
            </a:r>
            <a:endParaRPr b="1" lang="en-US" sz="3200" spc="-1" strike="noStrike">
              <a:solidFill>
                <a:srgbClr val="ffffff"/>
              </a:solidFill>
              <a:latin typeface="Arial"/>
            </a:endParaRPr>
          </a:p>
        </p:txBody>
      </p:sp>
      <p:sp>
        <p:nvSpPr>
          <p:cNvPr id="105"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struts.apache.or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springframework.or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db.apache.org/oj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nda</a:t>
            </a:r>
            <a:endParaRPr b="1" lang="en-US" sz="3200" spc="-1" strike="noStrike">
              <a:solidFill>
                <a:srgbClr val="ffffff"/>
              </a:solidFill>
              <a:latin typeface="Arial"/>
            </a:endParaRPr>
          </a:p>
        </p:txBody>
      </p:sp>
      <p:sp>
        <p:nvSpPr>
          <p:cNvPr id="53"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uali Application Architectu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S Case Stud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S Dem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S Source Co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 &amp; 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uali Application Architecture</a:t>
            </a:r>
            <a:endParaRPr b="1" lang="en-US" sz="3200" spc="-1" strike="noStrike">
              <a:solidFill>
                <a:srgbClr val="ffffff"/>
              </a:solidFill>
              <a:latin typeface="Arial"/>
            </a:endParaRPr>
          </a:p>
        </p:txBody>
      </p:sp>
      <p:sp>
        <p:nvSpPr>
          <p:cNvPr id="55"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1"/>
          <a:stretch/>
        </p:blipFill>
        <p:spPr>
          <a:xfrm>
            <a:off x="2971800" y="2057400"/>
            <a:ext cx="3308400" cy="413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 Layers</a:t>
            </a:r>
            <a:endParaRPr b="1" lang="en-US" sz="3200" spc="-1" strike="noStrike">
              <a:solidFill>
                <a:srgbClr val="ffffff"/>
              </a:solidFill>
              <a:latin typeface="Arial"/>
            </a:endParaRPr>
          </a:p>
        </p:txBody>
      </p:sp>
      <p:sp>
        <p:nvSpPr>
          <p:cNvPr id="58"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s should be designed to build the application into three layers: Presentation,  Business, and Persistence Lay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s should be container agnostic with Servlet and JSP API</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system-to-system interoperability that cannot be done within the container should be JAX-RPC/Apache Axis compli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Layer</a:t>
            </a:r>
            <a:endParaRPr b="1" lang="en-US" sz="3200" spc="-1" strike="noStrike">
              <a:solidFill>
                <a:srgbClr val="ffffff"/>
              </a:solidFill>
              <a:latin typeface="Arial"/>
            </a:endParaRPr>
          </a:p>
        </p:txBody>
      </p:sp>
      <p:sp>
        <p:nvSpPr>
          <p:cNvPr id="60"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es on the presentation of the data to the user in the context of  the user interface, e.g., the Web browser or a rich cli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ts 1.2.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work within a portal frame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uts</a:t>
            </a:r>
            <a:endParaRPr b="1" lang="en-US" sz="3200" spc="-1" strike="noStrike">
              <a:solidFill>
                <a:srgbClr val="ffffff"/>
              </a:solidFill>
              <a:latin typeface="Arial"/>
            </a:endParaRPr>
          </a:p>
        </p:txBody>
      </p:sp>
      <p:sp>
        <p:nvSpPr>
          <p:cNvPr id="62"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fontScale="97000"/>
          </a:bodyPr>
          <a:p>
            <a:pPr marL="455400" indent="-455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 web application framework</a:t>
            </a:r>
            <a:endParaRPr b="0" lang="en-US" sz="2400" spc="-1" strike="noStrike">
              <a:solidFill>
                <a:srgbClr val="ffffff"/>
              </a:solidFill>
              <a:latin typeface="Arial"/>
            </a:endParaRPr>
          </a:p>
          <a:p>
            <a:pPr marL="455400" indent="-455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control layer based on standard technologies like Java Servlets, JavaBeans, ResourceBundles, and XML, as well as various Jakarta Commons packages</a:t>
            </a:r>
            <a:endParaRPr b="0" lang="en-US" sz="2400" spc="-1" strike="noStrike">
              <a:solidFill>
                <a:srgbClr val="ffffff"/>
              </a:solidFill>
              <a:latin typeface="Arial"/>
            </a:endParaRPr>
          </a:p>
          <a:p>
            <a:pPr marL="455400" indent="-455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Controller component and integrates with other technologies to provide the Model (JDBC, EJB, Hibernate) and the View (JSPs)</a:t>
            </a:r>
            <a:endParaRPr b="0" lang="en-US" sz="2400" spc="-1" strike="noStrike">
              <a:solidFill>
                <a:srgbClr val="ffffff"/>
              </a:solidFill>
              <a:latin typeface="Arial"/>
            </a:endParaRPr>
          </a:p>
          <a:p>
            <a:pPr marL="455400" indent="-4554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urages application architectures based on the Model 2 approach, a variation of the classic  Model-View-Controller (MVC) design paradig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uts Benefits</a:t>
            </a:r>
            <a:endParaRPr b="1" lang="en-US" sz="3200" spc="-1" strike="noStrike">
              <a:solidFill>
                <a:srgbClr val="ffffff"/>
              </a:solidFill>
              <a:latin typeface="Arial"/>
            </a:endParaRPr>
          </a:p>
        </p:txBody>
      </p:sp>
      <p:sp>
        <p:nvSpPr>
          <p:cNvPr id="64"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web framewor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nice validation capabilit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good set of custom jsp taglib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12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Layer</a:t>
            </a:r>
            <a:endParaRPr b="1" lang="en-US" sz="3200" spc="-1" strike="noStrike">
              <a:solidFill>
                <a:srgbClr val="ffffff"/>
              </a:solidFill>
              <a:latin typeface="Arial"/>
            </a:endParaRPr>
          </a:p>
        </p:txBody>
      </p:sp>
      <p:sp>
        <p:nvSpPr>
          <p:cNvPr id="66" name="PlaceHolder 2"/>
          <p:cNvSpPr>
            <a:spLocks noGrp="1"/>
          </p:cNvSpPr>
          <p:nvPr>
            <p:ph/>
          </p:nvPr>
        </p:nvSpPr>
        <p:spPr>
          <a:xfrm>
            <a:off x="861840" y="2526840"/>
            <a:ext cx="7772400" cy="3721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the enterprise logi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the components that capture  the business rules of the enterpri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support multiple Presentation ti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framework 1.1.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7:47:41Z</dcterms:created>
  <dc:creator>Martha Fitzgerald</dc:creator>
  <dc:description/>
  <dc:language>en-US</dc:language>
  <cp:lastModifiedBy>Bryan Hutchinson</cp:lastModifiedBy>
  <dcterms:modified xsi:type="dcterms:W3CDTF">2005-12-06T18:03:22Z</dcterms:modified>
  <cp:revision>17</cp:revision>
  <dc:subject/>
  <dc:title>PowerPoint Presentation</dc:title>
</cp:coreProperties>
</file>