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122553-6679-42FC-9862-4F7087F5F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381240" y="685800"/>
            <a:ext cx="6095520" cy="3428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6160" y="4343400"/>
            <a:ext cx="5485680" cy="411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s is a slide not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2AB97-23F9-4E31-9716-1A34E4EE18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851976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1760" y="2936520"/>
            <a:ext cx="851976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AD449-1C91-4B05-9645-32A5B4630E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11760" y="293652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7120" y="293652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DADC7-485B-40A5-BB26-5DA5103A82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2480" y="115236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3200" y="115236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1760" y="293652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2480" y="293652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3200" y="293652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6C7C1-3F63-4FD7-B0F3-3F17EDACB0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3FED5-BC6A-4C71-801C-ADFC747022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5BB8B-1092-43EA-985C-C78D9720DD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D0678-98ED-459D-9DD9-B4956E1252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81871-7171-44FD-9873-EDA6657FA5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6213D-8CDB-4D62-9DF1-CBAC97E031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11760" y="444960"/>
            <a:ext cx="8519760" cy="26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35011-03E9-4812-B6F4-BA2260FE8A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11760" y="293652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0B33B-99F0-4174-A627-393C61D1A2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C41EF-2209-44CF-B9BB-1640992D49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7120" y="293652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025C9-455D-4FA0-BC3E-767C0C6F6E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11760" y="2936520"/>
            <a:ext cx="851976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0460D-0722-4BBE-81B9-C9F5E607C6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851976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760" y="2936520"/>
            <a:ext cx="851976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21435-1D08-4A35-A041-46A02BBB92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11760" y="293652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7120" y="293652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FC216-B0AA-40EC-92CF-E7F43A7A24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92480" y="115236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3200" y="115236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11760" y="293652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92480" y="293652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3200" y="293652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2D5C5-F991-4614-89CB-34C0FF4918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8ACA3-5900-4ED4-A0EA-279F41AB2B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21D87-A3FE-4907-B683-CE15864B39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82A39-4963-4C8E-BDF3-FA7E6E747E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1760" y="444960"/>
            <a:ext cx="8519760" cy="26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317F3-7A0C-4BA7-BCDD-51978E2E65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11760" y="293652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E45E4-C890-4B0D-845E-03E1FCBCBD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7120" y="293652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C330E-F3E8-43E0-9FDB-00047CD89E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11760" y="2936520"/>
            <a:ext cx="851976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FC99B-5838-440A-9B5F-2144D01B8B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19760" cy="5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472600" y="4663080"/>
            <a:ext cx="547920" cy="39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" sz="1000" spc="-1" strike="noStrike">
                <a:solidFill>
                  <a:schemeClr val="dk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BE3D701-19A5-4666-923D-D1248BF87A57}" type="slidenum">
              <a:rPr b="0" lang="en" sz="1000" spc="-1" strike="noStrike">
                <a:solidFill>
                  <a:schemeClr val="dk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19760" cy="5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472600" y="4663080"/>
            <a:ext cx="547920" cy="39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" sz="1000" spc="-1" strike="noStrike">
                <a:solidFill>
                  <a:schemeClr val="dk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D8447CE5-0F21-471D-B774-88A3234E05F3}" type="slidenum">
              <a:rPr b="0" lang="en" sz="1000" spc="-1" strike="noStrike">
                <a:solidFill>
                  <a:schemeClr val="dk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1760" y="744480"/>
            <a:ext cx="8519760" cy="2052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5200" spc="-1" strike="noStrike">
                <a:solidFill>
                  <a:schemeClr val="dk1"/>
                </a:solidFill>
                <a:latin typeface="Arial"/>
                <a:ea typeface="Arial"/>
              </a:rPr>
              <a:t>Testing multiple language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85000"/>
          </a:bodyPr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en" sz="1800" spc="-1" strike="noStrike">
                <a:solidFill>
                  <a:schemeClr val="dk2"/>
                </a:solidFill>
                <a:latin typeface="Arial"/>
                <a:ea typeface="Arial"/>
              </a:rPr>
              <a:t>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en" sz="1800" spc="-1" strike="noStrike">
                <a:solidFill>
                  <a:schemeClr val="dk2"/>
                </a:solidFill>
                <a:latin typeface="Arial"/>
                <a:ea typeface="Arial"/>
              </a:rPr>
              <a:t>All human beings are born free and equal in dignity and rights. They are endowed with reason and conscience and should act towards one another in a spirit of brotherhood. "Todos los seres humanos nacen libres e iguales en dignidad y derechos y, dotados como están de razón y conciencia, deben comportarse fraternalmente los unos con los otros. Todos los seres humanos nacen libres e iguales en dignidad y derechos y, dotados como están de razón y conciencia, deben comportarse fraternalmente los unos con los otros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en" sz="1800" spc="-1" strike="noStrike">
                <a:solidFill>
                  <a:schemeClr val="dk2"/>
                </a:solidFill>
                <a:latin typeface="Arial"/>
                <a:ea typeface="Arial"/>
              </a:rPr>
              <a:t>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en" sz="1800" spc="-1" strike="noStrike">
                <a:solidFill>
                  <a:schemeClr val="dk2"/>
                </a:solidFill>
                <a:latin typeface="Arial"/>
                <a:ea typeface="Arial"/>
              </a:rPr>
              <a:t>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en" sz="1800" spc="-1" strike="noStrike">
                <a:solidFill>
                  <a:schemeClr val="dk2"/>
                </a:solidFill>
                <a:latin typeface="Arial"/>
                <a:ea typeface="Arial"/>
              </a:rPr>
              <a:t>"Todos los seres humanos nacen libres e iguales en dignidad y derechos y, dotados como están de razón y conciencia, deben comportarse fraternalmente los unos con los otros. Todos los seres humanos nacen libres e iguales en dignidad y derechos y, dotados como están de razón y conciencia, deben comportarse fraternalmente los unos con los otros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Simple Light">
  <a:themeElements>
    <a:clrScheme name="Simple Light">
      <a:dk1>
        <a:srgbClr val="000000"/>
      </a:dk1>
      <a:lt1>
        <a:srgbClr val="ffffff"/>
      </a:lt1>
      <a:dk2>
        <a:srgbClr val="595959"/>
      </a:dk2>
      <a:lt2>
        <a:srgbClr val="eeeeee"/>
      </a:lt2>
      <a:accent1>
        <a:srgbClr val="4285f4"/>
      </a:accent1>
      <a:accent2>
        <a:srgbClr val="212121"/>
      </a:accent2>
      <a:accent3>
        <a:srgbClr val="78909c"/>
      </a:accent3>
      <a:accent4>
        <a:srgbClr val="ffab40"/>
      </a:accent4>
      <a:accent5>
        <a:srgbClr val="0097a7"/>
      </a:accent5>
      <a:accent6>
        <a:srgbClr val="eeff41"/>
      </a:accent6>
      <a:hlink>
        <a:srgbClr val="0097a7"/>
      </a:hlink>
      <a:folHlink>
        <a:srgbClr val="0097a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Simple Light">
  <a:themeElements>
    <a:clrScheme name="Simple Light">
      <a:dk1>
        <a:srgbClr val="000000"/>
      </a:dk1>
      <a:lt1>
        <a:srgbClr val="ffffff"/>
      </a:lt1>
      <a:dk2>
        <a:srgbClr val="595959"/>
      </a:dk2>
      <a:lt2>
        <a:srgbClr val="eeeeee"/>
      </a:lt2>
      <a:accent1>
        <a:srgbClr val="4285f4"/>
      </a:accent1>
      <a:accent2>
        <a:srgbClr val="212121"/>
      </a:accent2>
      <a:accent3>
        <a:srgbClr val="78909c"/>
      </a:accent3>
      <a:accent4>
        <a:srgbClr val="ffab40"/>
      </a:accent4>
      <a:accent5>
        <a:srgbClr val="0097a7"/>
      </a:accent5>
      <a:accent6>
        <a:srgbClr val="eeff41"/>
      </a:accent6>
      <a:hlink>
        <a:srgbClr val="0097a7"/>
      </a:hlink>
      <a:folHlink>
        <a:srgbClr val="0097a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595959"/>
      </a:dk2>
      <a:lt2>
        <a:srgbClr val="eeeeee"/>
      </a:lt2>
      <a:accent1>
        <a:srgbClr val="4285f4"/>
      </a:accent1>
      <a:accent2>
        <a:srgbClr val="212121"/>
      </a:accent2>
      <a:accent3>
        <a:srgbClr val="78909c"/>
      </a:accent3>
      <a:accent4>
        <a:srgbClr val="ffab40"/>
      </a:accent4>
      <a:accent5>
        <a:srgbClr val="0097a7"/>
      </a:accent5>
      <a:accent6>
        <a:srgbClr val="eeff41"/>
      </a:accent6>
      <a:hlink>
        <a:srgbClr val="0097a7"/>
      </a:hlink>
      <a:folHlink>
        <a:srgbClr val="0097a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24-05-09T15:49:23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