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82B7-876A-472C-8A22-DBC3489A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0ED1-5382-4AFF-A1F0-7099E6F1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B3D5F-BDC1-4DFC-B845-6DD9D07B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AB164-2C07-439C-9894-626A7F0B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8F13E-6A19-4685-B530-FB95B043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AEC25-389A-467F-801A-E83C9496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9F69E-C33B-4279-8859-564A5AC7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973A9-3987-4F1E-B7BC-8589355C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54203-3A8D-414E-827E-FF42550F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E1BBD-DEA7-40F2-A577-469314D0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F87A9-94F8-49B6-9237-82A56AB8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F9BE0-D689-495E-9E1F-BA4E3D87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ABD3-D537-4B56-AED1-59B16894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70900-A0B3-4AB0-8670-7E36DEA2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D5B2F-8306-4C61-BFA2-C384612A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14055-C775-4F1F-BEF2-0BCEFCB2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E521E-38ED-4BDA-A707-EE251A42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0A363-7D0E-4AF4-AC59-28958099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5C34B-2971-42FD-95E1-7F63C7B2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BB0B1-A909-4F7C-8238-CC8E4EC9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7AA48-E3CC-4C52-9237-9D6A9919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19E15-9E9D-42ED-A216-3CD43CED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EFEF9-69BE-456C-80D6-C48A6AE6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9A82-23D9-4D22-8F96-D7F1F491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3F433-E7F7-4E99-BA5C-4B144584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CF921-0D89-45D3-8AB5-CCA6E9D8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B2462-DC1B-4FBE-A93A-4933877B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AA966-44C0-4F43-A54A-AD614B33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93D79-7111-4FC7-82D8-C50633FB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C6E6E-E6A6-43FD-925E-9DF2F3D2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95154-8156-4560-8873-068BD4E1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856F3-0D21-477D-BB47-E36EE1FB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E1707-0AB6-4115-9717-693D66CA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5085C-9CCA-45F7-BA26-2C02835F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500B-D3D9-4283-88B3-AA0031C4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7B105-5E41-4529-924D-01FAE5A8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013FF-EA1B-4E13-B907-6ED440F4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F5DC0-70E5-45A2-9A52-0E9ACC5A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E20D7-2E33-446A-B0CF-46306A3D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087F1-3899-49FB-8560-4324F9FD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8AB83-3721-4FE1-9FE6-EA525646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A106C-8001-46BC-A6DA-BB983CCE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60CF1-B04F-447C-80ED-56155A35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EC385-431E-4CCD-BB48-B255637E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28393-87F5-4B7E-A655-245AF0C9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ADFA-461A-4658-AE67-A1BB88BB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CC089-D3C1-43A6-ACB1-24211AB6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84638-F2A3-4CCB-B3EF-6EC1829C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D20EF-5F95-43B6-9C47-BD6CB965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7035E-613B-4B6A-B4B3-B515A6A8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C4ABD-E673-4FF6-AF64-B054CD1D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5D48C2-5D0F-4E14-89B9-F8EEB78F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DA4B2A-1344-4336-AF0D-1F5A913E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E9ADDF-918C-4DFE-968B-ECE3548F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49E3C0-2B2A-4A94-BDC1-82C96F4A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4226C8-3661-4B74-B029-9C8FE6D0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C7E5-2212-470A-AF82-64F7BDFC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4C2DBC-3F6B-442A-B151-81E17F12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6EDBB8-1097-44BA-9E86-C8FB6490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B7C7EF-5147-44EF-BBF1-7A2750FD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736267-8BBC-496D-924B-9F8B2010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0018D1-11A4-46B1-BB28-56E09A9D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543C19-230A-490E-A923-6568CE01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38A836-C627-4729-9AC8-A6223EAB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76A60B-3847-4AB1-8B43-831708E9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6F2F1F-245C-4B45-A765-93D03C4F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CFEA5B-9657-4429-B498-4881C1A5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C506-4324-442F-A92E-9F5856E7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CE9490-F37E-462C-A2A3-DE06AF75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A00878-DA1B-43B1-93A5-C464586B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2DAC99-F320-4ABD-8D5A-ED75F740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1AE221-6F54-4A39-97B8-AD5C038A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70724D-C1BE-41B6-B54D-8BE4BECA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02730B-C9E0-4872-9B4A-0B880421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81426E-877E-40CA-9A6F-1F946164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ADCF88-71C3-433C-9694-57E835F6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0D7BCE-DC27-4634-B198-FED20341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A1E0EE-E39F-4D45-9F7F-B5FADA4E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EE04-55D4-489F-876D-87E5AA74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844EF6-C58B-468E-997B-DEEF79A0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C54B5D-4054-428B-8EF7-6E0E77FB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433452-716C-4FE0-BED6-5451C3E8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F9BD1C-F257-4E7C-862B-1725057D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8F12AF-70A5-427A-8380-D4A9FC72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CA4FC4-32E7-4787-84D2-BB9BA08C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A9395A-67D0-4D47-A475-8D7DE3FA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152C0A-AEAA-42A1-8A95-2B1CCD7B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58F945-94A2-4E81-9C06-957151BE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B66D7B-386C-4FDD-9BAE-F9A88F53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3516-55D6-4A3A-BB96-E33A1377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447985-247A-4E8E-A1BB-22BD9373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FE38A8-97A1-4128-B0F4-A393658E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B37136-90C5-4CD0-8935-0C8EC458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D8741F-E2D1-4512-B3EA-58890EFE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66AF4A-40A7-47D0-807D-860B9261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2DB2B4-F725-4581-BDFD-10D10538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2E8945-1826-4EFA-96E9-E18F5C7A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6732A7-F41D-4DFD-AB8E-2706A1FA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8E21C9-AE17-4730-B26B-D839BB0A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3299DE-0143-48B9-93E4-C2E3A93E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2702-A67A-4108-BD19-EA331C8E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CD1099-D459-49B5-AE09-F9F28998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E49370-5A33-435A-B0E3-550140B3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47AB1A-0735-420F-BF55-507D500C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F6BA75-C48C-4867-89BD-4ABE50D6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6B88CB-EE6F-4CB5-B1A8-5132D8BB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D0B00A-8436-4A2C-B915-413ADDCE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1AA5D2-C815-4B16-9FF6-7D803B02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72076D-ABC1-4256-B26F-60037CB0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CB9A2A-9C18-4F25-A558-1895822C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AB1639-6011-47A0-8D3D-13B8E2A2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10D7-22DA-48D1-8007-0A3309BA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532F-8E82-43F3-A0EF-DE07C34C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3E3D82-9CFB-4BAB-9D28-3E898B82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04FF2D-3D9A-4F23-8BBE-F0683F75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9E1ABC-C014-4CE8-889C-1B9E73FA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462187-17DE-415F-94E1-9D8CD9D0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FBDF86-245C-41E4-9793-38876FAC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6B7F4B-22BA-43C4-9A61-BF9F1D26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340DE3-5BD5-4184-8864-3DABB361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22336B-FF53-41BE-98ED-A7ADC8FC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603898-ED6C-4552-93AB-A0C3D1FC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2F7696-37D1-49A0-B2D6-30691331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9B2C-83DD-428C-B501-D12E04FD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A9D8D6-2191-4175-AD14-825A512E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B3E834-BE27-4C43-B619-AFD2EF0F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E17C7D-E6A0-464C-9930-13C2F4C3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2E856A-0D34-4AB3-B377-83E178B7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A4C3D8-8FFB-4658-95D0-9C2CC04B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41AFAF-2E3D-45C0-BD62-4152A8E5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D4EEC6-5857-41E1-ABCD-38A48696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D2B0-01A3-4EAC-95F5-5C315183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013C-9154-4753-88A3-BA6DA9F2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C30D-E18A-405B-8D34-21594B1B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54439-12D0-4A81-99C0-06397241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7DA63-EF9B-42C5-8EBB-ACB18F52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C3C3A-34A9-4F56-9A06-E80F3431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AA7D3-29DF-4465-8941-B8B2FBFA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38D61-96A2-4C00-9B69-CB1ED5ED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75FC-DAC2-47A0-A888-ECA0B746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3B6B4-C30B-4F0D-A69C-8432B2DA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24264-73AD-4028-8AA7-D91C3DB2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5795F-0657-4DBE-8DFD-47FAADDD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BDE98-7B2E-4454-B1B3-CD8C98D0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610E4-0B38-42EF-B7B8-F7031A31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7369C-8A38-4727-AC6B-1CDC77D4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21992-2D00-4B29-8F07-5ADD648B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51172-91B8-47E8-8011-E431451F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FF233-F178-4739-AFAE-D5E420C2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6770E-DFC8-4705-B6ED-4C179B52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191-729D-4D1E-9D36-4DD56E0E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E8500-C610-4704-AF3B-67DFD331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22598-AE52-4CF0-BABA-062CE3BF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F742F-7398-4F60-864A-58447951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7B940-8BFB-44E2-84E5-8B97CDF4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1000C-609C-4FF5-AF66-4F15FE21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DA5AF-BE49-41DD-B5B8-630B325F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96D29-D05C-4FBE-9786-B091F9C6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C1AF3-1840-412D-B3CB-1CE53E4E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BDA8A-DCCB-41E9-8BFA-7CF35924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D73D7-5324-475F-A44A-D6446C9D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E6EC-DB74-43E2-B5D2-A61FD7A2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C56AF-D171-43CA-9AAB-EC9C8BBE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91315-E1B6-42FF-987F-E4FE17B7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76221-4067-4211-BBB9-D8D80C7E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61B7F-A2D0-4662-AB3F-7A4B7037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2B186-FC1B-4374-99DE-01F51CA9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A0EB0-CC91-48F5-A8B9-AB2A0E12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7CFF7-A323-4D29-B281-329C6A6C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62CF0-EFDC-4584-BAB9-E1B4A303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F6A8B-F933-4E61-927A-3340DDF3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82B70-0123-43ED-9C57-B9786E3D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6DDE-13F7-4FFB-9CA9-9E6339EE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4B945-EFB7-4657-8478-051BA7EF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51580-923A-4BC5-B24E-0BAE3321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893A2-3AC1-4609-9ED6-D11C0363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3C7B2-77DE-4F48-AFB3-45F13C6B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BC7E2-47B1-441A-A720-548E7351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44CC5-211F-4B99-B48D-74BB5AD5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17DC2-A80B-4CCE-B8CC-31F0AA69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3C53E-EADB-4A41-898B-0624D86B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3290D-9C60-4EDB-9E72-F00CC50E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17396-0CB5-4D77-B68E-4C4AA8F6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740D-6A09-4DD4-A399-61C7F8ED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F6EDD-C64F-4E4B-8838-5ABFF756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D04E8-B607-4410-9378-082DF5D6C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A8137-BA80-40C5-AD8E-8BD13DCB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64617-6E63-4DAD-988A-2EF4F9B5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B1702-394F-4A7C-AEDD-80424A54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51ECB-120D-4F9C-BF46-CE06369D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311B2-1E09-4253-82E6-8FF8F664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83D9A-35AC-450F-9911-59762400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40615-A7FB-42A6-B815-3B883EEC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9D3A2-EBDB-4E1E-AF73-E07C39D7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3C9B-0A52-4C9C-8CDF-5B815A5C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E7AFB-D41F-4441-95C6-58C9289F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D8AF2-05D2-45AB-9F81-C0BD130F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88156-190B-46BE-BFB4-A2B4F7BC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A943C-F803-4864-8F5B-7F07091ED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290D2-A55C-4B87-91C4-B43F7662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AA5FD-5B36-4189-8887-69C320A9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E1C4B-7219-4E08-8A1A-B6EE889E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1BDD6-28D6-4F07-84EE-D89B6143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67D47-B9B2-46F1-B725-E119A9B5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61CB3-AA66-4612-9AE7-5202F0B8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1A6C-66F1-4A3B-9E62-339A4945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B5D9F-A415-4C11-BA3C-ACBA188D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D56C9-A60D-4D16-B7F2-CD1C6F55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830A0-8688-4301-9B77-4DB615B5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3496A-DD56-41A1-B50D-9871EFBA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905CF-86ED-465C-B2BD-14DF176D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B5022-DD6F-4508-8AB0-B032E19B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68E75-CC25-40C9-80B2-EFF4BA2E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688B9-FFBF-4588-A248-6513823F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41230-CDEF-41BB-88F2-B75DE4BB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15BD3-82C6-43AD-AA07-E2982B82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A04B8F-7388-464E-9177-30A0CEF59EF0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17"/>
          <p:cNvGrpSpPr/>
          <p:nvPr/>
        </p:nvGrpSpPr>
        <p:grpSpPr>
          <a:xfrm>
            <a:off x="45720" y="-304920"/>
            <a:ext cx="2411280" cy="3279600"/>
            <a:chOff x="45720" y="-304920"/>
            <a:chExt cx="2411280" cy="3279600"/>
          </a:xfrm>
        </p:grpSpPr>
        <p:sp>
          <p:nvSpPr>
            <p:cNvPr id="7" name="AutoShape 15"/>
            <p:cNvSpPr/>
            <p:nvPr/>
          </p:nvSpPr>
          <p:spPr>
            <a:xfrm rot="10800000">
              <a:off x="45720" y="-152280"/>
              <a:ext cx="2034360" cy="2989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" name="AutoShape 16"/>
            <p:cNvSpPr/>
            <p:nvPr/>
          </p:nvSpPr>
          <p:spPr>
            <a:xfrm rot="10800000">
              <a:off x="163080" y="-304920"/>
              <a:ext cx="2293920" cy="3279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9" name="Group 13"/>
          <p:cNvGrpSpPr/>
          <p:nvPr/>
        </p:nvGrpSpPr>
        <p:grpSpPr>
          <a:xfrm>
            <a:off x="-2081160" y="-282600"/>
            <a:ext cx="2754360" cy="3097080"/>
            <a:chOff x="-2081160" y="-282600"/>
            <a:chExt cx="2754360" cy="3097080"/>
          </a:xfrm>
        </p:grpSpPr>
        <p:sp>
          <p:nvSpPr>
            <p:cNvPr id="10" name="AutoShape 11"/>
            <p:cNvSpPr/>
            <p:nvPr/>
          </p:nvSpPr>
          <p:spPr>
            <a:xfrm>
              <a:off x="-1665360" y="-136440"/>
              <a:ext cx="2338560" cy="2822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" name="AutoShape 12"/>
            <p:cNvSpPr/>
            <p:nvPr/>
          </p:nvSpPr>
          <p:spPr>
            <a:xfrm>
              <a:off x="-2081160" y="-282600"/>
              <a:ext cx="2636280" cy="3097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1" name="Group 17"/>
          <p:cNvGrpSpPr/>
          <p:nvPr/>
        </p:nvGrpSpPr>
        <p:grpSpPr>
          <a:xfrm>
            <a:off x="45720" y="-304920"/>
            <a:ext cx="2411280" cy="3279600"/>
            <a:chOff x="45720" y="-304920"/>
            <a:chExt cx="2411280" cy="3279600"/>
          </a:xfrm>
        </p:grpSpPr>
        <p:sp>
          <p:nvSpPr>
            <p:cNvPr id="442" name="AutoShape 15"/>
            <p:cNvSpPr/>
            <p:nvPr/>
          </p:nvSpPr>
          <p:spPr>
            <a:xfrm rot="10800000">
              <a:off x="45720" y="-152280"/>
              <a:ext cx="2034360" cy="2989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43" name="AutoShape 16"/>
            <p:cNvSpPr/>
            <p:nvPr/>
          </p:nvSpPr>
          <p:spPr>
            <a:xfrm rot="10800000">
              <a:off x="163080" y="-304920"/>
              <a:ext cx="2293920" cy="3279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444" name="Group 13"/>
          <p:cNvGrpSpPr/>
          <p:nvPr/>
        </p:nvGrpSpPr>
        <p:grpSpPr>
          <a:xfrm>
            <a:off x="-2081160" y="-282600"/>
            <a:ext cx="2754360" cy="3097080"/>
            <a:chOff x="-2081160" y="-282600"/>
            <a:chExt cx="2754360" cy="3097080"/>
          </a:xfrm>
        </p:grpSpPr>
        <p:sp>
          <p:nvSpPr>
            <p:cNvPr id="445" name="AutoShape 11"/>
            <p:cNvSpPr/>
            <p:nvPr/>
          </p:nvSpPr>
          <p:spPr>
            <a:xfrm>
              <a:off x="-1665360" y="-136440"/>
              <a:ext cx="2338560" cy="2822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46" name="AutoShape 12"/>
            <p:cNvSpPr/>
            <p:nvPr/>
          </p:nvSpPr>
          <p:spPr>
            <a:xfrm>
              <a:off x="-2081160" y="-282600"/>
              <a:ext cx="2636280" cy="3097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447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2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2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F6451F-2450-427C-ABD0-3C37BBF44531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0" name="Group 17"/>
          <p:cNvGrpSpPr/>
          <p:nvPr/>
        </p:nvGrpSpPr>
        <p:grpSpPr>
          <a:xfrm>
            <a:off x="45720" y="-304920"/>
            <a:ext cx="2411280" cy="3279600"/>
            <a:chOff x="45720" y="-304920"/>
            <a:chExt cx="2411280" cy="3279600"/>
          </a:xfrm>
        </p:grpSpPr>
        <p:sp>
          <p:nvSpPr>
            <p:cNvPr id="491" name="AutoShape 15"/>
            <p:cNvSpPr/>
            <p:nvPr/>
          </p:nvSpPr>
          <p:spPr>
            <a:xfrm rot="10800000">
              <a:off x="45720" y="-152280"/>
              <a:ext cx="2034360" cy="2989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2" name="AutoShape 16"/>
            <p:cNvSpPr/>
            <p:nvPr/>
          </p:nvSpPr>
          <p:spPr>
            <a:xfrm rot="10800000">
              <a:off x="163080" y="-304920"/>
              <a:ext cx="2293920" cy="3279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493" name="Group 13"/>
          <p:cNvGrpSpPr/>
          <p:nvPr/>
        </p:nvGrpSpPr>
        <p:grpSpPr>
          <a:xfrm>
            <a:off x="-2081160" y="-282600"/>
            <a:ext cx="2754360" cy="3097080"/>
            <a:chOff x="-2081160" y="-282600"/>
            <a:chExt cx="2754360" cy="3097080"/>
          </a:xfrm>
        </p:grpSpPr>
        <p:sp>
          <p:nvSpPr>
            <p:cNvPr id="494" name="AutoShape 11"/>
            <p:cNvSpPr/>
            <p:nvPr/>
          </p:nvSpPr>
          <p:spPr>
            <a:xfrm>
              <a:off x="-1665360" y="-136440"/>
              <a:ext cx="2338560" cy="2822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5" name="AutoShape 12"/>
            <p:cNvSpPr/>
            <p:nvPr/>
          </p:nvSpPr>
          <p:spPr>
            <a:xfrm>
              <a:off x="-2081160" y="-282600"/>
              <a:ext cx="2636280" cy="3097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496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B4BEB-7107-4DEF-A941-EE3D5986B4FD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9" name="Group 17"/>
          <p:cNvGrpSpPr/>
          <p:nvPr/>
        </p:nvGrpSpPr>
        <p:grpSpPr>
          <a:xfrm>
            <a:off x="45720" y="-304920"/>
            <a:ext cx="2411280" cy="3279600"/>
            <a:chOff x="45720" y="-304920"/>
            <a:chExt cx="2411280" cy="3279600"/>
          </a:xfrm>
        </p:grpSpPr>
        <p:sp>
          <p:nvSpPr>
            <p:cNvPr id="540" name="AutoShape 15"/>
            <p:cNvSpPr/>
            <p:nvPr/>
          </p:nvSpPr>
          <p:spPr>
            <a:xfrm rot="10800000">
              <a:off x="45720" y="-152280"/>
              <a:ext cx="2034360" cy="2989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41" name="AutoShape 16"/>
            <p:cNvSpPr/>
            <p:nvPr/>
          </p:nvSpPr>
          <p:spPr>
            <a:xfrm rot="10800000">
              <a:off x="163080" y="-304920"/>
              <a:ext cx="2293920" cy="3279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542" name="Group 13"/>
          <p:cNvGrpSpPr/>
          <p:nvPr/>
        </p:nvGrpSpPr>
        <p:grpSpPr>
          <a:xfrm>
            <a:off x="-2081160" y="-282600"/>
            <a:ext cx="2754360" cy="3097080"/>
            <a:chOff x="-2081160" y="-282600"/>
            <a:chExt cx="2754360" cy="3097080"/>
          </a:xfrm>
        </p:grpSpPr>
        <p:sp>
          <p:nvSpPr>
            <p:cNvPr id="543" name="AutoShape 11"/>
            <p:cNvSpPr/>
            <p:nvPr/>
          </p:nvSpPr>
          <p:spPr>
            <a:xfrm>
              <a:off x="-1665360" y="-136440"/>
              <a:ext cx="2338560" cy="2822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44" name="AutoShape 12"/>
            <p:cNvSpPr/>
            <p:nvPr/>
          </p:nvSpPr>
          <p:spPr>
            <a:xfrm>
              <a:off x="-2081160" y="-282600"/>
              <a:ext cx="2636280" cy="3097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545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845D24-DAC5-4F1B-85E3-9A4327D2F2E3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8" name="Group 17"/>
          <p:cNvGrpSpPr/>
          <p:nvPr/>
        </p:nvGrpSpPr>
        <p:grpSpPr>
          <a:xfrm>
            <a:off x="45720" y="-304920"/>
            <a:ext cx="2411280" cy="3279600"/>
            <a:chOff x="45720" y="-304920"/>
            <a:chExt cx="2411280" cy="3279600"/>
          </a:xfrm>
        </p:grpSpPr>
        <p:sp>
          <p:nvSpPr>
            <p:cNvPr id="589" name="AutoShape 15"/>
            <p:cNvSpPr/>
            <p:nvPr/>
          </p:nvSpPr>
          <p:spPr>
            <a:xfrm rot="10800000">
              <a:off x="45720" y="-152280"/>
              <a:ext cx="2034360" cy="2989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90" name="AutoShape 16"/>
            <p:cNvSpPr/>
            <p:nvPr/>
          </p:nvSpPr>
          <p:spPr>
            <a:xfrm rot="10800000">
              <a:off x="163080" y="-304920"/>
              <a:ext cx="2293920" cy="3279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591" name="Group 13"/>
          <p:cNvGrpSpPr/>
          <p:nvPr/>
        </p:nvGrpSpPr>
        <p:grpSpPr>
          <a:xfrm>
            <a:off x="-2081160" y="-282600"/>
            <a:ext cx="2754360" cy="3097080"/>
            <a:chOff x="-2081160" y="-282600"/>
            <a:chExt cx="2754360" cy="3097080"/>
          </a:xfrm>
        </p:grpSpPr>
        <p:sp>
          <p:nvSpPr>
            <p:cNvPr id="592" name="AutoShape 11"/>
            <p:cNvSpPr/>
            <p:nvPr/>
          </p:nvSpPr>
          <p:spPr>
            <a:xfrm>
              <a:off x="-1665360" y="-136440"/>
              <a:ext cx="2338560" cy="2822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93" name="AutoShape 12"/>
            <p:cNvSpPr/>
            <p:nvPr/>
          </p:nvSpPr>
          <p:spPr>
            <a:xfrm>
              <a:off x="-2081160" y="-282600"/>
              <a:ext cx="2636280" cy="3097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594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TextBox 14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6" name="TextBox 15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1A040E-D78B-41BD-97AA-CD45934D6617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9" name="Group 17"/>
          <p:cNvGrpSpPr/>
          <p:nvPr/>
        </p:nvGrpSpPr>
        <p:grpSpPr>
          <a:xfrm>
            <a:off x="45720" y="-304920"/>
            <a:ext cx="2411280" cy="3279600"/>
            <a:chOff x="45720" y="-304920"/>
            <a:chExt cx="2411280" cy="3279600"/>
          </a:xfrm>
        </p:grpSpPr>
        <p:sp>
          <p:nvSpPr>
            <p:cNvPr id="640" name="AutoShape 15"/>
            <p:cNvSpPr/>
            <p:nvPr/>
          </p:nvSpPr>
          <p:spPr>
            <a:xfrm rot="10800000">
              <a:off x="45720" y="-152280"/>
              <a:ext cx="2034360" cy="2989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1" name="AutoShape 16"/>
            <p:cNvSpPr/>
            <p:nvPr/>
          </p:nvSpPr>
          <p:spPr>
            <a:xfrm rot="10800000">
              <a:off x="163080" y="-304920"/>
              <a:ext cx="2293920" cy="3279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642" name="Group 13"/>
          <p:cNvGrpSpPr/>
          <p:nvPr/>
        </p:nvGrpSpPr>
        <p:grpSpPr>
          <a:xfrm>
            <a:off x="-2081160" y="-282600"/>
            <a:ext cx="2754360" cy="3097080"/>
            <a:chOff x="-2081160" y="-282600"/>
            <a:chExt cx="2754360" cy="3097080"/>
          </a:xfrm>
        </p:grpSpPr>
        <p:sp>
          <p:nvSpPr>
            <p:cNvPr id="643" name="AutoShape 11"/>
            <p:cNvSpPr/>
            <p:nvPr/>
          </p:nvSpPr>
          <p:spPr>
            <a:xfrm>
              <a:off x="-1665360" y="-136440"/>
              <a:ext cx="2338560" cy="2822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4" name="AutoShape 12"/>
            <p:cNvSpPr/>
            <p:nvPr/>
          </p:nvSpPr>
          <p:spPr>
            <a:xfrm>
              <a:off x="-2081160" y="-282600"/>
              <a:ext cx="2636280" cy="3097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645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FF8502-86AB-4D52-905A-8EE105E97BC5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88" name="Group 17"/>
          <p:cNvGrpSpPr/>
          <p:nvPr/>
        </p:nvGrpSpPr>
        <p:grpSpPr>
          <a:xfrm>
            <a:off x="45720" y="-304920"/>
            <a:ext cx="2411280" cy="3279600"/>
            <a:chOff x="45720" y="-304920"/>
            <a:chExt cx="2411280" cy="3279600"/>
          </a:xfrm>
        </p:grpSpPr>
        <p:sp>
          <p:nvSpPr>
            <p:cNvPr id="689" name="AutoShape 15"/>
            <p:cNvSpPr/>
            <p:nvPr/>
          </p:nvSpPr>
          <p:spPr>
            <a:xfrm rot="10800000">
              <a:off x="45720" y="-152280"/>
              <a:ext cx="2034360" cy="2989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0" name="AutoShape 16"/>
            <p:cNvSpPr/>
            <p:nvPr/>
          </p:nvSpPr>
          <p:spPr>
            <a:xfrm rot="10800000">
              <a:off x="163080" y="-304920"/>
              <a:ext cx="2293920" cy="3279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691" name="Group 13"/>
          <p:cNvGrpSpPr/>
          <p:nvPr/>
        </p:nvGrpSpPr>
        <p:grpSpPr>
          <a:xfrm>
            <a:off x="-2081160" y="-282600"/>
            <a:ext cx="2754360" cy="3097080"/>
            <a:chOff x="-2081160" y="-282600"/>
            <a:chExt cx="2754360" cy="3097080"/>
          </a:xfrm>
        </p:grpSpPr>
        <p:sp>
          <p:nvSpPr>
            <p:cNvPr id="692" name="AutoShape 11"/>
            <p:cNvSpPr/>
            <p:nvPr/>
          </p:nvSpPr>
          <p:spPr>
            <a:xfrm>
              <a:off x="-1665360" y="-136440"/>
              <a:ext cx="2338560" cy="2822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3" name="AutoShape 12"/>
            <p:cNvSpPr/>
            <p:nvPr/>
          </p:nvSpPr>
          <p:spPr>
            <a:xfrm>
              <a:off x="-2081160" y="-282600"/>
              <a:ext cx="2636280" cy="3097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694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2679AE-0FDC-44A4-8A7E-7D334B66A881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7" name="Group 17"/>
          <p:cNvGrpSpPr/>
          <p:nvPr/>
        </p:nvGrpSpPr>
        <p:grpSpPr>
          <a:xfrm>
            <a:off x="45720" y="-304920"/>
            <a:ext cx="2411280" cy="3279600"/>
            <a:chOff x="45720" y="-304920"/>
            <a:chExt cx="2411280" cy="3279600"/>
          </a:xfrm>
        </p:grpSpPr>
        <p:sp>
          <p:nvSpPr>
            <p:cNvPr id="738" name="AutoShape 15"/>
            <p:cNvSpPr/>
            <p:nvPr/>
          </p:nvSpPr>
          <p:spPr>
            <a:xfrm rot="10800000">
              <a:off x="45720" y="-152280"/>
              <a:ext cx="2034360" cy="2989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39" name="AutoShape 16"/>
            <p:cNvSpPr/>
            <p:nvPr/>
          </p:nvSpPr>
          <p:spPr>
            <a:xfrm rot="10800000">
              <a:off x="163080" y="-304920"/>
              <a:ext cx="2293920" cy="3279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740" name="Group 13"/>
          <p:cNvGrpSpPr/>
          <p:nvPr/>
        </p:nvGrpSpPr>
        <p:grpSpPr>
          <a:xfrm>
            <a:off x="-2081160" y="-282600"/>
            <a:ext cx="2754360" cy="3097080"/>
            <a:chOff x="-2081160" y="-282600"/>
            <a:chExt cx="2754360" cy="3097080"/>
          </a:xfrm>
        </p:grpSpPr>
        <p:sp>
          <p:nvSpPr>
            <p:cNvPr id="741" name="AutoShape 11"/>
            <p:cNvSpPr/>
            <p:nvPr/>
          </p:nvSpPr>
          <p:spPr>
            <a:xfrm>
              <a:off x="-1665360" y="-136440"/>
              <a:ext cx="2338560" cy="2822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42" name="AutoShape 12"/>
            <p:cNvSpPr/>
            <p:nvPr/>
          </p:nvSpPr>
          <p:spPr>
            <a:xfrm>
              <a:off x="-2081160" y="-282600"/>
              <a:ext cx="2636280" cy="3097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743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dt" idx="4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ftr" idx="4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 type="sldNum" idx="4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863708-0750-4EFD-934D-BD379E13656E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86" name="Group 17"/>
          <p:cNvGrpSpPr/>
          <p:nvPr/>
        </p:nvGrpSpPr>
        <p:grpSpPr>
          <a:xfrm>
            <a:off x="45720" y="-304920"/>
            <a:ext cx="2411280" cy="3279600"/>
            <a:chOff x="45720" y="-304920"/>
            <a:chExt cx="2411280" cy="3279600"/>
          </a:xfrm>
        </p:grpSpPr>
        <p:sp>
          <p:nvSpPr>
            <p:cNvPr id="787" name="AutoShape 15"/>
            <p:cNvSpPr/>
            <p:nvPr/>
          </p:nvSpPr>
          <p:spPr>
            <a:xfrm rot="10800000">
              <a:off x="45720" y="-152280"/>
              <a:ext cx="2034360" cy="2989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88" name="AutoShape 16"/>
            <p:cNvSpPr/>
            <p:nvPr/>
          </p:nvSpPr>
          <p:spPr>
            <a:xfrm rot="10800000">
              <a:off x="163080" y="-304920"/>
              <a:ext cx="2293920" cy="3279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789" name="Group 13"/>
          <p:cNvGrpSpPr/>
          <p:nvPr/>
        </p:nvGrpSpPr>
        <p:grpSpPr>
          <a:xfrm>
            <a:off x="-2081160" y="-282600"/>
            <a:ext cx="2754360" cy="3097080"/>
            <a:chOff x="-2081160" y="-282600"/>
            <a:chExt cx="2754360" cy="3097080"/>
          </a:xfrm>
        </p:grpSpPr>
        <p:sp>
          <p:nvSpPr>
            <p:cNvPr id="790" name="AutoShape 11"/>
            <p:cNvSpPr/>
            <p:nvPr/>
          </p:nvSpPr>
          <p:spPr>
            <a:xfrm>
              <a:off x="-1665360" y="-136440"/>
              <a:ext cx="2338560" cy="2822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91" name="AutoShape 12"/>
            <p:cNvSpPr/>
            <p:nvPr/>
          </p:nvSpPr>
          <p:spPr>
            <a:xfrm>
              <a:off x="-2081160" y="-282600"/>
              <a:ext cx="2636280" cy="3097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792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4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5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5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42ADA0-979C-4B75-ACAE-1BDAEFD55C87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5" name="Group 17"/>
          <p:cNvGrpSpPr/>
          <p:nvPr/>
        </p:nvGrpSpPr>
        <p:grpSpPr>
          <a:xfrm>
            <a:off x="45720" y="-304920"/>
            <a:ext cx="2411280" cy="3279600"/>
            <a:chOff x="45720" y="-304920"/>
            <a:chExt cx="2411280" cy="3279600"/>
          </a:xfrm>
        </p:grpSpPr>
        <p:sp>
          <p:nvSpPr>
            <p:cNvPr id="836" name="AutoShape 15"/>
            <p:cNvSpPr/>
            <p:nvPr/>
          </p:nvSpPr>
          <p:spPr>
            <a:xfrm rot="10800000">
              <a:off x="45720" y="-152280"/>
              <a:ext cx="2034360" cy="2989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7" name="AutoShape 16"/>
            <p:cNvSpPr/>
            <p:nvPr/>
          </p:nvSpPr>
          <p:spPr>
            <a:xfrm rot="10800000">
              <a:off x="163080" y="-304920"/>
              <a:ext cx="2293920" cy="3279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838" name="Group 13"/>
          <p:cNvGrpSpPr/>
          <p:nvPr/>
        </p:nvGrpSpPr>
        <p:grpSpPr>
          <a:xfrm>
            <a:off x="-2081160" y="-282600"/>
            <a:ext cx="2754360" cy="3097080"/>
            <a:chOff x="-2081160" y="-282600"/>
            <a:chExt cx="2754360" cy="3097080"/>
          </a:xfrm>
        </p:grpSpPr>
        <p:sp>
          <p:nvSpPr>
            <p:cNvPr id="839" name="AutoShape 11"/>
            <p:cNvSpPr/>
            <p:nvPr/>
          </p:nvSpPr>
          <p:spPr>
            <a:xfrm>
              <a:off x="-1665360" y="-136440"/>
              <a:ext cx="2338560" cy="2822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0" name="AutoShape 12"/>
            <p:cNvSpPr/>
            <p:nvPr/>
          </p:nvSpPr>
          <p:spPr>
            <a:xfrm>
              <a:off x="-2081160" y="-282600"/>
              <a:ext cx="2636280" cy="3097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841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5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5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5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F644BC-9AF6-4F71-8773-6CC2DD70AC70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7"/>
          <p:cNvGrpSpPr/>
          <p:nvPr/>
        </p:nvGrpSpPr>
        <p:grpSpPr>
          <a:xfrm>
            <a:off x="45720" y="-304920"/>
            <a:ext cx="2411280" cy="3279600"/>
            <a:chOff x="45720" y="-304920"/>
            <a:chExt cx="2411280" cy="3279600"/>
          </a:xfrm>
        </p:grpSpPr>
        <p:sp>
          <p:nvSpPr>
            <p:cNvPr id="50" name="AutoShape 15"/>
            <p:cNvSpPr/>
            <p:nvPr/>
          </p:nvSpPr>
          <p:spPr>
            <a:xfrm rot="10800000">
              <a:off x="45720" y="-152280"/>
              <a:ext cx="2034360" cy="2989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1" name="AutoShape 16"/>
            <p:cNvSpPr/>
            <p:nvPr/>
          </p:nvSpPr>
          <p:spPr>
            <a:xfrm rot="10800000">
              <a:off x="163080" y="-304920"/>
              <a:ext cx="2293920" cy="3279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52" name="Group 13"/>
          <p:cNvGrpSpPr/>
          <p:nvPr/>
        </p:nvGrpSpPr>
        <p:grpSpPr>
          <a:xfrm>
            <a:off x="-2081160" y="-282600"/>
            <a:ext cx="2754360" cy="3097080"/>
            <a:chOff x="-2081160" y="-282600"/>
            <a:chExt cx="2754360" cy="3097080"/>
          </a:xfrm>
        </p:grpSpPr>
        <p:sp>
          <p:nvSpPr>
            <p:cNvPr id="53" name="AutoShape 11"/>
            <p:cNvSpPr/>
            <p:nvPr/>
          </p:nvSpPr>
          <p:spPr>
            <a:xfrm>
              <a:off x="-1665360" y="-136440"/>
              <a:ext cx="2338560" cy="2822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4" name="AutoShape 12"/>
            <p:cNvSpPr/>
            <p:nvPr/>
          </p:nvSpPr>
          <p:spPr>
            <a:xfrm>
              <a:off x="-2081160" y="-282600"/>
              <a:ext cx="2636280" cy="3097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55" name="Picture 13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418E04-30FF-4597-B8AE-4031F31E4C3A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17"/>
          <p:cNvGrpSpPr/>
          <p:nvPr/>
        </p:nvGrpSpPr>
        <p:grpSpPr>
          <a:xfrm>
            <a:off x="45720" y="-304920"/>
            <a:ext cx="2411280" cy="3279600"/>
            <a:chOff x="45720" y="-304920"/>
            <a:chExt cx="2411280" cy="3279600"/>
          </a:xfrm>
        </p:grpSpPr>
        <p:sp>
          <p:nvSpPr>
            <p:cNvPr id="99" name="AutoShape 15"/>
            <p:cNvSpPr/>
            <p:nvPr/>
          </p:nvSpPr>
          <p:spPr>
            <a:xfrm rot="10800000">
              <a:off x="45720" y="-152280"/>
              <a:ext cx="2034360" cy="2989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0" name="AutoShape 16"/>
            <p:cNvSpPr/>
            <p:nvPr/>
          </p:nvSpPr>
          <p:spPr>
            <a:xfrm rot="10800000">
              <a:off x="163080" y="-304920"/>
              <a:ext cx="2293920" cy="3279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101" name="Group 13"/>
          <p:cNvGrpSpPr/>
          <p:nvPr/>
        </p:nvGrpSpPr>
        <p:grpSpPr>
          <a:xfrm>
            <a:off x="-2081160" y="-282600"/>
            <a:ext cx="2754360" cy="3097080"/>
            <a:chOff x="-2081160" y="-282600"/>
            <a:chExt cx="2754360" cy="3097080"/>
          </a:xfrm>
        </p:grpSpPr>
        <p:sp>
          <p:nvSpPr>
            <p:cNvPr id="102" name="AutoShape 11"/>
            <p:cNvSpPr/>
            <p:nvPr/>
          </p:nvSpPr>
          <p:spPr>
            <a:xfrm>
              <a:off x="-1665360" y="-136440"/>
              <a:ext cx="2338560" cy="2822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3" name="AutoShape 12"/>
            <p:cNvSpPr/>
            <p:nvPr/>
          </p:nvSpPr>
          <p:spPr>
            <a:xfrm>
              <a:off x="-2081160" y="-282600"/>
              <a:ext cx="2636280" cy="3097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104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546274-2037-4B7F-8811-2128A13E22A8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17"/>
          <p:cNvGrpSpPr/>
          <p:nvPr/>
        </p:nvGrpSpPr>
        <p:grpSpPr>
          <a:xfrm>
            <a:off x="45720" y="-304920"/>
            <a:ext cx="2411280" cy="3279600"/>
            <a:chOff x="45720" y="-304920"/>
            <a:chExt cx="2411280" cy="3279600"/>
          </a:xfrm>
        </p:grpSpPr>
        <p:sp>
          <p:nvSpPr>
            <p:cNvPr id="148" name="AutoShape 15"/>
            <p:cNvSpPr/>
            <p:nvPr/>
          </p:nvSpPr>
          <p:spPr>
            <a:xfrm rot="10800000">
              <a:off x="45720" y="-152280"/>
              <a:ext cx="2034360" cy="2989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49" name="AutoShape 16"/>
            <p:cNvSpPr/>
            <p:nvPr/>
          </p:nvSpPr>
          <p:spPr>
            <a:xfrm rot="10800000">
              <a:off x="163080" y="-304920"/>
              <a:ext cx="2293920" cy="3279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150" name="Group 13"/>
          <p:cNvGrpSpPr/>
          <p:nvPr/>
        </p:nvGrpSpPr>
        <p:grpSpPr>
          <a:xfrm>
            <a:off x="-2081160" y="-282600"/>
            <a:ext cx="2754360" cy="3097080"/>
            <a:chOff x="-2081160" y="-282600"/>
            <a:chExt cx="2754360" cy="3097080"/>
          </a:xfrm>
        </p:grpSpPr>
        <p:sp>
          <p:nvSpPr>
            <p:cNvPr id="151" name="AutoShape 11"/>
            <p:cNvSpPr/>
            <p:nvPr/>
          </p:nvSpPr>
          <p:spPr>
            <a:xfrm>
              <a:off x="-1665360" y="-136440"/>
              <a:ext cx="2338560" cy="2822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52" name="AutoShape 12"/>
            <p:cNvSpPr/>
            <p:nvPr/>
          </p:nvSpPr>
          <p:spPr>
            <a:xfrm>
              <a:off x="-2081160" y="-282600"/>
              <a:ext cx="2636280" cy="3097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153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35B033-9ADD-4636-9903-79350F12FB67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17"/>
          <p:cNvGrpSpPr/>
          <p:nvPr/>
        </p:nvGrpSpPr>
        <p:grpSpPr>
          <a:xfrm>
            <a:off x="45720" y="-304920"/>
            <a:ext cx="2411280" cy="3279600"/>
            <a:chOff x="45720" y="-304920"/>
            <a:chExt cx="2411280" cy="3279600"/>
          </a:xfrm>
        </p:grpSpPr>
        <p:sp>
          <p:nvSpPr>
            <p:cNvPr id="197" name="AutoShape 15"/>
            <p:cNvSpPr/>
            <p:nvPr/>
          </p:nvSpPr>
          <p:spPr>
            <a:xfrm rot="10800000">
              <a:off x="45720" y="-152280"/>
              <a:ext cx="2034360" cy="2989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98" name="AutoShape 16"/>
            <p:cNvSpPr/>
            <p:nvPr/>
          </p:nvSpPr>
          <p:spPr>
            <a:xfrm rot="10800000">
              <a:off x="163080" y="-304920"/>
              <a:ext cx="2293920" cy="3279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199" name="Group 13"/>
          <p:cNvGrpSpPr/>
          <p:nvPr/>
        </p:nvGrpSpPr>
        <p:grpSpPr>
          <a:xfrm>
            <a:off x="-2081160" y="-282600"/>
            <a:ext cx="2754360" cy="3097080"/>
            <a:chOff x="-2081160" y="-282600"/>
            <a:chExt cx="2754360" cy="3097080"/>
          </a:xfrm>
        </p:grpSpPr>
        <p:sp>
          <p:nvSpPr>
            <p:cNvPr id="200" name="AutoShape 11"/>
            <p:cNvSpPr/>
            <p:nvPr/>
          </p:nvSpPr>
          <p:spPr>
            <a:xfrm>
              <a:off x="-1665360" y="-136440"/>
              <a:ext cx="2338560" cy="2822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01" name="AutoShape 12"/>
            <p:cNvSpPr/>
            <p:nvPr/>
          </p:nvSpPr>
          <p:spPr>
            <a:xfrm>
              <a:off x="-2081160" y="-282600"/>
              <a:ext cx="2636280" cy="3097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202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80776-B504-4628-A004-2DBA5DC788B0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17"/>
          <p:cNvGrpSpPr/>
          <p:nvPr/>
        </p:nvGrpSpPr>
        <p:grpSpPr>
          <a:xfrm>
            <a:off x="45720" y="-304920"/>
            <a:ext cx="2411280" cy="3279600"/>
            <a:chOff x="45720" y="-304920"/>
            <a:chExt cx="2411280" cy="3279600"/>
          </a:xfrm>
        </p:grpSpPr>
        <p:sp>
          <p:nvSpPr>
            <p:cNvPr id="246" name="AutoShape 15"/>
            <p:cNvSpPr/>
            <p:nvPr/>
          </p:nvSpPr>
          <p:spPr>
            <a:xfrm rot="10800000">
              <a:off x="45720" y="-152280"/>
              <a:ext cx="2034360" cy="2989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47" name="AutoShape 16"/>
            <p:cNvSpPr/>
            <p:nvPr/>
          </p:nvSpPr>
          <p:spPr>
            <a:xfrm rot="10800000">
              <a:off x="163080" y="-304920"/>
              <a:ext cx="2293920" cy="3279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248" name="Group 13"/>
          <p:cNvGrpSpPr/>
          <p:nvPr/>
        </p:nvGrpSpPr>
        <p:grpSpPr>
          <a:xfrm>
            <a:off x="-2081160" y="-282600"/>
            <a:ext cx="2754360" cy="3097080"/>
            <a:chOff x="-2081160" y="-282600"/>
            <a:chExt cx="2754360" cy="3097080"/>
          </a:xfrm>
        </p:grpSpPr>
        <p:sp>
          <p:nvSpPr>
            <p:cNvPr id="249" name="AutoShape 11"/>
            <p:cNvSpPr/>
            <p:nvPr/>
          </p:nvSpPr>
          <p:spPr>
            <a:xfrm>
              <a:off x="-1665360" y="-136440"/>
              <a:ext cx="2338560" cy="2822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50" name="AutoShape 12"/>
            <p:cNvSpPr/>
            <p:nvPr/>
          </p:nvSpPr>
          <p:spPr>
            <a:xfrm>
              <a:off x="-2081160" y="-282600"/>
              <a:ext cx="2636280" cy="3097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251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9B91D3-FD73-4457-9329-E749DCC97A0F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94" name="Group 17"/>
          <p:cNvGrpSpPr/>
          <p:nvPr/>
        </p:nvGrpSpPr>
        <p:grpSpPr>
          <a:xfrm>
            <a:off x="45720" y="-304920"/>
            <a:ext cx="2411280" cy="3279600"/>
            <a:chOff x="45720" y="-304920"/>
            <a:chExt cx="2411280" cy="3279600"/>
          </a:xfrm>
        </p:grpSpPr>
        <p:sp>
          <p:nvSpPr>
            <p:cNvPr id="295" name="AutoShape 15"/>
            <p:cNvSpPr/>
            <p:nvPr/>
          </p:nvSpPr>
          <p:spPr>
            <a:xfrm rot="10800000">
              <a:off x="45720" y="-152280"/>
              <a:ext cx="2034360" cy="2989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6" name="AutoShape 16"/>
            <p:cNvSpPr/>
            <p:nvPr/>
          </p:nvSpPr>
          <p:spPr>
            <a:xfrm rot="10800000">
              <a:off x="163080" y="-304920"/>
              <a:ext cx="2293920" cy="3279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297" name="Group 13"/>
          <p:cNvGrpSpPr/>
          <p:nvPr/>
        </p:nvGrpSpPr>
        <p:grpSpPr>
          <a:xfrm>
            <a:off x="-2081160" y="-282600"/>
            <a:ext cx="2754360" cy="3097080"/>
            <a:chOff x="-2081160" y="-282600"/>
            <a:chExt cx="2754360" cy="3097080"/>
          </a:xfrm>
        </p:grpSpPr>
        <p:sp>
          <p:nvSpPr>
            <p:cNvPr id="298" name="AutoShape 11"/>
            <p:cNvSpPr/>
            <p:nvPr/>
          </p:nvSpPr>
          <p:spPr>
            <a:xfrm>
              <a:off x="-1665360" y="-136440"/>
              <a:ext cx="2338560" cy="2822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9" name="AutoShape 12"/>
            <p:cNvSpPr/>
            <p:nvPr/>
          </p:nvSpPr>
          <p:spPr>
            <a:xfrm>
              <a:off x="-2081160" y="-282600"/>
              <a:ext cx="2636280" cy="3097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300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D770A5-E5EA-4A57-86FE-298BA6265823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17"/>
          <p:cNvGrpSpPr/>
          <p:nvPr/>
        </p:nvGrpSpPr>
        <p:grpSpPr>
          <a:xfrm>
            <a:off x="45720" y="-304920"/>
            <a:ext cx="2411280" cy="3279600"/>
            <a:chOff x="45720" y="-304920"/>
            <a:chExt cx="2411280" cy="3279600"/>
          </a:xfrm>
        </p:grpSpPr>
        <p:sp>
          <p:nvSpPr>
            <p:cNvPr id="344" name="AutoShape 15"/>
            <p:cNvSpPr/>
            <p:nvPr/>
          </p:nvSpPr>
          <p:spPr>
            <a:xfrm rot="10800000">
              <a:off x="45720" y="-152280"/>
              <a:ext cx="2034360" cy="2989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45" name="AutoShape 16"/>
            <p:cNvSpPr/>
            <p:nvPr/>
          </p:nvSpPr>
          <p:spPr>
            <a:xfrm rot="10800000">
              <a:off x="163080" y="-304920"/>
              <a:ext cx="2293920" cy="3279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346" name="Group 13"/>
          <p:cNvGrpSpPr/>
          <p:nvPr/>
        </p:nvGrpSpPr>
        <p:grpSpPr>
          <a:xfrm>
            <a:off x="-2081160" y="-282600"/>
            <a:ext cx="2754360" cy="3097080"/>
            <a:chOff x="-2081160" y="-282600"/>
            <a:chExt cx="2754360" cy="3097080"/>
          </a:xfrm>
        </p:grpSpPr>
        <p:sp>
          <p:nvSpPr>
            <p:cNvPr id="347" name="AutoShape 11"/>
            <p:cNvSpPr/>
            <p:nvPr/>
          </p:nvSpPr>
          <p:spPr>
            <a:xfrm>
              <a:off x="-1665360" y="-136440"/>
              <a:ext cx="2338560" cy="2822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48" name="AutoShape 12"/>
            <p:cNvSpPr/>
            <p:nvPr/>
          </p:nvSpPr>
          <p:spPr>
            <a:xfrm>
              <a:off x="-2081160" y="-282600"/>
              <a:ext cx="2636280" cy="3097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349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0FED10-C64D-4DC5-80B8-3B9108506230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92" name="Group 17"/>
          <p:cNvGrpSpPr/>
          <p:nvPr/>
        </p:nvGrpSpPr>
        <p:grpSpPr>
          <a:xfrm>
            <a:off x="45720" y="-304920"/>
            <a:ext cx="2411280" cy="3279600"/>
            <a:chOff x="45720" y="-304920"/>
            <a:chExt cx="2411280" cy="3279600"/>
          </a:xfrm>
        </p:grpSpPr>
        <p:sp>
          <p:nvSpPr>
            <p:cNvPr id="393" name="AutoShape 15"/>
            <p:cNvSpPr/>
            <p:nvPr/>
          </p:nvSpPr>
          <p:spPr>
            <a:xfrm rot="10800000">
              <a:off x="45720" y="-152280"/>
              <a:ext cx="2034360" cy="2989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4" name="AutoShape 16"/>
            <p:cNvSpPr/>
            <p:nvPr/>
          </p:nvSpPr>
          <p:spPr>
            <a:xfrm rot="10800000">
              <a:off x="163080" y="-304920"/>
              <a:ext cx="2293920" cy="3279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395" name="Group 13"/>
          <p:cNvGrpSpPr/>
          <p:nvPr/>
        </p:nvGrpSpPr>
        <p:grpSpPr>
          <a:xfrm>
            <a:off x="-2081160" y="-282600"/>
            <a:ext cx="2754360" cy="3097080"/>
            <a:chOff x="-2081160" y="-282600"/>
            <a:chExt cx="2754360" cy="3097080"/>
          </a:xfrm>
        </p:grpSpPr>
        <p:sp>
          <p:nvSpPr>
            <p:cNvPr id="396" name="AutoShape 11"/>
            <p:cNvSpPr/>
            <p:nvPr/>
          </p:nvSpPr>
          <p:spPr>
            <a:xfrm>
              <a:off x="-1665360" y="-136440"/>
              <a:ext cx="2338560" cy="2822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7" name="AutoShape 12"/>
            <p:cNvSpPr/>
            <p:nvPr/>
          </p:nvSpPr>
          <p:spPr>
            <a:xfrm>
              <a:off x="-2081160" y="-282600"/>
              <a:ext cx="2636280" cy="3097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2fa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398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67B055-908E-4685-BA1F-05394575C643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Text Box 30"/>
          <p:cNvSpPr/>
          <p:nvPr/>
        </p:nvSpPr>
        <p:spPr>
          <a:xfrm>
            <a:off x="777960" y="115920"/>
            <a:ext cx="789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1600" spc="-1" strike="noStrike">
                <a:solidFill>
                  <a:srgbClr val="002060"/>
                </a:solidFill>
                <a:latin typeface="Arial"/>
                <a:ea typeface="Arial"/>
              </a:rPr>
              <a:t>T.C.</a:t>
            </a:r>
            <a:br>
              <a:rPr sz="1600"/>
            </a:br>
            <a:r>
              <a:rPr b="1" lang="tr-TR" sz="1600" spc="-1" strike="noStrike">
                <a:solidFill>
                  <a:srgbClr val="002060"/>
                </a:solidFill>
                <a:latin typeface="Arial"/>
                <a:ea typeface="Arial"/>
              </a:rPr>
              <a:t>KASTAMONU ÜNİVERSİTESİ</a:t>
            </a:r>
            <a:br>
              <a:rPr sz="1600"/>
            </a:br>
            <a:r>
              <a:rPr b="1" lang="tr-TR" sz="1600" spc="-1" strike="noStrike">
                <a:solidFill>
                  <a:srgbClr val="002060"/>
                </a:solidFill>
                <a:latin typeface="Arial"/>
                <a:ea typeface="Arial"/>
              </a:rPr>
              <a:t>TAŞKÖPRÜ MYO</a:t>
            </a:r>
            <a:br>
              <a:rPr sz="1600"/>
            </a:br>
            <a:r>
              <a:rPr b="1" lang="tr-TR" sz="1600" spc="-1" strike="noStrike">
                <a:solidFill>
                  <a:srgbClr val="002060"/>
                </a:solidFill>
                <a:latin typeface="Arial"/>
                <a:ea typeface="Arial"/>
              </a:rPr>
              <a:t>BİLGİSAYAR PROGRAMCILIĞI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4" name="Text Box 31"/>
          <p:cNvSpPr/>
          <p:nvPr/>
        </p:nvSpPr>
        <p:spPr>
          <a:xfrm>
            <a:off x="3141720" y="429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1800" spc="-1" strike="noStrike">
                <a:solidFill>
                  <a:srgbClr val="002060"/>
                </a:solidFill>
                <a:latin typeface="Arial"/>
                <a:ea typeface="Arial"/>
              </a:rPr>
              <a:t>Öğr. Gör. Sevdanur GENÇ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5" name="Text Box 32"/>
          <p:cNvSpPr/>
          <p:nvPr/>
        </p:nvSpPr>
        <p:spPr>
          <a:xfrm>
            <a:off x="250920" y="242100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b46a32"/>
                </a:solidFill>
                <a:latin typeface="Arial"/>
                <a:ea typeface="Arial"/>
              </a:rPr>
              <a:t>İnternet Programcılığı - I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6" name="Text Box 33"/>
          <p:cNvSpPr/>
          <p:nvPr/>
        </p:nvSpPr>
        <p:spPr>
          <a:xfrm>
            <a:off x="3286080" y="537372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1600" spc="-1" strike="noStrike">
                <a:solidFill>
                  <a:srgbClr val="002060"/>
                </a:solidFill>
                <a:latin typeface="Arial"/>
                <a:ea typeface="Arial"/>
              </a:rPr>
              <a:t>Kastamonu, 2017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7" name="Text Box 31"/>
          <p:cNvSpPr/>
          <p:nvPr/>
        </p:nvSpPr>
        <p:spPr>
          <a:xfrm>
            <a:off x="3538440" y="474804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s</a:t>
            </a:r>
            <a:r>
              <a:rPr b="1" lang="tr-TR" sz="1400" spc="-1" strike="noStrike">
                <a:solidFill>
                  <a:srgbClr val="002060"/>
                </a:solidFill>
                <a:latin typeface="Arial"/>
                <a:ea typeface="Arial"/>
              </a:rPr>
              <a:t>genc</a:t>
            </a: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@kastamonu.edu.tr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8" name="Text Box 32"/>
          <p:cNvSpPr/>
          <p:nvPr/>
        </p:nvSpPr>
        <p:spPr>
          <a:xfrm>
            <a:off x="684360" y="345744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1800" spc="-1" strike="noStrike">
                <a:solidFill>
                  <a:srgbClr val="107ec6"/>
                </a:solidFill>
                <a:latin typeface="Arial"/>
                <a:ea typeface="Arial"/>
              </a:rPr>
              <a:t>4. Bölü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685800" y="234936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915" name="Picture 3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8673840" cy="6721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Tw Cen MT"/>
              </a:rPr>
              <a:t>VERİ BUL EKRANI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917" name="Content Placeholder 4" descr=""/>
          <p:cNvPicPr/>
          <p:nvPr/>
        </p:nvPicPr>
        <p:blipFill>
          <a:blip r:embed="rId1"/>
          <a:stretch/>
        </p:blipFill>
        <p:spPr>
          <a:xfrm>
            <a:off x="2376360" y="3689280"/>
            <a:ext cx="4391280" cy="312444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3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8785440" cy="1754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Picture 3" descr=""/>
          <p:cNvPicPr/>
          <p:nvPr/>
        </p:nvPicPr>
        <p:blipFill>
          <a:blip r:embed="rId1"/>
          <a:stretch/>
        </p:blipFill>
        <p:spPr>
          <a:xfrm>
            <a:off x="34920" y="260280"/>
            <a:ext cx="8893080" cy="194472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4" descr=""/>
          <p:cNvPicPr/>
          <p:nvPr/>
        </p:nvPicPr>
        <p:blipFill>
          <a:blip r:embed="rId2"/>
          <a:stretch/>
        </p:blipFill>
        <p:spPr>
          <a:xfrm>
            <a:off x="755640" y="2243160"/>
            <a:ext cx="7596360" cy="4592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Tw Cen MT"/>
              </a:rPr>
              <a:t>VERİ EKLE EKRANI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922" name="Picture 3" descr=""/>
          <p:cNvPicPr/>
          <p:nvPr/>
        </p:nvPicPr>
        <p:blipFill>
          <a:blip r:embed="rId1"/>
          <a:stretch/>
        </p:blipFill>
        <p:spPr>
          <a:xfrm>
            <a:off x="165240" y="1773360"/>
            <a:ext cx="8812080" cy="25192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5" descr=""/>
          <p:cNvPicPr/>
          <p:nvPr/>
        </p:nvPicPr>
        <p:blipFill>
          <a:blip r:embed="rId2"/>
          <a:stretch/>
        </p:blipFill>
        <p:spPr>
          <a:xfrm>
            <a:off x="165240" y="4365720"/>
            <a:ext cx="8858160" cy="2438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Picture 4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840720" cy="486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Tw Cen MT"/>
              </a:rPr>
              <a:t>VERİ GÜNCELLEME EKRANI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927" name="Picture 4" descr=""/>
          <p:cNvPicPr/>
          <p:nvPr/>
        </p:nvPicPr>
        <p:blipFill>
          <a:blip r:embed="rId1"/>
          <a:stretch/>
        </p:blipFill>
        <p:spPr>
          <a:xfrm>
            <a:off x="0" y="2387520"/>
            <a:ext cx="9144000" cy="2082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Picture 4" descr=""/>
          <p:cNvPicPr/>
          <p:nvPr/>
        </p:nvPicPr>
        <p:blipFill>
          <a:blip r:embed="rId1"/>
          <a:stretch/>
        </p:blipFill>
        <p:spPr>
          <a:xfrm>
            <a:off x="-23760" y="1916280"/>
            <a:ext cx="9144000" cy="3433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Tw Cen MT"/>
              </a:rPr>
              <a:t>VERİ LİSTELEME EKRANI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931" name="Picture 4" descr=""/>
          <p:cNvPicPr/>
          <p:nvPr/>
        </p:nvPicPr>
        <p:blipFill>
          <a:blip r:embed="rId1"/>
          <a:stretch/>
        </p:blipFill>
        <p:spPr>
          <a:xfrm>
            <a:off x="0" y="2214720"/>
            <a:ext cx="9144000" cy="2406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934" name="Picture 3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Tw Cen MT"/>
              </a:rPr>
              <a:t>VERİ SİL EKRANI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936" name="Picture 3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1747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AJANDA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685800" y="1989000"/>
            <a:ext cx="79185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w Cen MT"/>
              </a:rPr>
              <a:t>ASP.NET UYGULAMA GELİŞTİRM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w Cen MT"/>
              </a:rPr>
              <a:t>SİTE MASTER PAG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w Cen MT"/>
              </a:rPr>
              <a:t>ANA SAYFA TASARIMI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VE</a:t>
            </a:r>
            <a:r>
              <a:rPr b="1" lang="tr-TR" sz="1800" spc="-1" strike="noStrike">
                <a:solidFill>
                  <a:srgbClr val="000000"/>
                </a:solidFill>
                <a:latin typeface="Tw Cen MT"/>
              </a:rPr>
              <a:t>Rİ TABANI OLUŞTURM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w Cen MT"/>
              </a:rPr>
              <a:t>WEB.CONFIG AYARLARI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KULLANICI G</a:t>
            </a:r>
            <a:r>
              <a:rPr b="1" lang="tr-TR" sz="1800" spc="-1" strike="noStrike">
                <a:solidFill>
                  <a:srgbClr val="000000"/>
                </a:solidFill>
                <a:latin typeface="Tw Cen MT"/>
              </a:rPr>
              <a:t>İRİŞİ EKRANI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w Cen MT"/>
              </a:rPr>
              <a:t>VERİ BUL EKRANI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w Cen MT"/>
              </a:rPr>
              <a:t>VERİ EKLE EKRANI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w Cen MT"/>
              </a:rPr>
              <a:t>VERİ GÜNCELLEME EKRANI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w Cen MT"/>
              </a:rPr>
              <a:t>VERİ LİSTELEME EKRANI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w Cen MT"/>
              </a:rPr>
              <a:t>VERİ SİL EKRANI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91" name="Picture 3" descr=""/>
          <p:cNvPicPr/>
          <p:nvPr/>
        </p:nvPicPr>
        <p:blipFill>
          <a:blip r:embed="rId1"/>
          <a:stretch/>
        </p:blipFill>
        <p:spPr>
          <a:xfrm>
            <a:off x="6156360" y="1700280"/>
            <a:ext cx="2797200" cy="5041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939" name="Picture 3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 txBox="1"/>
          <p:nvPr/>
        </p:nvSpPr>
        <p:spPr>
          <a:xfrm>
            <a:off x="2626920" y="2781000"/>
            <a:ext cx="424836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100" spc="-1" strike="noStrike">
                <a:solidFill>
                  <a:srgbClr val="000000"/>
                </a:solidFill>
                <a:latin typeface="Tw Cen MT"/>
              </a:rPr>
              <a:t>KEYİFLİ ÇALIŞMALAR...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Tw Cen MT"/>
              </a:rPr>
              <a:t>SİTE MASTER PAG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94" name="Picture 3" descr=""/>
          <p:cNvPicPr/>
          <p:nvPr/>
        </p:nvPicPr>
        <p:blipFill>
          <a:blip r:embed="rId1"/>
          <a:stretch/>
        </p:blipFill>
        <p:spPr>
          <a:xfrm>
            <a:off x="250920" y="2241720"/>
            <a:ext cx="8748720" cy="4289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97" name="Picture 3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355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Tw Cen MT"/>
              </a:rPr>
              <a:t>ANA SAYFA TASARIMI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99" name="Content Placeholder 3" descr=""/>
          <p:cNvPicPr/>
          <p:nvPr/>
        </p:nvPicPr>
        <p:blipFill>
          <a:blip r:embed="rId1"/>
          <a:stretch/>
        </p:blipFill>
        <p:spPr>
          <a:xfrm>
            <a:off x="685800" y="2567160"/>
            <a:ext cx="7772400" cy="3024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VE</a:t>
            </a:r>
            <a:r>
              <a:rPr b="1" lang="tr-TR" sz="3600" spc="-1" strike="noStrike">
                <a:solidFill>
                  <a:srgbClr val="000000"/>
                </a:solidFill>
                <a:latin typeface="Tw Cen MT"/>
              </a:rPr>
              <a:t>Rİ TABANI OLUŞTURMA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901" name="Picture 3" descr=""/>
          <p:cNvPicPr/>
          <p:nvPr/>
        </p:nvPicPr>
        <p:blipFill>
          <a:blip r:embed="rId1"/>
          <a:stretch/>
        </p:blipFill>
        <p:spPr>
          <a:xfrm>
            <a:off x="187200" y="1844640"/>
            <a:ext cx="6139080" cy="2273400"/>
          </a:xfrm>
          <a:prstGeom prst="rect">
            <a:avLst/>
          </a:prstGeom>
          <a:ln w="0">
            <a:noFill/>
          </a:ln>
        </p:spPr>
      </p:pic>
      <p:pic>
        <p:nvPicPr>
          <p:cNvPr id="902" name="Picture 4" descr=""/>
          <p:cNvPicPr/>
          <p:nvPr/>
        </p:nvPicPr>
        <p:blipFill>
          <a:blip r:embed="rId2"/>
          <a:stretch/>
        </p:blipFill>
        <p:spPr>
          <a:xfrm>
            <a:off x="187200" y="4221000"/>
            <a:ext cx="6139080" cy="247032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5" descr=""/>
          <p:cNvPicPr/>
          <p:nvPr/>
        </p:nvPicPr>
        <p:blipFill>
          <a:blip r:embed="rId3"/>
          <a:stretch/>
        </p:blipFill>
        <p:spPr>
          <a:xfrm>
            <a:off x="6443640" y="1827360"/>
            <a:ext cx="2587680" cy="4844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Tw Cen MT"/>
              </a:rPr>
              <a:t>WEB.CONFIG AYARLARI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906" name="Picture 3" descr=""/>
          <p:cNvPicPr/>
          <p:nvPr/>
        </p:nvPicPr>
        <p:blipFill>
          <a:blip r:embed="rId1"/>
          <a:stretch/>
        </p:blipFill>
        <p:spPr>
          <a:xfrm>
            <a:off x="0" y="2813040"/>
            <a:ext cx="9144000" cy="2128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KULLANICI G</a:t>
            </a:r>
            <a:r>
              <a:rPr b="1" lang="tr-TR" sz="3600" spc="-1" strike="noStrike">
                <a:solidFill>
                  <a:srgbClr val="000000"/>
                </a:solidFill>
                <a:latin typeface="Tw Cen MT"/>
              </a:rPr>
              <a:t>İRİŞİ EKRANI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908" name="Picture 4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8861400" cy="194292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6" descr=""/>
          <p:cNvPicPr/>
          <p:nvPr/>
        </p:nvPicPr>
        <p:blipFill>
          <a:blip r:embed="rId2"/>
          <a:stretch/>
        </p:blipFill>
        <p:spPr>
          <a:xfrm>
            <a:off x="2195640" y="3860640"/>
            <a:ext cx="4838400" cy="2967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912" name="Picture 3" descr=""/>
          <p:cNvPicPr/>
          <p:nvPr/>
        </p:nvPicPr>
        <p:blipFill>
          <a:blip r:embed="rId1"/>
          <a:stretch/>
        </p:blipFill>
        <p:spPr>
          <a:xfrm>
            <a:off x="0" y="998640"/>
            <a:ext cx="9144000" cy="4860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20:06:39Z</dcterms:created>
  <dc:creator>Koray</dc:creator>
  <dc:description/>
  <dc:language>en-US</dc:language>
  <cp:lastModifiedBy>Nano</cp:lastModifiedBy>
  <dcterms:modified xsi:type="dcterms:W3CDTF">2017-10-24T20:37:12Z</dcterms:modified>
  <cp:revision>903</cp:revision>
  <dc:subject/>
  <dc:title>T.C SÜLEYMAN DEMİREL ÜNİVERSİTESİ TEKNİK EĞİTİM FAKÜLTESİ  MAKİNE EĞİTİMİ   YÜKSEK LİSANS  BİLİMSEL ARAŞTIRMA VE YAZMA   ARAŞTIRMA TEKNİKLERİ VE RAPOR YAZMA  Prof.Dr. Rauf ARIKAN  HAZIRLAYAN; Koray ÖZSOY  DANIŞMAN; DOÇ.DR.ABDULLAH ÖZSOY  ISPARTA 2005</dc:title>
</cp:coreProperties>
</file>