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B42C-8239-45D1-8E9F-BE780246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8359-7895-46A0-B2F2-5437D473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9CA-ED96-4E56-A990-68446094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6E7F-613B-4402-908B-54F63311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7BF-1B2B-4DE7-92BC-7736D8DD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1CF-12E5-4732-B811-AEAA4F28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716-5283-489A-850B-0402F2FF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DB17-3DA7-4747-97D8-29CA5EF1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9AD-503E-4C39-B5C8-D9003EAF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935C-D433-4125-B340-9D9BE530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5E3-3371-4487-9DA4-1CBA6295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E26E-6E19-478F-AC3F-E667103B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21C8-21E1-4FC7-AC4D-884559B3659D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AC46-DFA6-4648-AB35-6F710A7A7756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占位符 11" descr="图片3"/>
          <p:cNvPicPr/>
          <p:nvPr/>
        </p:nvPicPr>
        <p:blipFill>
          <a:blip r:embed="rId1"/>
          <a:stretch/>
        </p:blipFill>
        <p:spPr>
          <a:xfrm>
            <a:off x="6194520" y="298440"/>
            <a:ext cx="2771640" cy="599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图片占位符 12" descr="图片4"/>
          <p:cNvPicPr/>
          <p:nvPr/>
        </p:nvPicPr>
        <p:blipFill>
          <a:blip r:embed="rId2"/>
          <a:stretch/>
        </p:blipFill>
        <p:spPr>
          <a:xfrm>
            <a:off x="9137520" y="307800"/>
            <a:ext cx="2772000" cy="5978880"/>
          </a:xfrm>
          <a:prstGeom prst="rect">
            <a:avLst/>
          </a:prstGeom>
          <a:ln w="0">
            <a:noFill/>
          </a:ln>
        </p:spPr>
      </p:pic>
      <p:pic>
        <p:nvPicPr>
          <p:cNvPr id="77" name="图片占位符 9" descr="图片1"/>
          <p:cNvPicPr/>
          <p:nvPr/>
        </p:nvPicPr>
        <p:blipFill>
          <a:blip r:embed="rId3"/>
          <a:stretch/>
        </p:blipFill>
        <p:spPr>
          <a:xfrm>
            <a:off x="307800" y="307800"/>
            <a:ext cx="2772000" cy="5978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920" y="6384960"/>
            <a:ext cx="278928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问藏书房"/>
                <a:ea typeface="问藏书房"/>
              </a:rPr>
              <a:t>首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4680" y="6384960"/>
            <a:ext cx="278928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问藏书房"/>
                <a:ea typeface="问藏书房"/>
              </a:rPr>
              <a:t>导航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184800" y="6384960"/>
            <a:ext cx="278928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问藏书房"/>
                <a:ea typeface="问藏书房"/>
              </a:rPr>
              <a:t>所有博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24920" y="6384960"/>
            <a:ext cx="278928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问藏书房"/>
                <a:ea typeface="问藏书房"/>
              </a:rPr>
              <a:t>阅读页面（上部分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图片占位符 15" descr=""/>
          <p:cNvPicPr/>
          <p:nvPr/>
        </p:nvPicPr>
        <p:blipFill>
          <a:blip r:embed="rId4"/>
          <a:stretch/>
        </p:blipFill>
        <p:spPr>
          <a:xfrm>
            <a:off x="3251160" y="298440"/>
            <a:ext cx="2771640" cy="599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占位符 10" descr="图片6"/>
          <p:cNvPicPr/>
          <p:nvPr/>
        </p:nvPicPr>
        <p:blipFill>
          <a:blip r:embed="rId1"/>
          <a:stretch/>
        </p:blipFill>
        <p:spPr>
          <a:xfrm>
            <a:off x="3251160" y="314280"/>
            <a:ext cx="2771640" cy="5965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920" y="6384960"/>
            <a:ext cx="278928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问藏书房"/>
                <a:ea typeface="问藏书房"/>
              </a:rPr>
              <a:t>阅读页面（中部分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4680" y="6384960"/>
            <a:ext cx="278928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问藏书房"/>
                <a:ea typeface="问藏书房"/>
              </a:rPr>
              <a:t>阅读页面（回复评论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184800" y="6384960"/>
            <a:ext cx="278928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问藏书房"/>
                <a:ea typeface="问藏书房"/>
              </a:rPr>
              <a:t>评论页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24920" y="6384960"/>
            <a:ext cx="278928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问藏书房"/>
                <a:ea typeface="问藏书房"/>
              </a:rPr>
              <a:t>搜索页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图片占位符 12" descr=""/>
          <p:cNvPicPr/>
          <p:nvPr/>
        </p:nvPicPr>
        <p:blipFill>
          <a:blip r:embed="rId2"/>
          <a:stretch/>
        </p:blipFill>
        <p:spPr>
          <a:xfrm>
            <a:off x="6194520" y="298440"/>
            <a:ext cx="2771640" cy="599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图片占位符 17" descr=""/>
          <p:cNvPicPr/>
          <p:nvPr/>
        </p:nvPicPr>
        <p:blipFill>
          <a:blip r:embed="rId3"/>
          <a:stretch/>
        </p:blipFill>
        <p:spPr>
          <a:xfrm>
            <a:off x="9137520" y="298440"/>
            <a:ext cx="2772000" cy="599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图片占位符 20" descr=""/>
          <p:cNvPicPr/>
          <p:nvPr/>
        </p:nvPicPr>
        <p:blipFill>
          <a:blip r:embed="rId4"/>
          <a:stretch/>
        </p:blipFill>
        <p:spPr>
          <a:xfrm>
            <a:off x="307800" y="298440"/>
            <a:ext cx="2772000" cy="599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920" y="6384960"/>
            <a:ext cx="278928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问藏书房"/>
                <a:ea typeface="问藏书房"/>
              </a:rPr>
              <a:t>登录页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4680" y="6384960"/>
            <a:ext cx="278928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问藏书房"/>
                <a:ea typeface="问藏书房"/>
              </a:rPr>
              <a:t>注册页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184800" y="6384960"/>
            <a:ext cx="278928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问藏书房"/>
                <a:ea typeface="问藏书房"/>
              </a:rPr>
              <a:t>消息提示页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24920" y="6384960"/>
            <a:ext cx="278928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问藏书房"/>
                <a:ea typeface="问藏书房"/>
              </a:rPr>
              <a:t>博文发表页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占位符 9" descr=""/>
          <p:cNvPicPr/>
          <p:nvPr/>
        </p:nvPicPr>
        <p:blipFill>
          <a:blip r:embed="rId1"/>
          <a:stretch/>
        </p:blipFill>
        <p:spPr>
          <a:xfrm>
            <a:off x="307800" y="298440"/>
            <a:ext cx="2772000" cy="599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图片占位符 10" descr=""/>
          <p:cNvPicPr/>
          <p:nvPr/>
        </p:nvPicPr>
        <p:blipFill>
          <a:blip r:embed="rId2"/>
          <a:stretch/>
        </p:blipFill>
        <p:spPr>
          <a:xfrm>
            <a:off x="3251160" y="298440"/>
            <a:ext cx="2771640" cy="599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图片占位符 11" descr=""/>
          <p:cNvPicPr/>
          <p:nvPr/>
        </p:nvPicPr>
        <p:blipFill>
          <a:blip r:embed="rId3"/>
          <a:stretch/>
        </p:blipFill>
        <p:spPr>
          <a:xfrm>
            <a:off x="6194520" y="298440"/>
            <a:ext cx="2771640" cy="599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图片占位符 12" descr=""/>
          <p:cNvPicPr/>
          <p:nvPr/>
        </p:nvPicPr>
        <p:blipFill>
          <a:blip r:embed="rId4"/>
          <a:stretch/>
        </p:blipFill>
        <p:spPr>
          <a:xfrm>
            <a:off x="9137520" y="298440"/>
            <a:ext cx="2772000" cy="599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6384960"/>
            <a:ext cx="278928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问藏书房"/>
                <a:ea typeface="问藏书房"/>
              </a:rPr>
              <a:t>个人主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4680" y="6384960"/>
            <a:ext cx="278928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问藏书房"/>
                <a:ea typeface="问藏书房"/>
              </a:rPr>
              <a:t>修改资料页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184800" y="6384960"/>
            <a:ext cx="278928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问藏书房"/>
                <a:ea typeface="问藏书房"/>
              </a:rPr>
              <a:t>个人消息页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24920" y="6384960"/>
            <a:ext cx="278928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问藏书房"/>
                <a:ea typeface="问藏书房"/>
              </a:rPr>
              <a:t>修改密码界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图片占位符 10" descr=""/>
          <p:cNvPicPr/>
          <p:nvPr/>
        </p:nvPicPr>
        <p:blipFill>
          <a:blip r:embed="rId1"/>
          <a:stretch/>
        </p:blipFill>
        <p:spPr>
          <a:xfrm>
            <a:off x="307800" y="298440"/>
            <a:ext cx="2772000" cy="599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图片占位符 11" descr=""/>
          <p:cNvPicPr/>
          <p:nvPr/>
        </p:nvPicPr>
        <p:blipFill>
          <a:blip r:embed="rId2"/>
          <a:stretch/>
        </p:blipFill>
        <p:spPr>
          <a:xfrm>
            <a:off x="3251160" y="298440"/>
            <a:ext cx="2771640" cy="599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图片占位符 12" descr=""/>
          <p:cNvPicPr/>
          <p:nvPr/>
        </p:nvPicPr>
        <p:blipFill>
          <a:blip r:embed="rId3"/>
          <a:stretch/>
        </p:blipFill>
        <p:spPr>
          <a:xfrm>
            <a:off x="6194520" y="298440"/>
            <a:ext cx="2771640" cy="599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图片占位符 13" descr=""/>
          <p:cNvPicPr/>
          <p:nvPr/>
        </p:nvPicPr>
        <p:blipFill>
          <a:blip r:embed="rId4"/>
          <a:stretch/>
        </p:blipFill>
        <p:spPr>
          <a:xfrm>
            <a:off x="9137520" y="298440"/>
            <a:ext cx="2772000" cy="599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920" y="6384960"/>
            <a:ext cx="278928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问藏书房"/>
                <a:ea typeface="问藏书房"/>
              </a:rPr>
              <a:t>管理主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4680" y="6384960"/>
            <a:ext cx="278928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问藏书房"/>
                <a:ea typeface="问藏书房"/>
              </a:rPr>
              <a:t>管理用户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84800" y="6384960"/>
            <a:ext cx="278928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问藏书房"/>
                <a:ea typeface="问藏书房"/>
              </a:rPr>
              <a:t>管理文章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24920" y="6384960"/>
            <a:ext cx="278928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问藏书房"/>
                <a:ea typeface="问藏书房"/>
              </a:rPr>
              <a:t>发送消息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图片占位符 9" descr=""/>
          <p:cNvPicPr/>
          <p:nvPr/>
        </p:nvPicPr>
        <p:blipFill>
          <a:blip r:embed="rId1"/>
          <a:stretch/>
        </p:blipFill>
        <p:spPr>
          <a:xfrm>
            <a:off x="307800" y="298440"/>
            <a:ext cx="2772000" cy="599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图片占位符 10" descr=""/>
          <p:cNvPicPr/>
          <p:nvPr/>
        </p:nvPicPr>
        <p:blipFill>
          <a:blip r:embed="rId2"/>
          <a:stretch/>
        </p:blipFill>
        <p:spPr>
          <a:xfrm>
            <a:off x="3251160" y="298440"/>
            <a:ext cx="2771640" cy="599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图片占位符 11" descr=""/>
          <p:cNvPicPr/>
          <p:nvPr/>
        </p:nvPicPr>
        <p:blipFill>
          <a:blip r:embed="rId3"/>
          <a:stretch/>
        </p:blipFill>
        <p:spPr>
          <a:xfrm>
            <a:off x="6194520" y="298440"/>
            <a:ext cx="2771640" cy="599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图片占位符 12" descr=""/>
          <p:cNvPicPr/>
          <p:nvPr/>
        </p:nvPicPr>
        <p:blipFill>
          <a:blip r:embed="rId4"/>
          <a:stretch/>
        </p:blipFill>
        <p:spPr>
          <a:xfrm>
            <a:off x="9137520" y="298440"/>
            <a:ext cx="2772000" cy="599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17T05:23:00Z</dcterms:created>
  <dc:creator/>
  <dc:description/>
  <dc:language>en-US</dc:language>
  <cp:lastModifiedBy>y17mm</cp:lastModifiedBy>
  <dcterms:modified xsi:type="dcterms:W3CDTF">2023-03-17T06:53:06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078D9F7B0B3F4E01878950EE74524270</vt:lpwstr>
  </property>
  <property fmtid="{D5CDD505-2E9C-101B-9397-08002B2CF9AE}" pid="3" name="KSOProductBuildVer">
    <vt:lpwstr>2052-11.1.0.13703</vt:lpwstr>
  </property>
</Properties>
</file>