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7F5-3F5C-4AF9-855D-DFE51A5F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5F8-BB58-417C-9FA0-D5C17699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F45-262F-485D-A79C-86009D56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EC4-5A88-4261-AE99-C489092D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B61-2F4A-4C44-A004-8B93FA38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D0D-0103-4D3D-AF93-F3724574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453-5B4D-434B-BAF9-C35986B7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122-8955-4FA3-86D1-2EF59B94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0B4-4AAE-40BD-846A-E3C7EA79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815-CDB4-4EDD-BE81-19308D62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51C-3911-4827-BA89-F89C4C40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ED5-B73E-40D0-B52D-2B472888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E743-78D3-41CE-B9D5-4DCF0B26EB1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FB4B-E4BD-499D-B8A0-CA96BCC856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244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合肥学院二手物品交易网站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文本框 2"/>
          <p:cNvSpPr/>
          <p:nvPr/>
        </p:nvSpPr>
        <p:spPr>
          <a:xfrm>
            <a:off x="2104920" y="2063880"/>
            <a:ext cx="743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组长：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2040110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解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组员：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20401101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朱雷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1204011016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陈生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120401101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张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1204011032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陈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加入购物车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图片 7" descr="E:\tmp\2\购物车.png购物车"/>
          <p:cNvPicPr/>
          <p:nvPr/>
        </p:nvPicPr>
        <p:blipFill>
          <a:blip r:embed="rId1"/>
          <a:stretch/>
        </p:blipFill>
        <p:spPr>
          <a:xfrm>
            <a:off x="1027080" y="1255680"/>
            <a:ext cx="100425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查看收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图片 7" descr="E:\tmp\2\收藏夹.png收藏夹"/>
          <p:cNvPicPr/>
          <p:nvPr/>
        </p:nvPicPr>
        <p:blipFill>
          <a:blip r:embed="rId1"/>
          <a:stretch/>
        </p:blipFill>
        <p:spPr>
          <a:xfrm>
            <a:off x="1027080" y="1255680"/>
            <a:ext cx="100425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收到被购买提醒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图片 7" descr="E:\tmp\2\被购买提示消息.png被购买提示消息"/>
          <p:cNvPicPr/>
          <p:nvPr/>
        </p:nvPicPr>
        <p:blipFill>
          <a:blip r:embed="rId1"/>
          <a:stretch/>
        </p:blipFill>
        <p:spPr>
          <a:xfrm>
            <a:off x="1019160" y="1255680"/>
            <a:ext cx="10058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别人的个人信息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资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图片 7" descr="E:\tmp\2\别人的-个人信息.png别人的-个人信息"/>
          <p:cNvPicPr/>
          <p:nvPr/>
        </p:nvPicPr>
        <p:blipFill>
          <a:blip r:embed="rId1"/>
          <a:stretch/>
        </p:blipFill>
        <p:spPr>
          <a:xfrm>
            <a:off x="1019160" y="1566720"/>
            <a:ext cx="10058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别人的个人信息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发布历史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图片 7" descr="E:\tmp\2\别人的-商品发布.png别人的-商品发布"/>
          <p:cNvPicPr/>
          <p:nvPr/>
        </p:nvPicPr>
        <p:blipFill>
          <a:blip r:embed="rId1"/>
          <a:stretch/>
        </p:blipFill>
        <p:spPr>
          <a:xfrm>
            <a:off x="1019160" y="1255680"/>
            <a:ext cx="10058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自己的个人信息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资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图片 7" descr="E:\tmp\2\自己-个人信息.png自己-个人信息"/>
          <p:cNvPicPr/>
          <p:nvPr/>
        </p:nvPicPr>
        <p:blipFill>
          <a:blip r:embed="rId1"/>
          <a:stretch/>
        </p:blipFill>
        <p:spPr>
          <a:xfrm>
            <a:off x="1027080" y="1535040"/>
            <a:ext cx="100425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8040" y="2460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放映结束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7027920" y="430200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首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图片 7" descr="首页"/>
          <p:cNvPicPr/>
          <p:nvPr/>
        </p:nvPicPr>
        <p:blipFill>
          <a:blip r:embed="rId1"/>
          <a:stretch/>
        </p:blipFill>
        <p:spPr>
          <a:xfrm>
            <a:off x="1019160" y="1255680"/>
            <a:ext cx="10058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搜索结果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图片 7" descr="E:\tmp\2\搜索结果.png搜索结果"/>
          <p:cNvPicPr/>
          <p:nvPr/>
        </p:nvPicPr>
        <p:blipFill>
          <a:blip r:embed="rId1"/>
          <a:stretch/>
        </p:blipFill>
        <p:spPr>
          <a:xfrm>
            <a:off x="1019160" y="1566720"/>
            <a:ext cx="10058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注册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图片 7" descr="E:\tmp\2\注册.png注册"/>
          <p:cNvPicPr/>
          <p:nvPr/>
        </p:nvPicPr>
        <p:blipFill>
          <a:blip r:embed="rId1"/>
          <a:stretch/>
        </p:blipFill>
        <p:spPr>
          <a:xfrm>
            <a:off x="1019160" y="1292400"/>
            <a:ext cx="100584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登录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图片 7" descr="E:\tmp\2\登录.png登录"/>
          <p:cNvPicPr/>
          <p:nvPr/>
        </p:nvPicPr>
        <p:blipFill>
          <a:blip r:embed="rId1"/>
          <a:stretch/>
        </p:blipFill>
        <p:spPr>
          <a:xfrm>
            <a:off x="1019160" y="1292400"/>
            <a:ext cx="100584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发布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图片 7" descr="E:\tmp\2\发布.png发布"/>
          <p:cNvPicPr/>
          <p:nvPr/>
        </p:nvPicPr>
        <p:blipFill>
          <a:blip r:embed="rId1"/>
          <a:stretch/>
        </p:blipFill>
        <p:spPr>
          <a:xfrm>
            <a:off x="1722600" y="1255680"/>
            <a:ext cx="865188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审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图片 7" descr="E:\tmp\2\审核.png审核"/>
          <p:cNvPicPr/>
          <p:nvPr/>
        </p:nvPicPr>
        <p:blipFill>
          <a:blip r:embed="rId1"/>
          <a:stretch/>
        </p:blipFill>
        <p:spPr>
          <a:xfrm>
            <a:off x="1027080" y="1255680"/>
            <a:ext cx="100425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审核通过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- 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收到提醒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图片 7" descr="E:\tmp\2\审核 - 消息.png审核 - 消息"/>
          <p:cNvPicPr/>
          <p:nvPr/>
        </p:nvPicPr>
        <p:blipFill>
          <a:blip r:embed="rId1"/>
          <a:stretch/>
        </p:blipFill>
        <p:spPr>
          <a:xfrm>
            <a:off x="1027080" y="1255680"/>
            <a:ext cx="100425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3660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物品详情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图片 7" descr="E:\tmp\2\物品详情.png物品详情"/>
          <p:cNvPicPr/>
          <p:nvPr/>
        </p:nvPicPr>
        <p:blipFill>
          <a:blip r:embed="rId1"/>
          <a:stretch/>
        </p:blipFill>
        <p:spPr>
          <a:xfrm>
            <a:off x="1019160" y="1255680"/>
            <a:ext cx="10058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1:27:16Z</dcterms:created>
  <dc:creator>Administrator</dc:creator>
  <dc:description/>
  <dc:language>en-US</dc:language>
  <cp:lastModifiedBy>Administrator</cp:lastModifiedBy>
  <dcterms:modified xsi:type="dcterms:W3CDTF">2015-12-27T12:41:10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