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0869-587B-4BFF-BA51-79A8D511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EE81-8256-4E7F-9A1F-C8E89C5F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D207-A92D-4BEC-A227-05881434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A101-1C3E-459B-901B-800AE532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D958-DE64-41A7-9F4E-10589E4D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22D8-D0F8-4AFD-8650-4C9349D4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5EA1-5CF8-4E7B-ACD2-4AE3FE94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830F-7B92-448E-B6B2-8EBB3D0B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09E5-1559-4FD6-BF47-82979324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1043-1FAC-4160-BE09-EEAE1FD4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57AB-F318-44FF-A966-E0027F37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936B-B553-4525-AE5E-1B914EB9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4EB8-DC96-4BEA-B072-E0B0068F9329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ey Norconex, this is a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1T13:52:08Z</dcterms:created>
  <dc:creator>brissonp</dc:creator>
  <dc:description/>
  <dc:language>en-US</dc:language>
  <cp:lastModifiedBy>Pascal Essiembre</cp:lastModifiedBy>
  <dcterms:modified xsi:type="dcterms:W3CDTF">2015-03-12T20:58:35Z</dcterms:modified>
  <cp:revision>3</cp:revision>
  <dc:subject/>
  <dc:title>TEST</dc:title>
</cp:coreProperties>
</file>